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EDE-6BE7-4F16-8BF5-88C18829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298-C463-44B2-AC1E-295E1A57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78F-077B-45DF-A465-2E390EE2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2E6-20B7-4014-A5DE-0E014EEA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8F5-48F1-4DEB-B62E-F764AE9E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4C4-C7BA-4129-AAC3-6A91CCD5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6F5-A0F4-4C30-B1B7-6E5522E7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B00-CA07-431D-B3AA-BC6F77DB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D06-7583-4C82-940D-35544896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10A-F091-4CE7-9345-F50B7DA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28F-08E7-4A24-8D50-7E35424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300-1309-442C-A966-83E4CDC1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E57D-328D-486E-95B9-797257B37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-DE 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5200" y="1447920"/>
            <a:ext cx="8633880" cy="5016240"/>
            <a:chOff x="385200" y="1447920"/>
            <a:chExt cx="8633880" cy="5016240"/>
          </a:xfrm>
        </p:grpSpPr>
        <p:sp>
          <p:nvSpPr>
            <p:cNvPr id="43" name=""/>
            <p:cNvSpPr/>
            <p:nvPr/>
          </p:nvSpPr>
          <p:spPr>
            <a:xfrm>
              <a:off x="43434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200" y="4724280"/>
              <a:ext cx="17535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rom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58440" y="1981080"/>
              <a:ext cx="5634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8120" y="2209680"/>
              <a:ext cx="8161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n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4572000"/>
              <a:ext cx="3200400" cy="642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urr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55000" y="4572000"/>
              <a:ext cx="8665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ubl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7520" y="3886200"/>
              <a:ext cx="1357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w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1200" y="5562720"/>
              <a:ext cx="1421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n 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0600" y="28195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2520" y="2209680"/>
              <a:ext cx="6094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2362320"/>
              <a:ext cx="3808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06360" y="4572000"/>
              <a:ext cx="15127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66880" y="6095880"/>
              <a:ext cx="320040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d Domain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3720" y="411480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9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2133360" y="57913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33720" y="502920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67280" y="4800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866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657600" y="23623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114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88620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886200" y="23619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24280" y="41148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88620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91800" y="1447920"/>
              <a:ext cx="75384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di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9280" y="5486400"/>
              <a:ext cx="1688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ve or Save 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91120" y="5181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1120" y="586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962520" y="1752120"/>
              <a:ext cx="1523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raft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38680" y="4114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373392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522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1:01:04Z</dcterms:created>
  <dc:creator>AIAI</dc:creator>
  <dc:description/>
  <dc:language>en-US</dc:language>
  <cp:lastModifiedBy>AIAI</cp:lastModifiedBy>
  <dcterms:modified xsi:type="dcterms:W3CDTF">2002-03-22T11:16:23Z</dcterms:modified>
  <cp:revision>2</cp:revision>
  <dc:subject/>
  <dc:title>I-DE Workflow</dc:title>
</cp:coreProperties>
</file>