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8B4-30A0-4A14-8796-4D6DA15C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CF4-C1C4-4BF5-BB6D-787B0758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A16-AA3F-48DD-B149-02731957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AD4-9AAE-4457-A562-0E641F3F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4E4-A4ED-4497-8A34-FD776340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D74-EABA-4403-AF97-F17E9607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AAC-0F98-43CD-A014-BB52D2A8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E184-ABBB-4343-B19F-8F51D611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180-0133-4CDA-9011-3BAD77E1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9EF-AE8E-4425-AD33-5D78A206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3404-6231-44A3-AF53-B7DFDD92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FBD4-B7F1-459B-BA36-DF6961EF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79EC-4FE4-47C1-9A50-A41257FD6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-DE Wor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5200" y="1447920"/>
            <a:ext cx="8633880" cy="5016240"/>
            <a:chOff x="385200" y="1447920"/>
            <a:chExt cx="8633880" cy="5016240"/>
          </a:xfrm>
        </p:grpSpPr>
        <p:sp>
          <p:nvSpPr>
            <p:cNvPr id="43" name=""/>
            <p:cNvSpPr/>
            <p:nvPr/>
          </p:nvSpPr>
          <p:spPr>
            <a:xfrm>
              <a:off x="434340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5200" y="4724280"/>
              <a:ext cx="17535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rom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358440" y="1981080"/>
              <a:ext cx="563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8120" y="2209680"/>
              <a:ext cx="8161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n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66880" y="4572000"/>
              <a:ext cx="3200400" cy="642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55000" y="4572000"/>
              <a:ext cx="8665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ubl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7520" y="3886200"/>
              <a:ext cx="13572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w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1200" y="5562720"/>
              <a:ext cx="1421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n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28195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2520" y="22096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62520" y="2362320"/>
              <a:ext cx="380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06360" y="4572000"/>
              <a:ext cx="15127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66880" y="6095880"/>
              <a:ext cx="320040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d Domain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33720" y="411480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95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2133360" y="579132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133720" y="502920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67280" y="4800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86600" y="4800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657600" y="23623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88620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886200" y="23619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41148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33920" y="38862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91800" y="1447920"/>
              <a:ext cx="7538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29280" y="5486400"/>
              <a:ext cx="1688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 or Save 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91120" y="5181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91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962520" y="175212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1008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1500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38680" y="411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4480" y="373392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522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1:01:04Z</dcterms:created>
  <dc:creator>AIAI</dc:creator>
  <dc:description/>
  <dc:language>en-US</dc:language>
  <cp:lastModifiedBy>AIAI</cp:lastModifiedBy>
  <dcterms:modified xsi:type="dcterms:W3CDTF">2002-03-22T11:16:23Z</dcterms:modified>
  <cp:revision>2</cp:revision>
  <dc:subject/>
  <dc:title>I-DE Workflow</dc:title>
</cp:coreProperties>
</file>