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298-9F91-4611-85AE-5633BC3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E9D-FB2C-47B0-AC88-DAD8C3A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702-460A-41C0-861C-780729DC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1A0-E8D4-49B5-9757-F2B16A4B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466-4002-4E1A-A21D-3F015C9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91F-D3FF-49BC-BE46-2EB5D32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BD0-66ED-4247-B181-FC59D9ED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1A4-B0B7-4DF6-8B81-5350EFA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424-B84E-4550-B484-32053D1D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DD8-BC8B-40F8-AFA9-8B05C96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13E-FE1F-4EF7-932D-91CD5E0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22B-E2E9-40C0-8631-C0B62DC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18A-536A-409F-8804-7432AF89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43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44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53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54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2200" y="393372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37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2560" y="537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213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74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75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88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98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2200" y="321300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933720"/>
            <a:ext cx="143964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2200" y="393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393372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119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120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3:47:11Z</dcterms:created>
  <dc:creator> AIAI</dc:creator>
  <dc:description/>
  <dc:language>en-US</dc:language>
  <cp:lastModifiedBy> AIAI</cp:lastModifiedBy>
  <dcterms:modified xsi:type="dcterms:W3CDTF">2008-08-07T16:34:59Z</dcterms:modified>
  <cp:revision>4</cp:revision>
  <dc:subject/>
  <dc:title>Slide 1</dc:title>
</cp:coreProperties>
</file>