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302488" cy="32043688"/>
  <p:notesSz cx="5803900" cy="8280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265120" y="1720512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315664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04988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83500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6512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604988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2983500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265120" y="7498080"/>
            <a:ext cx="4077180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4077180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265120" y="1278360"/>
            <a:ext cx="40771800" cy="248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315664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6932520" y="6880320"/>
            <a:ext cx="4680" cy="1584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7"/>
                </a:lnTo>
                <a:lnTo>
                  <a:pt x="1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13238280" y="6889680"/>
            <a:ext cx="4680" cy="14400"/>
          </a:xfrm>
          <a:custGeom>
            <a:avLst/>
            <a:gdLst/>
            <a:ahLst/>
            <a:rect l="l" t="t" r="r" b="b"/>
            <a:pathLst>
              <a:path w="1" h="7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3554000" y="6783480"/>
            <a:ext cx="7920" cy="15840"/>
          </a:xfrm>
          <a:custGeom>
            <a:avLst/>
            <a:gdLst/>
            <a:ahLst/>
            <a:rect l="l" t="t" r="r" b="b"/>
            <a:pathLst>
              <a:path w="1" h="7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573280" y="10323360"/>
            <a:ext cx="19548360" cy="1466388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23072760" y="10242720"/>
            <a:ext cx="20907360" cy="161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The Coalition Search and Rescue Task Support (CoSAR-TS) demo showcases intelligent agents and AI planning systems working over a computational grid in which different policies govern who can do what. The agents use semantic web services to dynamically discover medical information and to find local rescue resources</a:t>
            </a:r>
            <a:r>
              <a:rPr b="0" lang="en-GB" sz="9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17:15:34Z</dcterms:created>
  <dc:creator>Austin Tate</dc:creator>
  <dc:description/>
  <dc:language>en-US</dc:language>
  <cp:lastModifiedBy>Andrzej Uszok</cp:lastModifiedBy>
  <cp:lastPrinted>1999-10-18T12:56:19Z</cp:lastPrinted>
  <dcterms:modified xsi:type="dcterms:W3CDTF">2004-06-28T16:08:37Z</dcterms:modified>
  <cp:revision>127</cp:revision>
  <dc:subject>I-P2 - Intelligent Process Panels</dc:subject>
  <dc:title>I-P2 - Intelligent Process Pane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0227701</vt:r8>
  </property>
  <property fmtid="{D5CDD505-2E9C-101B-9397-08002B2CF9AE}" pid="3" name="_AuthorEmail">
    <vt:lpwstr>auszok@ihmc.us</vt:lpwstr>
  </property>
  <property fmtid="{D5CDD505-2E9C-101B-9397-08002B2CF9AE}" pid="4" name="_AuthorEmailDisplayName">
    <vt:lpwstr>Andrzej Uszok</vt:lpwstr>
  </property>
  <property fmtid="{D5CDD505-2E9C-101B-9397-08002B2CF9AE}" pid="5" name="_EmailSubject">
    <vt:lpwstr>AAAI-04 Intelligent Systems Demo Information</vt:lpwstr>
  </property>
</Properties>
</file>