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02488" cy="32043688"/>
  <p:notesSz cx="5803900" cy="828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04988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83500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6512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04988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83500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5120" y="1278360"/>
            <a:ext cx="4077180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1630760" y="28030320"/>
            <a:ext cx="2698560" cy="2692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7222200" y="28406880"/>
            <a:ext cx="4311720" cy="1939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12800" y="28251000"/>
            <a:ext cx="4260960" cy="265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5778360" y="28474920"/>
            <a:ext cx="3703680" cy="18036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35168040" y="28068480"/>
            <a:ext cx="2058840" cy="2617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71560" y="27586080"/>
            <a:ext cx="437259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32520" y="6880320"/>
            <a:ext cx="468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238280" y="6889680"/>
            <a:ext cx="4680" cy="1440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0" y="6783480"/>
            <a:ext cx="792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82360" y="28866960"/>
            <a:ext cx="213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</a:rPr>
              <a:t>http://www.aiai.ed.ac.uk/project/cosar-ts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7:15:34Z</dcterms:created>
  <dc:creator>Austin Tate</dc:creator>
  <dc:description/>
  <dc:language>en-US</dc:language>
  <cp:lastModifiedBy>Andrzej Uszok</cp:lastModifiedBy>
  <cp:lastPrinted>1999-10-18T12:56:19Z</cp:lastPrinted>
  <dcterms:modified xsi:type="dcterms:W3CDTF">2004-06-28T15:18:26Z</dcterms:modified>
  <cp:revision>127</cp:revision>
  <dc:subject>I-P2 - Intelligent Process Panels</dc:subject>
  <dc:title>I-P2 - Intelligent Process Panels</dc:title>
</cp:coreProperties>
</file>