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5803900" cy="828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1630760" y="28030320"/>
            <a:ext cx="2698560" cy="2692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7222200" y="28406880"/>
            <a:ext cx="4311720" cy="1939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12800" y="28251000"/>
            <a:ext cx="4260960" cy="265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5778360" y="28474920"/>
            <a:ext cx="3703680" cy="18036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35168040" y="28068480"/>
            <a:ext cx="2058840" cy="2617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41949720" y="23194800"/>
            <a:ext cx="2698560" cy="2692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37541160" y="23571360"/>
            <a:ext cx="4311720" cy="1939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1031760" y="23415480"/>
            <a:ext cx="4260960" cy="2659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6097680" y="23639400"/>
            <a:ext cx="3703680" cy="18036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35487000" y="23232960"/>
            <a:ext cx="2058840" cy="261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32520" y="6880320"/>
            <a:ext cx="468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38280" y="6889680"/>
            <a:ext cx="4680" cy="144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54000" y="6783480"/>
            <a:ext cx="792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82360" y="28866960"/>
            <a:ext cx="213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http://www.aiai.ed.ac.uk/project/cosar-ts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630760" y="28030320"/>
            <a:ext cx="2698560" cy="269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222200" y="28406880"/>
            <a:ext cx="4311720" cy="193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12800" y="28251000"/>
            <a:ext cx="4260960" cy="26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78360" y="28474920"/>
            <a:ext cx="3703680" cy="180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5168040" y="28068480"/>
            <a:ext cx="2058840" cy="2617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34640" y="24115680"/>
            <a:ext cx="213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http://www.aiai.ed.ac.uk/project/cosar-ts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5:19:55Z</dcterms:modified>
  <cp:revision>128</cp:revision>
  <dc:subject>I-P2 - Intelligent Process Panels</dc:subject>
  <dc:title>I-P2 - Intelligent Process Panels</dc:title>
</cp:coreProperties>
</file>