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5302488" cy="32043688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65120" y="1278360"/>
            <a:ext cx="40771800" cy="53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22600"/>
                <a:tab algn="l" pos="88455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65120" y="7498080"/>
            <a:ext cx="4077180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265120" y="17205120"/>
            <a:ext cx="4077180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65120" y="1278360"/>
            <a:ext cx="40771800" cy="53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22600"/>
                <a:tab algn="l" pos="88455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65120" y="7498080"/>
            <a:ext cx="1989648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3156640" y="7498080"/>
            <a:ext cx="1989648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65120" y="17205120"/>
            <a:ext cx="1989648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23156640" y="17205120"/>
            <a:ext cx="1989648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5120" y="1278360"/>
            <a:ext cx="40771800" cy="53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22600"/>
                <a:tab algn="l" pos="88455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65120" y="7498080"/>
            <a:ext cx="1312812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049880" y="7498080"/>
            <a:ext cx="1312812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9835000" y="7498080"/>
            <a:ext cx="1312812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2265120" y="17205120"/>
            <a:ext cx="1312812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16049880" y="17205120"/>
            <a:ext cx="1312812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29835000" y="17205120"/>
            <a:ext cx="1312812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65120" y="1278360"/>
            <a:ext cx="40771800" cy="53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22600"/>
                <a:tab algn="l" pos="88455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2265120" y="7498080"/>
            <a:ext cx="40771800" cy="185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849"/>
              </a:spcBef>
              <a:buNone/>
              <a:tabLst>
                <a:tab algn="l" pos="0"/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65120" y="1278360"/>
            <a:ext cx="40771800" cy="53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22600"/>
                <a:tab algn="l" pos="88455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2265120" y="7498080"/>
            <a:ext cx="40771800" cy="185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65120" y="1278360"/>
            <a:ext cx="40771800" cy="53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22600"/>
                <a:tab algn="l" pos="88455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65120" y="7498080"/>
            <a:ext cx="19896480" cy="185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23156640" y="7498080"/>
            <a:ext cx="19896480" cy="185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5120" y="1278360"/>
            <a:ext cx="40771800" cy="53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22600"/>
                <a:tab algn="l" pos="88455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2265120" y="1278360"/>
            <a:ext cx="40771800" cy="2480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849"/>
              </a:spcBef>
              <a:tabLst>
                <a:tab algn="l" pos="0"/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5120" y="1278360"/>
            <a:ext cx="40771800" cy="53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22600"/>
                <a:tab algn="l" pos="88455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65120" y="7498080"/>
            <a:ext cx="1989648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23156640" y="7498080"/>
            <a:ext cx="19896480" cy="185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2265120" y="17205120"/>
            <a:ext cx="1989648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65120" y="1278360"/>
            <a:ext cx="40771800" cy="53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22600"/>
                <a:tab algn="l" pos="88455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65120" y="7498080"/>
            <a:ext cx="19896480" cy="185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3156640" y="7498080"/>
            <a:ext cx="1989648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3156640" y="17205120"/>
            <a:ext cx="1989648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65120" y="1278360"/>
            <a:ext cx="40771800" cy="53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22600"/>
                <a:tab algn="l" pos="88455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65120" y="7498080"/>
            <a:ext cx="1989648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3156640" y="7498080"/>
            <a:ext cx="1989648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65120" y="17205120"/>
            <a:ext cx="4077180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0320" y="4732200"/>
            <a:ext cx="43726320" cy="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6932520" y="6878520"/>
            <a:ext cx="6480" cy="17640"/>
          </a:xfrm>
          <a:custGeom>
            <a:avLst/>
            <a:gdLst/>
            <a:ahLst/>
            <a:rect l="l" t="t" r="r" b="b"/>
            <a:pathLst>
              <a:path w="1" h="7">
                <a:moveTo>
                  <a:pt x="0" y="0"/>
                </a:moveTo>
                <a:lnTo>
                  <a:pt x="0" y="7"/>
                </a:lnTo>
                <a:lnTo>
                  <a:pt x="1" y="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13239720" y="6888240"/>
            <a:ext cx="3240" cy="17280"/>
          </a:xfrm>
          <a:custGeom>
            <a:avLst/>
            <a:gdLst/>
            <a:ahLst/>
            <a:rect l="l" t="t" r="r" b="b"/>
            <a:pathLst>
              <a:path w="1" h="7">
                <a:moveTo>
                  <a:pt x="1" y="0"/>
                </a:moveTo>
                <a:lnTo>
                  <a:pt x="0" y="7"/>
                </a:lnTo>
                <a:lnTo>
                  <a:pt x="1" y="7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13554000" y="6784920"/>
            <a:ext cx="7920" cy="12600"/>
          </a:xfrm>
          <a:custGeom>
            <a:avLst/>
            <a:gdLst/>
            <a:ahLst/>
            <a:rect l="l" t="t" r="r" b="b"/>
            <a:pathLst>
              <a:path w="1" h="7">
                <a:moveTo>
                  <a:pt x="1" y="0"/>
                </a:moveTo>
                <a:lnTo>
                  <a:pt x="0" y="7"/>
                </a:lnTo>
                <a:lnTo>
                  <a:pt x="1" y="7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919080" y="746280"/>
            <a:ext cx="44381880" cy="35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5840" rIns="195840" tIns="97920" bIns="9792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957320"/>
                <a:tab algn="l" pos="3914640"/>
                <a:tab algn="l" pos="5872320"/>
                <a:tab algn="l" pos="7829640"/>
                <a:tab algn="l" pos="9786960"/>
              </a:tabLst>
            </a:pPr>
            <a:r>
              <a:rPr b="1" lang="en-GB" sz="12000" spc="-1" strike="noStrike">
                <a:solidFill>
                  <a:srgbClr val="003366"/>
                </a:solidFill>
                <a:latin typeface="Arial Black"/>
              </a:rPr>
              <a:t>Intelligent Agents for Coalition Search and Rescue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1957320"/>
                <a:tab algn="l" pos="3914640"/>
                <a:tab algn="l" pos="5872320"/>
                <a:tab algn="l" pos="7829640"/>
                <a:tab algn="l" pos="97869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1957320"/>
                <a:tab algn="l" pos="3914640"/>
                <a:tab algn="l" pos="5872320"/>
                <a:tab algn="l" pos="7829640"/>
                <a:tab algn="l" pos="978696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Arial Black"/>
              </a:rPr>
              <a:t>A. Tate, J. Dalton, C. Siebra &amp; S. Aitken – AIAI, Edinburg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1957320"/>
                <a:tab algn="l" pos="3914640"/>
                <a:tab algn="l" pos="5872320"/>
                <a:tab algn="l" pos="7829640"/>
                <a:tab algn="l" pos="978696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Arial Black"/>
              </a:rPr>
              <a:t>J. Bradshaw &amp; A. Uszok – IHMC, Pensacola, Florid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936720" y="4822920"/>
            <a:ext cx="14438160" cy="111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5840" rIns="195840" tIns="97920" bIns="97920" anchor="t">
            <a:spAutoFit/>
          </a:bodyPr>
          <a:p>
            <a:pPr marL="490680" indent="-490680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490680"/>
                <a:tab algn="l" pos="1957320"/>
                <a:tab algn="l" pos="3914640"/>
                <a:tab algn="l" pos="5872320"/>
                <a:tab algn="l" pos="7829640"/>
                <a:tab algn="l" pos="9786960"/>
              </a:tabLst>
            </a:pPr>
            <a:r>
              <a:rPr b="1" i="1" lang="en-US" sz="7200" spc="-1" strike="noStrike">
                <a:solidFill>
                  <a:srgbClr val="003366"/>
                </a:solidFill>
                <a:latin typeface="Arial Narrow"/>
              </a:rPr>
              <a:t>Descripti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-490680">
              <a:lnSpc>
                <a:spcPct val="89000"/>
              </a:lnSpc>
              <a:spcBef>
                <a:spcPts val="18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490680"/>
                <a:tab algn="l" pos="1957320"/>
                <a:tab algn="l" pos="3914640"/>
                <a:tab algn="l" pos="5872320"/>
                <a:tab algn="l" pos="7829640"/>
                <a:tab algn="l" pos="978696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 Rounded MT Bold"/>
              </a:rPr>
              <a:t>To study and develop a demonstrator for Task Support in a realistic Coalition Search and Rescue scenari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-490680">
              <a:lnSpc>
                <a:spcPct val="89000"/>
              </a:lnSpc>
              <a:spcBef>
                <a:spcPts val="18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490680"/>
                <a:tab algn="l" pos="1957320"/>
                <a:tab algn="l" pos="3914640"/>
                <a:tab algn="l" pos="5872320"/>
                <a:tab algn="l" pos="7829640"/>
                <a:tab algn="l" pos="978696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 Rounded MT Bold"/>
              </a:rPr>
              <a:t>To show the value of linking research at AIAI work on I-X Task Support with IHMC work on KAoS Agent Policy and Domain Services - to </a:t>
            </a:r>
            <a:r>
              <a:rPr b="1" lang="en-US" sz="4800" spc="-1" strike="noStrike">
                <a:solidFill>
                  <a:srgbClr val="000000"/>
                </a:solidFill>
                <a:latin typeface="Arial Rounded MT Bold"/>
              </a:rPr>
              <a:t>develop the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 Rounded MT Bold"/>
              </a:rPr>
              <a:t>I-K-C</a:t>
            </a:r>
            <a:r>
              <a:rPr b="1" lang="en-US" sz="4800" spc="-1" strike="noStrike">
                <a:solidFill>
                  <a:srgbClr val="000000"/>
                </a:solidFill>
                <a:latin typeface="Arial Rounded MT Bold"/>
              </a:rPr>
              <a:t> tool - Workflow Planer utilizing Policy feedbac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-490680">
              <a:lnSpc>
                <a:spcPct val="89000"/>
              </a:lnSpc>
              <a:spcBef>
                <a:spcPts val="18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490680"/>
                <a:tab algn="l" pos="1957320"/>
                <a:tab algn="l" pos="3914640"/>
                <a:tab algn="l" pos="5872320"/>
                <a:tab algn="l" pos="7829640"/>
                <a:tab algn="l" pos="978696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 Rounded MT Bold"/>
              </a:rPr>
              <a:t>OWL descriptions of country infrastructu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-490680">
              <a:lnSpc>
                <a:spcPct val="89000"/>
              </a:lnSpc>
              <a:spcBef>
                <a:spcPts val="18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490680"/>
                <a:tab algn="l" pos="1957320"/>
                <a:tab algn="l" pos="3914640"/>
                <a:tab algn="l" pos="5872320"/>
                <a:tab algn="l" pos="7829640"/>
                <a:tab algn="l" pos="978696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 Rounded MT Bold"/>
              </a:rPr>
              <a:t>OWL-S descriptions of agents and servic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-490680">
              <a:lnSpc>
                <a:spcPct val="89000"/>
              </a:lnSpc>
              <a:spcBef>
                <a:spcPts val="18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490680"/>
                <a:tab algn="l" pos="1957320"/>
                <a:tab algn="l" pos="3914640"/>
                <a:tab algn="l" pos="5872320"/>
                <a:tab algn="l" pos="7829640"/>
                <a:tab algn="l" pos="978696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 Rounded MT Bold"/>
              </a:rPr>
              <a:t>Feedback to the OWL-S development community are being provid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-490680">
              <a:lnSpc>
                <a:spcPct val="89000"/>
              </a:lnSpc>
              <a:spcBef>
                <a:spcPts val="18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490680"/>
                <a:tab algn="l" pos="1957320"/>
                <a:tab algn="l" pos="3914640"/>
                <a:tab algn="l" pos="5872320"/>
                <a:tab algn="l" pos="7829640"/>
                <a:tab algn="l" pos="978696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 Rounded MT Bold"/>
              </a:rPr>
              <a:t>Input to standards efforts via W3C SWS-I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872000" y="4846680"/>
            <a:ext cx="16428960" cy="1265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5840" rIns="195840" tIns="97920" bIns="97920" anchor="t">
            <a:spAutoFit/>
          </a:bodyPr>
          <a:p>
            <a:pPr marL="490680" indent="-490680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490680"/>
                <a:tab algn="l" pos="1957320"/>
                <a:tab algn="l" pos="3914640"/>
                <a:tab algn="l" pos="5872320"/>
                <a:tab algn="l" pos="7829640"/>
                <a:tab algn="l" pos="9786960"/>
              </a:tabLst>
            </a:pPr>
            <a:r>
              <a:rPr b="1" i="1" lang="en-US" sz="7200" spc="-1" strike="noStrike">
                <a:solidFill>
                  <a:srgbClr val="003366"/>
                </a:solidFill>
                <a:latin typeface="Arial Narrow"/>
              </a:rPr>
              <a:t>Result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-490680">
              <a:lnSpc>
                <a:spcPct val="89000"/>
              </a:lnSpc>
              <a:spcBef>
                <a:spcPts val="18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490680"/>
                <a:tab algn="l" pos="1957320"/>
                <a:tab algn="l" pos="3914640"/>
                <a:tab algn="l" pos="5872320"/>
                <a:tab algn="l" pos="7829640"/>
                <a:tab algn="l" pos="978696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 Rounded MT Bold"/>
              </a:rPr>
              <a:t>Direct OWL file processing from I-X of BBN SONAT ENP database via HP Jena Toolki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-490680">
              <a:lnSpc>
                <a:spcPct val="89000"/>
              </a:lnSpc>
              <a:spcBef>
                <a:spcPts val="18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490680"/>
                <a:tab algn="l" pos="1957320"/>
                <a:tab algn="l" pos="3914640"/>
                <a:tab algn="l" pos="5872320"/>
                <a:tab algn="l" pos="7829640"/>
                <a:tab algn="l" pos="978696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 Rounded MT Bold"/>
              </a:rPr>
              <a:t>SOAP access to SAR Resources described in OWL-S from KAoS and I-X via CMU Matchmak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-490680">
              <a:lnSpc>
                <a:spcPct val="89000"/>
              </a:lnSpc>
              <a:spcBef>
                <a:spcPts val="18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490680"/>
                <a:tab algn="l" pos="1957320"/>
                <a:tab algn="l" pos="3914640"/>
                <a:tab algn="l" pos="5872320"/>
                <a:tab algn="l" pos="7829640"/>
                <a:tab algn="l" pos="978696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 Rounded MT Bold"/>
              </a:rPr>
              <a:t>Integration with CMU Intelligent Notification Agen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-490680">
              <a:lnSpc>
                <a:spcPct val="89000"/>
              </a:lnSpc>
              <a:spcBef>
                <a:spcPts val="18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490680"/>
                <a:tab algn="l" pos="1957320"/>
                <a:tab algn="l" pos="3914640"/>
                <a:tab algn="l" pos="5872320"/>
                <a:tab algn="l" pos="7829640"/>
                <a:tab algn="l" pos="978696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 Rounded MT Bold"/>
              </a:rPr>
              <a:t>Declarative representation and reasoning about all KAoS policy and domain information in OW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-490680">
              <a:lnSpc>
                <a:spcPct val="89000"/>
              </a:lnSpc>
              <a:spcBef>
                <a:spcPts val="18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490680"/>
                <a:tab algn="l" pos="1957320"/>
                <a:tab algn="l" pos="3914640"/>
                <a:tab algn="l" pos="5872320"/>
                <a:tab algn="l" pos="7829640"/>
                <a:tab algn="l" pos="978696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 Rounded MT Bold"/>
              </a:rPr>
              <a:t>Complexities of coalition organization represented in KAoS domai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-490680">
              <a:lnSpc>
                <a:spcPct val="89000"/>
              </a:lnSpc>
              <a:spcBef>
                <a:spcPts val="18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490680"/>
                <a:tab algn="l" pos="1957320"/>
                <a:tab algn="l" pos="3914640"/>
                <a:tab algn="l" pos="5872320"/>
                <a:tab algn="l" pos="7829640"/>
                <a:tab algn="l" pos="97869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</a:rPr>
              <a:t>KAoS policy-governed access to Semantic Web information and servic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-490680">
              <a:lnSpc>
                <a:spcPct val="89000"/>
              </a:lnSpc>
              <a:spcBef>
                <a:spcPts val="18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490680"/>
                <a:tab algn="l" pos="1957320"/>
                <a:tab algn="l" pos="3914640"/>
                <a:tab algn="l" pos="5872320"/>
                <a:tab algn="l" pos="7829640"/>
                <a:tab algn="l" pos="978696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 Rounded MT Bold"/>
              </a:rPr>
              <a:t>Use of KAoS to dynamically determine I-X agent and human relationships (subordinates, superiors, etc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5427800" y="5946840"/>
            <a:ext cx="13269240" cy="9846000"/>
            <a:chOff x="15427800" y="5946840"/>
            <a:chExt cx="13269240" cy="9846000"/>
          </a:xfrm>
        </p:grpSpPr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20954880" y="5946840"/>
              <a:ext cx="7732800" cy="596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15492240" y="5946840"/>
              <a:ext cx="6451920" cy="9599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6" name=""/>
            <p:cNvGrpSpPr/>
            <p:nvPr/>
          </p:nvGrpSpPr>
          <p:grpSpPr>
            <a:xfrm>
              <a:off x="21513960" y="11731680"/>
              <a:ext cx="7183080" cy="3949200"/>
              <a:chOff x="21513960" y="11731680"/>
              <a:chExt cx="7183080" cy="3949200"/>
            </a:xfrm>
          </p:grpSpPr>
          <p:pic>
            <p:nvPicPr>
              <p:cNvPr id="4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1513960" y="11731680"/>
                <a:ext cx="2824920" cy="379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3704200" y="11859480"/>
                <a:ext cx="2848680" cy="3821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5869960" y="11731680"/>
                <a:ext cx="2827080" cy="3802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0" name=""/>
            <p:cNvSpPr/>
            <p:nvPr/>
          </p:nvSpPr>
          <p:spPr>
            <a:xfrm>
              <a:off x="15427800" y="15516360"/>
              <a:ext cx="238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Photos: US Air Force Photo Libra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3T17:15:34Z</dcterms:created>
  <dc:creator>Austin Tate</dc:creator>
  <dc:description/>
  <dc:language>en-US</dc:language>
  <cp:lastModifiedBy>Andrzej Uszok</cp:lastModifiedBy>
  <cp:lastPrinted>1999-10-18T12:56:19Z</cp:lastPrinted>
  <dcterms:modified xsi:type="dcterms:W3CDTF">2004-06-28T15:16:51Z</dcterms:modified>
  <cp:revision>170</cp:revision>
  <dc:subject>I-P2 - Intelligent Process Panels</dc:subject>
  <dc:title>I-P2 - Intelligent Process Panels</dc:title>
</cp:coreProperties>
</file>