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302488" cy="32043688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4077180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65120" y="17205120"/>
            <a:ext cx="4077180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6512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315664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049880" y="749808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835000" y="749808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65120" y="1720512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6049880" y="1720512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9835000" y="17205120"/>
            <a:ext cx="131281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65120" y="7498080"/>
            <a:ext cx="4077180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4077180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5120" y="1278360"/>
            <a:ext cx="40771800" cy="248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6512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156640" y="1720512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5120" y="1278360"/>
            <a:ext cx="407718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22600"/>
                <a:tab algn="l" pos="88455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6512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156640" y="7498080"/>
            <a:ext cx="1989648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65120" y="17205120"/>
            <a:ext cx="4077180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422600"/>
                <a:tab algn="l" pos="88455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1630760" y="28030320"/>
            <a:ext cx="2698560" cy="2692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37222200" y="28406880"/>
            <a:ext cx="4311720" cy="1939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0320" y="27547920"/>
            <a:ext cx="437263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712800" y="28251000"/>
            <a:ext cx="4260960" cy="2659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5778360" y="28474920"/>
            <a:ext cx="3703680" cy="1803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6"/>
          <a:stretch/>
        </p:blipFill>
        <p:spPr>
          <a:xfrm>
            <a:off x="35168040" y="28068480"/>
            <a:ext cx="2058840" cy="261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32520" y="6878520"/>
            <a:ext cx="6480" cy="1764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7"/>
                </a:lnTo>
                <a:lnTo>
                  <a:pt x="1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239720" y="6888240"/>
            <a:ext cx="3240" cy="17280"/>
          </a:xfrm>
          <a:custGeom>
            <a:avLst/>
            <a:gdLst/>
            <a:ahLst/>
            <a:rect l="l" t="t" r="r" b="b"/>
            <a:pathLst>
              <a:path w="1" h="7">
                <a:moveTo>
                  <a:pt x="1" y="0"/>
                </a:moveTo>
                <a:lnTo>
                  <a:pt x="0" y="7"/>
                </a:lnTo>
                <a:lnTo>
                  <a:pt x="1" y="7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0" y="6784920"/>
            <a:ext cx="7920" cy="12600"/>
          </a:xfrm>
          <a:custGeom>
            <a:avLst/>
            <a:gdLst/>
            <a:ahLst/>
            <a:rect l="l" t="t" r="r" b="b"/>
            <a:pathLst>
              <a:path w="1" h="7">
                <a:moveTo>
                  <a:pt x="1" y="0"/>
                </a:moveTo>
                <a:lnTo>
                  <a:pt x="0" y="7"/>
                </a:lnTo>
                <a:lnTo>
                  <a:pt x="1" y="7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93480" y="25923960"/>
            <a:ext cx="8224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Arial Rounded MT Bold"/>
              </a:rPr>
              <a:t>CoSAR-TS Demo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265800" y="25923960"/>
            <a:ext cx="6363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Arial Rounded MT Bold"/>
              </a:rPr>
              <a:t>I-X Task Suppor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412840" y="25923960"/>
            <a:ext cx="93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Arial Rounded MT Bold"/>
              </a:rPr>
              <a:t>KAoS Policy and Domain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511000" y="28901880"/>
            <a:ext cx="221313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5840" rIns="195840" tIns="97920" bIns="9792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957320"/>
                <a:tab algn="l" pos="3914640"/>
                <a:tab algn="l" pos="5872320"/>
                <a:tab algn="l" pos="7829640"/>
                <a:tab algn="l" pos="978696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Black"/>
              </a:rPr>
              <a:t>http://www.aiai.ed.ac.uk/project/cosar-ts/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9816280" y="16917840"/>
            <a:ext cx="14054400" cy="9402120"/>
            <a:chOff x="29816280" y="16917840"/>
            <a:chExt cx="14054400" cy="9402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2288040" y="23068080"/>
              <a:ext cx="4834080" cy="24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1265360" y="25871400"/>
              <a:ext cx="260532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99"/>
                  </a:solidFill>
                  <a:latin typeface="Arial Rounded MT Bold"/>
                </a:rPr>
                <a:t>Domain Edit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998440" y="16986240"/>
              <a:ext cx="272592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99"/>
                  </a:solidFill>
                  <a:latin typeface="Arial Rounded MT Bold"/>
                </a:rPr>
                <a:t>Process Pa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816280" y="24287040"/>
              <a:ext cx="326880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99"/>
                  </a:solidFill>
                  <a:latin typeface="Arial Rounded MT Bold"/>
                </a:rPr>
                <a:t>Messeng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841840" y="16941960"/>
              <a:ext cx="233856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99"/>
                  </a:solidFill>
                  <a:latin typeface="Arial Rounded MT Bold"/>
                </a:rPr>
                <a:t>I-Spa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484440" y="21394800"/>
              <a:ext cx="420516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99"/>
                  </a:solidFill>
                  <a:latin typeface="Arial Rounded MT Bold"/>
                </a:rPr>
                <a:t>Map View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9818080" y="17411760"/>
              <a:ext cx="5157720" cy="34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38634840" y="17548200"/>
              <a:ext cx="5126040" cy="38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36610920" y="21944160"/>
              <a:ext cx="7180200" cy="39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29853000" y="21081960"/>
              <a:ext cx="4581360" cy="31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6"/>
            <a:stretch/>
          </p:blipFill>
          <p:spPr>
            <a:xfrm>
              <a:off x="33194520" y="16917840"/>
              <a:ext cx="5732640" cy="60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7"/>
            <a:stretch/>
          </p:blipFill>
          <p:spPr>
            <a:xfrm>
              <a:off x="38039760" y="19251720"/>
              <a:ext cx="146052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2334120" y="25462080"/>
              <a:ext cx="326880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99"/>
                  </a:solidFill>
                  <a:latin typeface="Arial Rounded MT Bold"/>
                </a:rPr>
                <a:t>Activity Edit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1957320" y="17075160"/>
            <a:ext cx="11842920" cy="8740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16313040" y="17364240"/>
            <a:ext cx="11793600" cy="85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17:15:34Z</dcterms:created>
  <dc:creator>Austin Tate</dc:creator>
  <dc:description/>
  <dc:language>en-US</dc:language>
  <cp:lastModifiedBy>Andrzej Uszok</cp:lastModifiedBy>
  <cp:lastPrinted>1999-10-18T12:56:19Z</cp:lastPrinted>
  <dcterms:modified xsi:type="dcterms:W3CDTF">2004-06-28T15:16:42Z</dcterms:modified>
  <cp:revision>169</cp:revision>
  <dc:subject>I-P2 - Intelligent Process Panels</dc:subject>
  <dc:title>I-P2 - Intelligent Process Panels</dc:title>
</cp:coreProperties>
</file>