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302488" cy="32043688"/>
  <p:notesSz cx="5803900" cy="8280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04988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83500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26512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604988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983500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2265120" y="1278360"/>
            <a:ext cx="40771800" cy="248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9480" y="8947080"/>
            <a:ext cx="437259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6932520" y="6880320"/>
            <a:ext cx="4680" cy="1584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7"/>
                </a:lnTo>
                <a:lnTo>
                  <a:pt x="1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3238280" y="6889680"/>
            <a:ext cx="4680" cy="1440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554000" y="6783480"/>
            <a:ext cx="7920" cy="1584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6800" y="782640"/>
            <a:ext cx="38482560" cy="76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5840" rIns="195840" tIns="97920" bIns="97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59120"/>
                <a:tab algn="l" pos="3917880"/>
                <a:tab algn="l" pos="5877000"/>
                <a:tab algn="l" pos="7835760"/>
                <a:tab algn="l" pos="9794880"/>
              </a:tabLst>
            </a:pPr>
            <a:r>
              <a:rPr b="0" lang="en-US" sz="16000" spc="-1" strike="noStrike">
                <a:solidFill>
                  <a:srgbClr val="003366"/>
                </a:solidFill>
                <a:latin typeface="Arial Black"/>
              </a:rPr>
              <a:t>Intelligent Agents for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9120"/>
                <a:tab algn="l" pos="3917880"/>
                <a:tab algn="l" pos="5877000"/>
                <a:tab algn="l" pos="7835760"/>
                <a:tab algn="l" pos="9794880"/>
              </a:tabLst>
            </a:pPr>
            <a:r>
              <a:rPr b="0" lang="en-US" sz="16000" spc="-1" strike="noStrike">
                <a:solidFill>
                  <a:srgbClr val="003366"/>
                </a:solidFill>
                <a:latin typeface="Arial Black"/>
              </a:rPr>
              <a:t>Coalition Search &amp; Rescue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9120"/>
                <a:tab algn="l" pos="3917880"/>
                <a:tab algn="l" pos="5877000"/>
                <a:tab algn="l" pos="7835760"/>
                <a:tab algn="l" pos="9794880"/>
              </a:tabLst>
            </a:pPr>
            <a:r>
              <a:rPr b="0" lang="en-GB" sz="8300" spc="-1" strike="noStrike">
                <a:solidFill>
                  <a:srgbClr val="003366"/>
                </a:solidFill>
                <a:latin typeface="Arial Black"/>
              </a:rPr>
              <a:t>A. Tate, J. Dalton, C. Siebra &amp; S. Aitken AIAI, Edinburgh</a:t>
            </a:r>
            <a:br>
              <a:rPr sz="8300"/>
            </a:br>
            <a:r>
              <a:rPr b="0" lang="en-GB" sz="8300" spc="-1" strike="noStrike">
                <a:solidFill>
                  <a:srgbClr val="003366"/>
                </a:solidFill>
                <a:latin typeface="Arial Black"/>
              </a:rPr>
              <a:t>J. Bradshaw &amp; A. Uszok IHMC, Pensacola, Florida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7:15:34Z</dcterms:created>
  <dc:creator>Austin Tate</dc:creator>
  <dc:description/>
  <dc:language>en-US</dc:language>
  <cp:lastModifiedBy>Andrzej Uszok</cp:lastModifiedBy>
  <cp:lastPrinted>1999-10-18T12:56:19Z</cp:lastPrinted>
  <dcterms:modified xsi:type="dcterms:W3CDTF">2004-06-28T15:17:24Z</dcterms:modified>
  <cp:revision>127</cp:revision>
  <dc:subject>I-P2 - Intelligent Process Panels</dc:subject>
  <dc:title>I-P2 - Intelligent Process Panels</dc:title>
</cp:coreProperties>
</file>