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2640" y="3785400"/>
            <a:ext cx="669132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2640" y="378540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1640" y="378540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215424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4880" y="1523880"/>
            <a:ext cx="215424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67480" y="1523880"/>
            <a:ext cx="215424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2640" y="3785400"/>
            <a:ext cx="215424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04880" y="3785400"/>
            <a:ext cx="215424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67480" y="3785400"/>
            <a:ext cx="215424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326520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26520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30320"/>
            <a:ext cx="669132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26520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2640" y="378540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326520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1640" y="378540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26520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2640" y="3785400"/>
            <a:ext cx="6691320" cy="20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543800" y="6067440"/>
            <a:ext cx="1047600" cy="449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310960" y="6454800"/>
            <a:ext cx="79632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46C920D-F7F3-4366-ABD5-9E7E31A8B81C}" type="slidenum">
              <a:rPr b="1" lang="en-GB" sz="1000" spc="-1" strike="noStrike">
                <a:solidFill>
                  <a:srgbClr val="1e1800"/>
                </a:solidFill>
                <a:latin typeface="Arial"/>
                <a:ea typeface="HG Mincho Light J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639280" y="6026040"/>
            <a:ext cx="13644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136520" y="1289160"/>
            <a:ext cx="6729480" cy="14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36520" y="5931000"/>
            <a:ext cx="7691400" cy="14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0040" y="5969160"/>
            <a:ext cx="3692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  <a:ea typeface="HG Mincho Light J"/>
              </a:rPr>
              <a:t>Artificial Intelligence Applications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  <a:ea typeface="HG Mincho Light J"/>
              </a:rPr>
              <a:t>Centre for Intelligent Systems and their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7945560" y="252360"/>
            <a:ext cx="906480" cy="9223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587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2" marL="1143000" indent="-228600">
              <a:spcBef>
                <a:spcPts val="587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3" marL="1600200" indent="-228600">
              <a:spcBef>
                <a:spcPts val="587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4" marL="2057400" indent="-228600">
              <a:spcBef>
                <a:spcPts val="587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5" marL="2057400" indent="-228600">
              <a:spcBef>
                <a:spcPts val="587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6" marL="2057400" indent="-228600">
              <a:spcBef>
                <a:spcPts val="587"/>
              </a:spcBef>
              <a:buClr>
                <a:srgbClr val="000000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14040"/>
            <a:ext cx="77724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7280" y="3181320"/>
            <a:ext cx="6553080" cy="18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indent="0" algn="ctr">
              <a:lnSpc>
                <a:spcPct val="97000"/>
              </a:lnSpc>
              <a:spcBef>
                <a:spcPts val="587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40300"/>
                </a:solidFill>
                <a:latin typeface="Arial"/>
                <a:ea typeface="HG Mincho Light J"/>
              </a:rPr>
              <a:t>Stuart Ait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40300"/>
                </a:solidFill>
                <a:latin typeface="Arial"/>
                <a:ea typeface="HG Mincho Light J"/>
              </a:rPr>
              <a:t>Artificial Intelligence </a:t>
            </a:r>
            <a:br>
              <a:rPr sz="2400"/>
            </a:br>
            <a:r>
              <a:rPr b="1" i="1" lang="en-GB" sz="2400" spc="-1" strike="noStrike">
                <a:solidFill>
                  <a:srgbClr val="040300"/>
                </a:solidFill>
                <a:latin typeface="Arial"/>
                <a:ea typeface="HG Mincho Light J"/>
              </a:rPr>
              <a:t>Applications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39960" y="1464840"/>
            <a:ext cx="6692760" cy="1156680"/>
            <a:chOff x="939960" y="1464840"/>
            <a:chExt cx="6692760" cy="1156680"/>
          </a:xfrm>
        </p:grpSpPr>
        <p:sp>
          <p:nvSpPr>
            <p:cNvPr id="49" name=""/>
            <p:cNvSpPr/>
            <p:nvPr/>
          </p:nvSpPr>
          <p:spPr>
            <a:xfrm>
              <a:off x="939960" y="1473120"/>
              <a:ext cx="6692760" cy="113040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9960" y="1464840"/>
              <a:ext cx="6692760" cy="11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33"/>
                  </a:solidFill>
                  <a:latin typeface="Arial"/>
                  <a:ea typeface="HG Mincho Light J"/>
                </a:rPr>
                <a:t>DAML: Ontology, Services and Ru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O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Cardinality constraints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N values of property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Max values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Min values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E.g. Wine has exactly one colour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escription Logic reasoners exist for DAML-O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L is good for defining concepts, computing the subsumption relation, but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Expressivity is intentionally limited. 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O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escription Logic: Syntax and Semantics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38080" y="1981080"/>
          <a:ext cx="7925040" cy="3651480"/>
        </p:xfrm>
        <a:graphic>
          <a:graphicData uri="http://schemas.openxmlformats.org/drawingml/2006/table">
            <a:tbl>
              <a:tblPr/>
              <a:tblGrid>
                <a:gridCol w="2641680"/>
                <a:gridCol w="1397160"/>
                <a:gridCol w="38862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atomic constr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A is a subset of the Universal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atomic 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R subset U *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conj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C /\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set union C and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disj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C \/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intersection C and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ne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complement of C (U\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exists restr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Some R.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{x|exists y &lt;x,y&gt; in R, y in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value restr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All R.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{x|all y &lt;x,y&gt; in R =&gt; y in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role hierarc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R [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HG Mincho Light J"/>
                        </a:rPr>
                        <a:t>R subset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O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escription Logic: Subsumption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C:= Person /\ All eats.Meat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O:= Person /\ Some eats.Meat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V:= Person /\ All eats.-Meat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Q1. Is O a subclass of C ?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Q2. Are C and V disjoint ?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Q3. Are O and V disjoint ?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O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6913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escription Logic: Subsumption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286000"/>
            <a:ext cx="1904760" cy="5335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3276720"/>
            <a:ext cx="1904760" cy="533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Carn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276720"/>
            <a:ext cx="1904760" cy="533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Omn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3276720"/>
            <a:ext cx="1905120" cy="533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437920" y="28954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952520" y="2895120"/>
            <a:ext cx="8384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3733920"/>
            <a:ext cx="990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7520" y="40384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dis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4000" y="25909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Semantic mark-up for web services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Agents should be able to 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discover</a:t>
            </a: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invoke,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compose, and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monitor web resources.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Ontology - expressed in DAML-O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A Service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40300"/>
                </a:solidFill>
                <a:latin typeface="Arial"/>
              </a:rPr>
              <a:t>presents a Service Profile (what is on offer)</a:t>
            </a:r>
            <a:endParaRPr b="1" lang="en-US" sz="1800" spc="-1" strike="noStrike">
              <a:solidFill>
                <a:srgbClr val="040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40300"/>
                </a:solidFill>
                <a:latin typeface="Arial"/>
              </a:rPr>
              <a:t>described by a Service Model (how it is achieved)</a:t>
            </a:r>
            <a:endParaRPr b="1" lang="en-US" sz="1800" spc="-1" strike="noStrike">
              <a:solidFill>
                <a:srgbClr val="040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40300"/>
                </a:solidFill>
                <a:latin typeface="Arial"/>
              </a:rPr>
              <a:t>supports a Service Grounding (implementation details)</a:t>
            </a:r>
            <a:endParaRPr b="1" lang="en-US" sz="1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Service Profile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0">
              <a:spcBef>
                <a:spcPts val="48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serviceName; textDescription; contactInformation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Actor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0">
              <a:spcBef>
                <a:spcPts val="48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name; title; phone, fax….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Functional’ characteristics of Service Profiles and Service Models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input/output (Parameter Description)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precondition/effect (Parameter Description)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Service Model: Process Ontology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Atomic, Simple, Composite Process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Control Construct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Sequence, Split, Choice, If-Then-Else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ata flow/Parameter Bindings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There are no variables in the language to allow instances to be equated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E.g. item1 is input; item1 is output, but we can only specify the type as input/output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Annotation is used: 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2" marL="1143000" indent="0">
              <a:spcBef>
                <a:spcPts val="388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40300"/>
                </a:solidFill>
                <a:latin typeface="Arial"/>
              </a:rPr>
              <a:t>sameValues(Process, [ (valueOf Class,Parameter),….])</a:t>
            </a:r>
            <a:endParaRPr b="1" lang="en-US" sz="1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6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Formalisation of the Process Ontology is weak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40300"/>
                </a:solidFill>
                <a:latin typeface="Arial"/>
              </a:rPr>
              <a:t>Classes</a:t>
            </a:r>
            <a:endParaRPr b="1" lang="en-US" sz="1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40300"/>
                </a:solidFill>
                <a:latin typeface="Arial"/>
              </a:rPr>
              <a:t>No/few axioms</a:t>
            </a:r>
            <a:endParaRPr b="1" lang="en-US" sz="1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Alternative formalisations of the execution semantics exist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40300"/>
                </a:solidFill>
                <a:latin typeface="Arial"/>
              </a:rPr>
              <a:t>Narayanan &amp; McIlraith: situation calculus + petri nets</a:t>
            </a:r>
            <a:endParaRPr b="1" lang="en-US" sz="1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40300"/>
                </a:solidFill>
                <a:latin typeface="Arial"/>
              </a:rPr>
              <a:t>Ankolekar, Huch &amp; Sycara: pi calculus/ functional programming</a:t>
            </a:r>
            <a:endParaRPr b="1" lang="en-US" sz="1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Declarative Semantics for a CycL Process Ontology may be relevant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Uses: Verification, Simulation, Composition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At the ‘implementation level’ DAML-S specs will map to WSDL, SOAP…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438280"/>
            <a:ext cx="12956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DAML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048120"/>
            <a:ext cx="5105520" cy="22096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9040" y="32767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3120" y="32767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DL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2000" y="39625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Atom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01240" y="39625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6240" y="4724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98880" y="472428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6680" y="533412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800"/>
                </a:solidFill>
                <a:latin typeface="Arial"/>
              </a:rPr>
              <a:t>SOAP, HTTP               W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038480"/>
            <a:ext cx="594360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8640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876920" y="51055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1055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R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Introduce Rules to solve the instance identification (variable) problem - this is a general problem with DL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RuleML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Grosof &amp; Horrocks ‘Logic Programming + DL’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Others…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W3C + DAML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W3C standards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XML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RDF - Resource Description Framework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RDFS - RDF Schema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Ontology languages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AML-O - ontology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AML-S - services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AML-R - rules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2" marL="1143000" indent="0">
              <a:spcBef>
                <a:spcPts val="388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W3C initiative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XML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RDF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Extends XML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Represents semantics as triples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RDF Schema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Encodes the type hierarchy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RDF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18600" indent="-31860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Identify ‘things’ through URIs, and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describe them in terms of simple properties and property values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Triples: subject predicate object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06680" indent="-263160">
              <a:lnSpc>
                <a:spcPct val="9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http://www.example.org/index.html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06680" indent="-263160">
              <a:lnSpc>
                <a:spcPct val="9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http://purl.org/dc/elements/1.1/creator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06680" indent="-263160">
              <a:lnSpc>
                <a:spcPct val="9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http://www.example.org/staffid/85740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Subjects and objects are viewed as nodes, predicates as links in a graph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Predicates are defined - ontology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Courier New"/>
              </a:rPr>
              <a:t>rdf:type</a:t>
            </a: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  - objects can have types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06680" indent="-263160">
              <a:lnSpc>
                <a:spcPct val="9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a defined predicate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06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06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RDF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1840" indent="-32184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RDF Properties: represent relationships between resources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1840" indent="-32184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No way to describe these properties, or relationships between these properties and other resources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1840" indent="-32184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RDFS: specify Classes and the domain and range of properties: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lvl="1" marL="713880" indent="-26568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author - domain:Document 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13880" indent="0">
              <a:spcBef>
                <a:spcPts val="48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- range: Person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RDF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s:Resource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 the class of everything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s:Class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 the class of classes 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s:Literal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 the class of literal values e.g. string and integer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:Property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 instance of </a:t>
            </a: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s:Class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s:domain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 instance of </a:t>
            </a: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:Property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s:range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 instance of </a:t>
            </a: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:Property</a:t>
            </a: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s:subClassOf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Courier New"/>
              </a:rPr>
              <a:t>rdfs:subPropertyOf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O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A DAML+OIL knowledge-base is a collection of RDF triples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DAML+OIL prescribes the meaning of triples that use DAML+OIL vocabulary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40300"/>
                </a:solidFill>
                <a:latin typeface="Arial"/>
              </a:rPr>
              <a:t>Adds 12 classes and 26 properties to RDFS (axiomatised)</a:t>
            </a:r>
            <a:endParaRPr b="1" lang="en-US" sz="28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O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Courier New"/>
              </a:rPr>
              <a:t>daml:Class</a:t>
            </a: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 a class element - refers to a class name (URI) may contain: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Courier New"/>
              </a:rPr>
              <a:t>rdfs:subClassOf 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Courier New"/>
              </a:rPr>
              <a:t>daml:disjointWith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boolean combination of class expressions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enumeration elements 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Class expression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class name (URI)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enumeration of classes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property restriction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  <a:p>
            <a:pPr lvl="1" marL="728640" indent="-271440">
              <a:spcBef>
                <a:spcPts val="488"/>
              </a:spcBef>
              <a:buClr>
                <a:srgbClr val="040300"/>
              </a:buClr>
              <a:buSzPct val="125000"/>
              <a:buFont typeface="Time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40300"/>
                </a:solidFill>
                <a:latin typeface="Arial"/>
              </a:rPr>
              <a:t>boolean combination of the above</a:t>
            </a:r>
            <a:endParaRPr b="1" lang="en-US" sz="20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30320"/>
            <a:ext cx="66913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ML-O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91320" cy="43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Property restrictions: qualify a defined class, </a:t>
            </a:r>
            <a:r>
              <a:rPr b="1" lang="en-US" sz="2400" spc="-1" strike="noStrike">
                <a:solidFill>
                  <a:srgbClr val="0403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, by stating  (</a:t>
            </a:r>
            <a:r>
              <a:rPr b="1" lang="en-US" sz="2400" spc="-1" strike="noStrike">
                <a:solidFill>
                  <a:srgbClr val="040300"/>
                </a:solidFill>
                <a:latin typeface="Courier New"/>
              </a:rPr>
              <a:t>quant.)property.C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40300"/>
                </a:solidFill>
                <a:latin typeface="Courier New"/>
              </a:rPr>
              <a:t>e.g. RedWine:= Wine/\hasColour.RED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Courier New"/>
              </a:rPr>
              <a:t>daml:toClass</a:t>
            </a: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 for all x, if property(x,y) holds of an element y, y is in C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587"/>
              </a:spcBef>
              <a:buClr>
                <a:srgbClr val="ff9933"/>
              </a:buClr>
              <a:buSzPct val="125000"/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0300"/>
                </a:solidFill>
                <a:latin typeface="Courier New"/>
              </a:rPr>
              <a:t>daml:hasClass</a:t>
            </a:r>
            <a:r>
              <a:rPr b="1" lang="en-US" sz="2400" spc="-1" strike="noStrike">
                <a:solidFill>
                  <a:srgbClr val="040300"/>
                </a:solidFill>
                <a:latin typeface="Arial"/>
              </a:rPr>
              <a:t> for some x, property(x,y) holds of an element y of C</a:t>
            </a:r>
            <a:endParaRPr b="1" lang="en-US" sz="2400" spc="-1" strike="noStrike">
              <a:solidFill>
                <a:srgbClr val="040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rmatics</cp:lastModifiedBy>
  <dcterms:modified xsi:type="dcterms:W3CDTF">2003-02-25T13:22:21Z</dcterms:modified>
  <cp:revision>16</cp:revision>
  <dc:subject/>
  <dc:title> </dc:title>
</cp:coreProperties>
</file>