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76040" y="8636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open the presentation and then use &lt;File&gt;, &lt;Save As&gt; to give it the name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use a document name like CoAX_Master_12Mar02.ppt (with the date spelled out to save UK / US confusion, underscores also helps to make the document name 'Operating System version / type' resista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 effects, if required,  for text should be a simple “appear” effect, and select grey out earlier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used is Arial. Should be 'Apple Mac' friendly... Mac users should not use Helvetica to help Windows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076400" y="8636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4BC1C284-8078-4E7A-B964-6A29E25B976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coax-logo-globe-binni-2001-377x407" descr=""/>
          <p:cNvPicPr/>
          <p:nvPr/>
        </p:nvPicPr>
        <p:blipFill>
          <a:blip r:embed="rId3"/>
          <a:stretch/>
        </p:blipFill>
        <p:spPr>
          <a:xfrm>
            <a:off x="404640" y="241200"/>
            <a:ext cx="1292400" cy="13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3680" y="3476520"/>
            <a:ext cx="862488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X – Coalition Agents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AI, BBN, CMU, Dartmouth, DSTO, GIT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kheed Martin ATL, NRL, Potomac Inst., U.Maryla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.Michigan, QinetiQ, USC/ISI, UT-Austin, UWF/IH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ort from AFRL, ARL, Boeing, DREV, DSTL, ISX, MIT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 Sloan, NWDC, OBJS, Schafer, Stanford, T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1400" y="165240"/>
            <a:ext cx="1790640" cy="811080"/>
            <a:chOff x="671400" y="165240"/>
            <a:chExt cx="1790640" cy="811080"/>
          </a:xfrm>
        </p:grpSpPr>
        <p:sp>
          <p:nvSpPr>
            <p:cNvPr id="47" name=""/>
            <p:cNvSpPr/>
            <p:nvPr/>
          </p:nvSpPr>
          <p:spPr>
            <a:xfrm>
              <a:off x="705600" y="19800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5600" y="19800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160" y="19800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1348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720" y="21348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2200" y="23040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00" y="23040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760" y="24624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760" y="24624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1320" y="26316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20" y="26316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880" y="27900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2440" y="27900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0080" y="27900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7000" y="29448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4640" y="29448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1560" y="31140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7040" y="31140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4680" y="32724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1600" y="32724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240" y="34416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34416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2720" y="35964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360" y="35964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6920" y="37548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96920" y="37548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4920" y="37548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31480" y="39240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9480" y="39240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040" y="40824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1520" y="40824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9520" y="42516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6080" y="42516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080" y="44100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0640" y="44100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7200" y="45792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5200" y="45792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01760" y="47340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9400" y="47340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6320" y="47340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2880" y="48924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9440" y="48924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6360" y="50616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4360" y="50616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0920" y="52164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7480" y="52164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55480" y="53856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2040" y="53856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680" y="55440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240" y="55440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2040" y="52164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400" y="16524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160" y="21348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400" y="19800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9240" y="56268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6280" y="26676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2240" y="26676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26424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4040" y="19800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2040" y="32724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86616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8440" y="76968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4612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6280" y="24984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9160" y="24984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8200" y="24876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00600" y="18108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2040" y="29340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9800" y="85068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9880" y="73692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6600" y="21096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2160" y="31860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6958080" y="1482840"/>
          <a:ext cx="112068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1482840"/>
                    <a:ext cx="1120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dsto-logo" descr=""/>
          <p:cNvPicPr/>
          <p:nvPr/>
        </p:nvPicPr>
        <p:blipFill>
          <a:blip r:embed="rId3"/>
          <a:stretch/>
        </p:blipFill>
        <p:spPr>
          <a:xfrm>
            <a:off x="6832440" y="2417760"/>
            <a:ext cx="1371600" cy="892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950760" y="2359080"/>
            <a:ext cx="1117800" cy="118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977160" y="8100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24" name="CoABS%20Logo%20Final" descr=""/>
          <p:cNvPicPr/>
          <p:nvPr/>
        </p:nvPicPr>
        <p:blipFill>
          <a:blip r:embed="rId6"/>
          <a:stretch/>
        </p:blipFill>
        <p:spPr>
          <a:xfrm>
            <a:off x="736560" y="96840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125" name="coax-logo-globe-binni-2001-377x407" descr=""/>
          <p:cNvPicPr/>
          <p:nvPr/>
        </p:nvPicPr>
        <p:blipFill>
          <a:blip r:embed="rId7"/>
          <a:stretch/>
        </p:blipFill>
        <p:spPr>
          <a:xfrm>
            <a:off x="3043080" y="200160"/>
            <a:ext cx="302760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urther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1280" y="2787480"/>
            <a:ext cx="6648480" cy="15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CoAX Team</dc:creator>
  <dc:description/>
  <dc:language>en-US</dc:language>
  <cp:lastModifiedBy>AIAI</cp:lastModifiedBy>
  <cp:lastPrinted>2000-06-09T23:34:42Z</cp:lastPrinted>
  <dcterms:modified xsi:type="dcterms:W3CDTF">2002-08-20T10:38:27Z</dcterms:modified>
  <cp:revision>542</cp:revision>
  <dc:subject>Briefing</dc:subject>
  <dc:title>Coalition Agents eXperiment - The Coalition TIE</dc:title>
</cp:coreProperties>
</file>