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wmf" ContentType="image/x-wmf"/>
  <Override PartName="/ppt/media/image27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8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5B8E3084-CFFB-4DE9-A868-75A1F692193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jpeg"/><Relationship Id="rId15" Type="http://schemas.openxmlformats.org/officeDocument/2006/relationships/image" Target="../media/image24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3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5.png"/><Relationship Id="rId20" Type="http://schemas.openxmlformats.org/officeDocument/2006/relationships/image" Target="../media/image5.png"/><Relationship Id="rId21" Type="http://schemas.openxmlformats.org/officeDocument/2006/relationships/image" Target="../media/image26.jpe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6.png"/><Relationship Id="rId33" Type="http://schemas.openxmlformats.org/officeDocument/2006/relationships/image" Target="../media/image37.wmf"/><Relationship Id="rId34" Type="http://schemas.openxmlformats.org/officeDocument/2006/relationships/image" Target="../media/image38.wmf"/><Relationship Id="rId35" Type="http://schemas.openxmlformats.org/officeDocument/2006/relationships/image" Target="../media/image39.png"/><Relationship Id="rId36" Type="http://schemas.openxmlformats.org/officeDocument/2006/relationships/image" Target="../media/image8.png"/><Relationship Id="rId3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3680" y="3476520"/>
            <a:ext cx="862488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X – Coalition Agent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AI, BBN, CMU, Dartmouth, DSTO, GIT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heed Martin ATL, NRL, Potomac Inst., U.Maryla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.Michigan, QinetiQ, UT-Austin, UWF/IH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rom AFRL, ARL, Boeing, DRDC, DSTL, ISX, MIT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 Sloan, NWDC, OBJS, Schafer, Stanford, TTCP, USC/ISI, USPA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3900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900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3" name="CoABS%20Logo%20Final" descr=""/>
          <p:cNvPicPr/>
          <p:nvPr/>
        </p:nvPicPr>
        <p:blipFill>
          <a:blip r:embed="rId5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4" name="coax-logo-globe-binni-2002" descr=""/>
          <p:cNvPicPr/>
          <p:nvPr/>
        </p:nvPicPr>
        <p:blipFill>
          <a:blip r:embed="rId6"/>
          <a:stretch/>
        </p:blipFill>
        <p:spPr>
          <a:xfrm>
            <a:off x="3068640" y="214200"/>
            <a:ext cx="3121200" cy="337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840360" y="2266920"/>
            <a:ext cx="131796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lag Str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01240" y="1800360"/>
            <a:ext cx="747900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s in Demo/Coalition (Australia, UK,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enario Nations (Arabello, Agadez, Binni, G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g S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g Strip with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ax-flag-strip-with-canada" descr=""/>
          <p:cNvPicPr/>
          <p:nvPr/>
        </p:nvPicPr>
        <p:blipFill>
          <a:blip r:embed="rId1"/>
          <a:stretch/>
        </p:blipFill>
        <p:spPr>
          <a:xfrm>
            <a:off x="1346040" y="4811760"/>
            <a:ext cx="7223400" cy="1006560"/>
          </a:xfrm>
          <a:prstGeom prst="rect">
            <a:avLst/>
          </a:prstGeom>
          <a:ln w="0">
            <a:noFill/>
          </a:ln>
        </p:spPr>
      </p:pic>
      <p:pic>
        <p:nvPicPr>
          <p:cNvPr id="129" name="coax-flag-strip-without-canada" descr=""/>
          <p:cNvPicPr/>
          <p:nvPr/>
        </p:nvPicPr>
        <p:blipFill>
          <a:blip r:embed="rId2"/>
          <a:stretch/>
        </p:blipFill>
        <p:spPr>
          <a:xfrm>
            <a:off x="1346040" y="3483000"/>
            <a:ext cx="642312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rther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1280" y="2787480"/>
            <a:ext cx="6648480" cy="15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78040" y="925560"/>
            <a:ext cx="2374920" cy="101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9800" y="509760"/>
            <a:ext cx="803160" cy="8539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795240" y="1521000"/>
            <a:ext cx="1790640" cy="811080"/>
            <a:chOff x="795240" y="1521000"/>
            <a:chExt cx="1790640" cy="811080"/>
          </a:xfrm>
        </p:grpSpPr>
        <p:sp>
          <p:nvSpPr>
            <p:cNvPr id="135" name=""/>
            <p:cNvSpPr/>
            <p:nvPr/>
          </p:nvSpPr>
          <p:spPr>
            <a:xfrm>
              <a:off x="829440" y="155376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9440" y="155376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6000" y="155376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4000" y="156924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560" y="156924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96040" y="158616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4040" y="158616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0600" y="160200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48600" y="160200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65160" y="161892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83160" y="161892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9720" y="163476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16280" y="163476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3920" y="163476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50840" y="165024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8480" y="165024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85400" y="166716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00880" y="166716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8520" y="168300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5440" y="168300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53080" y="169992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70000" y="169992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86560" y="171540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04200" y="171540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20760" y="173124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20760" y="173124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8760" y="173124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5320" y="174816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73320" y="174816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89880" y="176400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05360" y="176400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23360" y="178092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39920" y="178092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7920" y="179676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74480" y="179676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91040" y="181368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9040" y="181368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25600" y="182916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43240" y="182916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60160" y="182916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76720" y="184500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93280" y="184500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10200" y="186192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28200" y="186192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44760" y="187740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61320" y="187740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79320" y="189432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95880" y="189432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13520" y="191016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0080" y="191016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95880" y="187740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5240" y="152100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6000" y="156924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5240" y="155376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83080" y="191844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0120" y="162252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96080" y="162252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52040" y="162000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7880" y="155376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55880" y="168300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7080" y="222192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52280" y="212544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98560" y="190188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0120" y="160560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13000" y="160560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2040" y="160452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24440" y="153684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55880" y="164916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13640" y="220644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53720" y="209268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0440" y="156672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26000" y="167436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705200" y="2557440"/>
            <a:ext cx="3159360" cy="53820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662040" y="2379600"/>
            <a:ext cx="1221840" cy="1644480"/>
            <a:chOff x="662040" y="2379600"/>
            <a:chExt cx="1221840" cy="1644480"/>
          </a:xfrm>
        </p:grpSpPr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662040" y="3508560"/>
              <a:ext cx="1221840" cy="5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uoe-small" descr=""/>
            <p:cNvPicPr/>
            <p:nvPr/>
          </p:nvPicPr>
          <p:blipFill>
            <a:blip r:embed="rId5"/>
            <a:stretch/>
          </p:blipFill>
          <p:spPr>
            <a:xfrm>
              <a:off x="733320" y="2379600"/>
              <a:ext cx="1100880" cy="10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2316240" y="2784600"/>
            <a:ext cx="1112760" cy="1055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884160" y="4075200"/>
            <a:ext cx="919080" cy="919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2343240" y="404496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214" name="DartLogoBW" descr=""/>
          <p:cNvPicPr/>
          <p:nvPr/>
        </p:nvPicPr>
        <p:blipFill>
          <a:blip r:embed="rId9"/>
          <a:stretch/>
        </p:blipFill>
        <p:spPr>
          <a:xfrm>
            <a:off x="876240" y="5345280"/>
            <a:ext cx="914400" cy="1068120"/>
          </a:xfrm>
          <a:prstGeom prst="rect">
            <a:avLst/>
          </a:prstGeom>
          <a:ln w="0">
            <a:noFill/>
          </a:ln>
        </p:spPr>
      </p:pic>
      <p:pic>
        <p:nvPicPr>
          <p:cNvPr id="215" name="ISX-logo-02" descr=""/>
          <p:cNvPicPr/>
          <p:nvPr/>
        </p:nvPicPr>
        <p:blipFill>
          <a:blip r:embed="rId10"/>
          <a:stretch/>
        </p:blipFill>
        <p:spPr>
          <a:xfrm>
            <a:off x="3581280" y="2784600"/>
            <a:ext cx="1454400" cy="1204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2247840" y="5530680"/>
            <a:ext cx="1270080" cy="723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2394000" y="5403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3"/>
          <a:stretch/>
        </p:blipFill>
        <p:spPr>
          <a:xfrm>
            <a:off x="5703840" y="1500120"/>
            <a:ext cx="851040" cy="279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4"/>
          <a:stretch/>
        </p:blipFill>
        <p:spPr>
          <a:xfrm>
            <a:off x="6856560" y="3156120"/>
            <a:ext cx="1765080" cy="1112760"/>
          </a:xfrm>
          <a:prstGeom prst="rect">
            <a:avLst/>
          </a:prstGeom>
          <a:ln w="0">
            <a:noFill/>
          </a:ln>
        </p:spPr>
      </p:pic>
      <p:pic>
        <p:nvPicPr>
          <p:cNvPr id="220" name="QinetiQ3" descr=""/>
          <p:cNvPicPr/>
          <p:nvPr/>
        </p:nvPicPr>
        <p:blipFill>
          <a:blip r:embed="rId15"/>
          <a:stretch/>
        </p:blipFill>
        <p:spPr>
          <a:xfrm>
            <a:off x="6940440" y="1447920"/>
            <a:ext cx="154332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7473960" y="2054160"/>
          <a:ext cx="83808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3960" y="2054160"/>
                    <a:ext cx="838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996160" y="501480"/>
          <a:ext cx="1009440" cy="752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96160" y="501480"/>
                    <a:ext cx="10094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20"/>
          <a:stretch/>
        </p:blipFill>
        <p:spPr>
          <a:xfrm>
            <a:off x="671400" y="39996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26" name="BBN_2c_primary" descr=""/>
          <p:cNvPicPr/>
          <p:nvPr/>
        </p:nvPicPr>
        <p:blipFill>
          <a:blip r:embed="rId21"/>
          <a:stretch/>
        </p:blipFill>
        <p:spPr>
          <a:xfrm>
            <a:off x="5245200" y="3243240"/>
            <a:ext cx="1191960" cy="774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2"/>
          <a:stretch/>
        </p:blipFill>
        <p:spPr>
          <a:xfrm>
            <a:off x="3722760" y="4192560"/>
            <a:ext cx="823680" cy="824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3"/>
          <a:stretch/>
        </p:blipFill>
        <p:spPr>
          <a:xfrm>
            <a:off x="4684680" y="414324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4"/>
          <a:stretch/>
        </p:blipFill>
        <p:spPr>
          <a:xfrm>
            <a:off x="3865680" y="436680"/>
            <a:ext cx="1015920" cy="97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5"/>
          <a:stretch/>
        </p:blipFill>
        <p:spPr>
          <a:xfrm>
            <a:off x="4910040" y="485640"/>
            <a:ext cx="852480" cy="831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6"/>
          <a:stretch/>
        </p:blipFill>
        <p:spPr>
          <a:xfrm>
            <a:off x="6816600" y="4330800"/>
            <a:ext cx="946440" cy="917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7"/>
          <a:stretch/>
        </p:blipFill>
        <p:spPr>
          <a:xfrm>
            <a:off x="7877160" y="4309920"/>
            <a:ext cx="654120" cy="927360"/>
          </a:xfrm>
          <a:prstGeom prst="rect">
            <a:avLst/>
          </a:prstGeom>
          <a:ln w="0">
            <a:noFill/>
          </a:ln>
        </p:spPr>
      </p:pic>
      <p:pic>
        <p:nvPicPr>
          <p:cNvPr id="233" name="arl" descr=""/>
          <p:cNvPicPr/>
          <p:nvPr/>
        </p:nvPicPr>
        <p:blipFill>
          <a:blip r:embed="rId28"/>
          <a:stretch/>
        </p:blipFill>
        <p:spPr>
          <a:xfrm>
            <a:off x="4805280" y="1952640"/>
            <a:ext cx="668520" cy="420840"/>
          </a:xfrm>
          <a:prstGeom prst="rect">
            <a:avLst/>
          </a:prstGeom>
          <a:ln w="0">
            <a:noFill/>
          </a:ln>
        </p:spPr>
      </p:pic>
      <p:pic>
        <p:nvPicPr>
          <p:cNvPr id="234" name="perimid" descr=""/>
          <p:cNvPicPr/>
          <p:nvPr/>
        </p:nvPicPr>
        <p:blipFill>
          <a:blip r:embed="rId29"/>
          <a:stretch/>
        </p:blipFill>
        <p:spPr>
          <a:xfrm>
            <a:off x="5904000" y="1847880"/>
            <a:ext cx="699840" cy="695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0"/>
          <a:stretch/>
        </p:blipFill>
        <p:spPr>
          <a:xfrm>
            <a:off x="3683160" y="41464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1"/>
          <a:stretch/>
        </p:blipFill>
        <p:spPr>
          <a:xfrm>
            <a:off x="5665680" y="4157640"/>
            <a:ext cx="884520" cy="895320"/>
          </a:xfrm>
          <a:prstGeom prst="rect">
            <a:avLst/>
          </a:prstGeom>
          <a:ln w="0">
            <a:noFill/>
          </a:ln>
        </p:spPr>
      </p:pic>
      <p:pic>
        <p:nvPicPr>
          <p:cNvPr id="237" name="CoABS%20Logo%20Final" descr=""/>
          <p:cNvPicPr/>
          <p:nvPr/>
        </p:nvPicPr>
        <p:blipFill>
          <a:blip r:embed="rId32"/>
          <a:stretch/>
        </p:blipFill>
        <p:spPr>
          <a:xfrm>
            <a:off x="7400880" y="5460840"/>
            <a:ext cx="1382760" cy="1230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3"/>
          <a:stretch/>
        </p:blipFill>
        <p:spPr>
          <a:xfrm>
            <a:off x="3801960" y="5695920"/>
            <a:ext cx="2171880" cy="58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4"/>
          <a:stretch/>
        </p:blipFill>
        <p:spPr>
          <a:xfrm>
            <a:off x="5602320" y="6402240"/>
            <a:ext cx="167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141880" y="5135400"/>
            <a:ext cx="1805040" cy="670680"/>
            <a:chOff x="5141880" y="5135400"/>
            <a:chExt cx="1805040" cy="670680"/>
          </a:xfrm>
        </p:grpSpPr>
        <p:grpSp>
          <p:nvGrpSpPr>
            <p:cNvPr id="241" name=""/>
            <p:cNvGrpSpPr/>
            <p:nvPr/>
          </p:nvGrpSpPr>
          <p:grpSpPr>
            <a:xfrm>
              <a:off x="5397480" y="5271840"/>
              <a:ext cx="987480" cy="338400"/>
              <a:chOff x="5397480" y="5271840"/>
              <a:chExt cx="987480" cy="338400"/>
            </a:xfrm>
          </p:grpSpPr>
          <p:sp>
            <p:nvSpPr>
              <p:cNvPr id="242" name=""/>
              <p:cNvSpPr/>
              <p:nvPr/>
            </p:nvSpPr>
            <p:spPr>
              <a:xfrm>
                <a:off x="5397480" y="5271840"/>
                <a:ext cx="987480" cy="338400"/>
              </a:xfrm>
              <a:prstGeom prst="roundRect">
                <a:avLst>
                  <a:gd name="adj" fmla="val 24741"/>
                </a:avLst>
              </a:prstGeom>
              <a:solidFill>
                <a:srgbClr val="fafd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29160" y="5514840"/>
                <a:ext cx="927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64516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9104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13440" y="536868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135480" y="5344920"/>
                <a:ext cx="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65760" y="5387760"/>
                <a:ext cx="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54600" y="5365440"/>
                <a:ext cx="20520" cy="12960"/>
              </a:xfrm>
              <a:prstGeom prst="ellipse">
                <a:avLst/>
              </a:prstGeom>
              <a:solidFill>
                <a:srgbClr val="00ae00"/>
              </a:solidFill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05520" y="5365440"/>
                <a:ext cx="20520" cy="12960"/>
              </a:xfrm>
              <a:prstGeom prst="ellipse">
                <a:avLst/>
              </a:prstGeom>
              <a:solidFill>
                <a:srgbClr val="b760f9"/>
              </a:solidFill>
              <a:ln w="25560">
                <a:solidFill>
                  <a:srgbClr val="b76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124680" y="5329080"/>
                <a:ext cx="23760" cy="15840"/>
              </a:xfrm>
              <a:prstGeom prst="ellipse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81680" y="5329080"/>
                <a:ext cx="22320" cy="15840"/>
              </a:xfrm>
              <a:prstGeom prst="ellipse">
                <a:avLst/>
              </a:prstGeom>
              <a:solidFill>
                <a:srgbClr val="c0c0c0"/>
              </a:solidFill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32560" y="5329080"/>
                <a:ext cx="27000" cy="15840"/>
              </a:xfrm>
              <a:prstGeom prst="ellipse">
                <a:avLst/>
              </a:prstGeom>
              <a:solidFill>
                <a:srgbClr val="f35b1b"/>
              </a:solidFill>
              <a:ln w="25560">
                <a:solidFill>
                  <a:srgbClr val="f35b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5141880" y="5135400"/>
              <a:ext cx="180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 Services and Consulting, In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35"/>
          <a:stretch/>
        </p:blipFill>
        <p:spPr>
          <a:xfrm>
            <a:off x="2820960" y="477720"/>
            <a:ext cx="932040" cy="935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6"/>
          <a:stretch/>
        </p:blipFill>
        <p:spPr>
          <a:xfrm>
            <a:off x="7085160" y="272880"/>
            <a:ext cx="1317600" cy="113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/>
  <dc:language>en-US</dc:language>
  <cp:lastModifiedBy>AIAI</cp:lastModifiedBy>
  <cp:lastPrinted>2000-06-09T23:34:42Z</cp:lastPrinted>
  <dcterms:modified xsi:type="dcterms:W3CDTF">2002-08-20T10:37:50Z</dcterms:modified>
  <cp:revision>550</cp:revision>
  <dc:subject>Briefing</dc:subject>
  <dc:title>Coalition Agents eXperiment - The Coalition TIE</dc:title>
</cp:coreProperties>
</file>