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DDB02F29-33B3-4088-86F1-293E964A74F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coax-logo-globe-binni-noyear-377x407" descr=""/>
          <p:cNvPicPr/>
          <p:nvPr/>
        </p:nvPicPr>
        <p:blipFill>
          <a:blip r:embed="rId3"/>
          <a:stretch/>
        </p:blipFill>
        <p:spPr>
          <a:xfrm>
            <a:off x="210960" y="176040"/>
            <a:ext cx="1292400" cy="139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80" y="347652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SC/ISI, UT-Austin, UWF/IH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EV, DSTL, ISX, MIT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2316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316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CoABS%20Logo%20Final" descr=""/>
          <p:cNvPicPr/>
          <p:nvPr/>
        </p:nvPicPr>
        <p:blipFill>
          <a:blip r:embed="rId5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4" name="coax-logo-globe-binni-noyear-377x407" descr=""/>
          <p:cNvPicPr/>
          <p:nvPr/>
        </p:nvPicPr>
        <p:blipFill>
          <a:blip r:embed="rId6"/>
          <a:stretch/>
        </p:blipFill>
        <p:spPr>
          <a:xfrm>
            <a:off x="3133800" y="204840"/>
            <a:ext cx="3016080" cy="325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24520" y="2266920"/>
            <a:ext cx="13176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rther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1280" y="2787480"/>
            <a:ext cx="6648480" cy="15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/>
  <dc:language>en-US</dc:language>
  <cp:lastModifiedBy>AIAI</cp:lastModifiedBy>
  <cp:lastPrinted>2000-06-09T23:34:42Z</cp:lastPrinted>
  <dcterms:modified xsi:type="dcterms:W3CDTF">2002-08-20T10:38:47Z</dcterms:modified>
  <cp:revision>543</cp:revision>
  <dc:subject>Briefing</dc:subject>
  <dc:title>Coalition Agents eXperiment - The Coalition TIE</dc:title>
</cp:coreProperties>
</file>