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6.wmf" ContentType="image/x-wmf"/>
  <Override PartName="/ppt/media/image40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9.png" ContentType="image/png"/>
  <Override PartName="/ppt/media/image42.wmf" ContentType="image/x-wmf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series of demonstrations are based on an existing scenario entitled "Binni - Gateway to the Golden Bowl of Africa". This is a publicly available basic scenario generated by an international group of five nations (The Technical Co-operation Program - TTCP) to support experiments for Coalition Operations in Command and Control. The scenario is set in the fictional countries of Gao, Agadez and Binni in the year 20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Team extended this scenario considerably adding the depth necessary for a serious demonstration. A Coalition vignette was developed which deals with a specific operation in which the UN forces are attempting to keep mutually hostile forces apart long enough to enable peace negotiations. Incomplete, changing information, as well as deliberate mis-information from some parties, hampers the UN efforts. The series of CoAX demonstrations of increasing complexity based on this vignette are described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05F093D2-7048-4F29-8E20-0A35FDDC059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9.png"/><Relationship Id="rId20" Type="http://schemas.openxmlformats.org/officeDocument/2006/relationships/image" Target="../media/image7.png"/><Relationship Id="rId21" Type="http://schemas.openxmlformats.org/officeDocument/2006/relationships/image" Target="../media/image30.jpe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4.png"/><Relationship Id="rId33" Type="http://schemas.openxmlformats.org/officeDocument/2006/relationships/image" Target="../media/image41.wmf"/><Relationship Id="rId34" Type="http://schemas.openxmlformats.org/officeDocument/2006/relationships/image" Target="../media/image42.wmf"/><Relationship Id="rId35" Type="http://schemas.openxmlformats.org/officeDocument/2006/relationships/image" Target="../media/image43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1840" y="351468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T-Austin, UWF/IH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DC, DSTL, ISX, MIT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, USC/ISI, USPA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7040" y="33624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06520" y="162000"/>
            <a:ext cx="7689600" cy="3462120"/>
            <a:chOff x="506520" y="162000"/>
            <a:chExt cx="7689600" cy="3462120"/>
          </a:xfrm>
        </p:grpSpPr>
        <p:grpSp>
          <p:nvGrpSpPr>
            <p:cNvPr id="47" name=""/>
            <p:cNvGrpSpPr/>
            <p:nvPr/>
          </p:nvGrpSpPr>
          <p:grpSpPr>
            <a:xfrm>
              <a:off x="506520" y="162000"/>
              <a:ext cx="1790640" cy="3381480"/>
              <a:chOff x="506520" y="162000"/>
              <a:chExt cx="1790640" cy="33814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06520" y="162000"/>
                <a:ext cx="1790640" cy="811440"/>
                <a:chOff x="506520" y="162000"/>
                <a:chExt cx="1790640" cy="8114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40720" y="194760"/>
                  <a:ext cx="1721520" cy="745920"/>
                </a:xfrm>
                <a:prstGeom prst="ellipse">
                  <a:avLst/>
                </a:prstGeom>
                <a:noFill/>
                <a:ln w="50760">
                  <a:solidFill>
                    <a:srgbClr val="4c8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40720" y="194760"/>
                  <a:ext cx="1704960" cy="730080"/>
                </a:xfrm>
                <a:prstGeom prst="ellipse">
                  <a:avLst/>
                </a:prstGeom>
                <a:noFill/>
                <a:ln w="50760">
                  <a:solidFill>
                    <a:srgbClr val="558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57280" y="194760"/>
                  <a:ext cx="1670400" cy="730080"/>
                </a:xfrm>
                <a:prstGeom prst="ellipse">
                  <a:avLst/>
                </a:prstGeom>
                <a:noFill/>
                <a:ln w="50760">
                  <a:solidFill>
                    <a:srgbClr val="5d8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75280" y="210240"/>
                  <a:ext cx="1635840" cy="697680"/>
                </a:xfrm>
                <a:prstGeom prst="ellipse">
                  <a:avLst/>
                </a:prstGeom>
                <a:noFill/>
                <a:ln w="50760">
                  <a:solidFill>
                    <a:srgbClr val="669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91840" y="210240"/>
                  <a:ext cx="1604160" cy="697680"/>
                </a:xfrm>
                <a:prstGeom prst="ellipse">
                  <a:avLst/>
                </a:prstGeom>
                <a:noFill/>
                <a:ln w="50760">
                  <a:solidFill>
                    <a:srgbClr val="6e9b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07320" y="227520"/>
                  <a:ext cx="1570680" cy="664920"/>
                </a:xfrm>
                <a:prstGeom prst="ellipse">
                  <a:avLst/>
                </a:prstGeom>
                <a:noFill/>
                <a:ln w="50760">
                  <a:solidFill>
                    <a:srgbClr val="77a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25320" y="227520"/>
                  <a:ext cx="1536120" cy="664920"/>
                </a:xfrm>
                <a:prstGeom prst="ellipse">
                  <a:avLst/>
                </a:prstGeom>
                <a:noFill/>
                <a:ln w="50760">
                  <a:solidFill>
                    <a:srgbClr val="7fa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41880" y="243000"/>
                  <a:ext cx="1501560" cy="632160"/>
                </a:xfrm>
                <a:prstGeom prst="ellipse">
                  <a:avLst/>
                </a:prstGeom>
                <a:noFill/>
                <a:ln w="50760">
                  <a:solidFill>
                    <a:srgbClr val="88a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59880" y="243000"/>
                  <a:ext cx="1467000" cy="632160"/>
                </a:xfrm>
                <a:prstGeom prst="ellipse">
                  <a:avLst/>
                </a:prstGeom>
                <a:noFill/>
                <a:ln w="50760">
                  <a:solidFill>
                    <a:srgbClr val="91b2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6440" y="259920"/>
                  <a:ext cx="1432440" cy="599760"/>
                </a:xfrm>
                <a:prstGeom prst="ellipse">
                  <a:avLst/>
                </a:prstGeom>
                <a:noFill/>
                <a:ln w="50760">
                  <a:solidFill>
                    <a:srgbClr val="99b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94440" y="259920"/>
                  <a:ext cx="1397880" cy="599760"/>
                </a:xfrm>
                <a:prstGeom prst="ellipse">
                  <a:avLst/>
                </a:prstGeom>
                <a:noFill/>
                <a:ln w="50760">
                  <a:solidFill>
                    <a:srgbClr val="a2be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11000" y="275760"/>
                  <a:ext cx="1364760" cy="568440"/>
                </a:xfrm>
                <a:prstGeom prst="ellipse">
                  <a:avLst/>
                </a:prstGeom>
                <a:noFill/>
                <a:ln w="50760">
                  <a:solidFill>
                    <a:srgbClr val="aac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27560" y="275760"/>
                  <a:ext cx="1330200" cy="568440"/>
                </a:xfrm>
                <a:prstGeom prst="ellipse">
                  <a:avLst/>
                </a:prstGeom>
                <a:noFill/>
                <a:ln w="50760">
                  <a:solidFill>
                    <a:srgbClr val="b3ca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5200" y="275760"/>
                  <a:ext cx="1295640" cy="551520"/>
                </a:xfrm>
                <a:prstGeom prst="ellipse">
                  <a:avLst/>
                </a:prstGeom>
                <a:noFill/>
                <a:ln w="50760">
                  <a:solidFill>
                    <a:srgbClr val="bbd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2120" y="291240"/>
                  <a:ext cx="1261080" cy="535680"/>
                </a:xfrm>
                <a:prstGeom prst="ellipse">
                  <a:avLst/>
                </a:prstGeom>
                <a:noFill/>
                <a:ln w="50760">
                  <a:solidFill>
                    <a:srgbClr val="c4d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9760" y="291240"/>
                  <a:ext cx="1226520" cy="5198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96680" y="308160"/>
                  <a:ext cx="1194480" cy="502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12160" y="308160"/>
                  <a:ext cx="1161360" cy="486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29800" y="324000"/>
                  <a:ext cx="1126800" cy="4705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720" y="324000"/>
                  <a:ext cx="1092240" cy="454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64360" y="340920"/>
                  <a:ext cx="1057680" cy="437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81280" y="340920"/>
                  <a:ext cx="1024560" cy="421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7840" y="356400"/>
                  <a:ext cx="990000" cy="4064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5480" y="356400"/>
                  <a:ext cx="955440" cy="389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32040" y="372600"/>
                  <a:ext cx="920880" cy="373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32040" y="372600"/>
                  <a:ext cx="904320" cy="373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50040" y="372600"/>
                  <a:ext cx="868320" cy="3578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66600" y="389160"/>
                  <a:ext cx="835200" cy="340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84600" y="389160"/>
                  <a:ext cx="802080" cy="324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01160" y="405000"/>
                  <a:ext cx="767520" cy="308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16640" y="405000"/>
                  <a:ext cx="735480" cy="292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34640" y="421920"/>
                  <a:ext cx="699480" cy="275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051200" y="421920"/>
                  <a:ext cx="666360" cy="258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069200" y="437760"/>
                  <a:ext cx="631800" cy="2426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085760" y="437760"/>
                  <a:ext cx="597240" cy="227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102320" y="454680"/>
                  <a:ext cx="563760" cy="2102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20320" y="454680"/>
                  <a:ext cx="528480" cy="194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136880" y="470520"/>
                  <a:ext cx="494640" cy="178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154520" y="470520"/>
                  <a:ext cx="460440" cy="162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71440" y="470520"/>
                  <a:ext cx="426960" cy="162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188000" y="486000"/>
                  <a:ext cx="393840" cy="130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204560" y="486000"/>
                  <a:ext cx="359640" cy="130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21480" y="502920"/>
                  <a:ext cx="325800" cy="96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239480" y="502920"/>
                  <a:ext cx="291240" cy="96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256040" y="518760"/>
                  <a:ext cx="256680" cy="65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272600" y="518760"/>
                  <a:ext cx="223920" cy="65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290600" y="535680"/>
                  <a:ext cx="187920" cy="32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307160" y="535680"/>
                  <a:ext cx="154800" cy="32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24800" y="551160"/>
                  <a:ext cx="118800" cy="2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341360" y="551160"/>
                  <a:ext cx="85680" cy="2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307160" y="518760"/>
                  <a:ext cx="136800" cy="65160"/>
                </a:xfrm>
                <a:prstGeom prst="ellipse">
                  <a:avLst/>
                </a:prstGeom>
                <a:solidFill>
                  <a:srgbClr val="ccd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520" y="162000"/>
                  <a:ext cx="1790640" cy="8114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7280" y="210240"/>
                  <a:ext cx="1688400" cy="714600"/>
                </a:xfrm>
                <a:prstGeom prst="ellipse">
                  <a:avLst/>
                </a:prstGeom>
                <a:noFill/>
                <a:ln w="76320">
                  <a:solidFill>
                    <a:srgbClr val="4cd3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6520" y="194760"/>
                  <a:ext cx="1774080" cy="745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4360" y="559800"/>
                  <a:ext cx="160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1400" y="263520"/>
                  <a:ext cx="114336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910" y="21563"/>
                      </a:moveTo>
                      <a:arcTo wR="10800" hR="10800" stAng="5683478" swAng="214713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910" y="21563"/>
                      </a:moveTo>
                      <a:arcTo wR="10800" hR="10800" stAng="5683478" swAng="2147139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107360" y="263520"/>
                  <a:ext cx="61344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48" y="21549"/>
                      </a:moveTo>
                      <a:arcTo wR="10800" hR="10800" stAng="5735431" swAng="21432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48" y="21549"/>
                      </a:moveTo>
                      <a:arcTo wR="10800" hR="10800" stAng="5735431" swAng="214326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363320" y="261000"/>
                  <a:ext cx="10188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47" y="21591"/>
                      </a:moveTo>
                      <a:arcTo wR="10800" hR="10800" stAng="5544130" swAng="21455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47" y="21591"/>
                      </a:moveTo>
                      <a:arcTo wR="10800" hR="10800" stAng="5544130" swAng="2145587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19160" y="195120"/>
                  <a:ext cx="76824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7160" y="324000"/>
                  <a:ext cx="1295280" cy="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8360" y="863280"/>
                  <a:ext cx="76536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" y="10128"/>
                      </a:moveTo>
                      <a:arcTo wR="10800" hR="10800" stAng="-10586015" swAng="10154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" y="10128"/>
                      </a:moveTo>
                      <a:arcTo wR="10800" hR="10800" stAng="-10586015" swAng="1015494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3560" y="766440"/>
                  <a:ext cx="1296720" cy="3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" y="9456"/>
                      </a:moveTo>
                      <a:arcTo wR="10800" hR="10800" stAng="-10371103" swAng="103711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" y="9456"/>
                      </a:moveTo>
                      <a:arcTo wR="10800" hR="10800" stAng="-10371103" swAng="1037110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9840" y="542880"/>
                  <a:ext cx="1601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1400" y="246600"/>
                  <a:ext cx="114336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910" y="21563"/>
                      </a:moveTo>
                      <a:arcTo wR="10800" hR="10800" stAng="5683478" swAng="214713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910" y="21563"/>
                      </a:moveTo>
                      <a:arcTo wR="10800" hR="10800" stAng="5683478" swAng="21471393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24280" y="246600"/>
                  <a:ext cx="61488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48" y="21549"/>
                      </a:moveTo>
                      <a:arcTo wR="10800" hR="10800" stAng="5735431" swAng="21432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48" y="21549"/>
                      </a:moveTo>
                      <a:arcTo wR="10800" hR="10800" stAng="5735431" swAng="2143268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363320" y="245520"/>
                  <a:ext cx="10188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47" y="21591"/>
                      </a:moveTo>
                      <a:arcTo wR="10800" hR="10800" stAng="5544130" swAng="21455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47" y="21591"/>
                      </a:moveTo>
                      <a:arcTo wR="10800" hR="10800" stAng="5544130" swAng="2145587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35720" y="177840"/>
                  <a:ext cx="76860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7160" y="290160"/>
                  <a:ext cx="1295280" cy="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24920" y="847800"/>
                  <a:ext cx="76536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" y="10128"/>
                      </a:moveTo>
                      <a:arcTo wR="10800" hR="10800" stAng="-10586015" swAng="10154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" y="10128"/>
                      </a:moveTo>
                      <a:arcTo wR="10800" hR="10800" stAng="-10586015" swAng="1015494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5000" y="734040"/>
                  <a:ext cx="1295280" cy="4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" y="9903"/>
                      </a:moveTo>
                      <a:arcTo wR="10800" hR="10800" stAng="-10514182" swAng="105141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" y="9903"/>
                      </a:moveTo>
                      <a:arcTo wR="10800" hR="10800" stAng="-10514182" swAng="10514182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1720" y="207720"/>
                  <a:ext cx="1704960" cy="717120"/>
                </a:xfrm>
                <a:prstGeom prst="ellipse">
                  <a:avLst/>
                </a:prstGeom>
                <a:noFill/>
                <a:ln w="25560">
                  <a:solidFill>
                    <a:srgbClr val="4c8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7280" y="315360"/>
                  <a:ext cx="1261800" cy="454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ca6ff"/>
                      </a:solidFill>
                      <a:latin typeface="Arial"/>
                    </a:rPr>
                    <a:t>DARP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3120" y="2356200"/>
                <a:ext cx="1117440" cy="11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CoABS%20Logo%20Final" descr=""/>
              <p:cNvPicPr/>
              <p:nvPr/>
            </p:nvPicPr>
            <p:blipFill>
              <a:blip r:embed="rId2"/>
              <a:stretch/>
            </p:blipFill>
            <p:spPr>
              <a:xfrm>
                <a:off x="687600" y="997200"/>
                <a:ext cx="1427040" cy="1335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coax-logo-globe-binni-2002" descr=""/>
            <p:cNvPicPr/>
            <p:nvPr/>
          </p:nvPicPr>
          <p:blipFill>
            <a:blip r:embed="rId3"/>
            <a:stretch/>
          </p:blipFill>
          <p:spPr>
            <a:xfrm>
              <a:off x="2925720" y="252360"/>
              <a:ext cx="3121200" cy="33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6878520" y="192240"/>
              <a:ext cx="1317600" cy="3317760"/>
              <a:chOff x="6878520" y="192240"/>
              <a:chExt cx="1317600" cy="3317760"/>
            </a:xfrm>
          </p:grpSpPr>
          <p:graphicFrame>
            <p:nvGraphicFramePr>
              <p:cNvPr id="125" name=""/>
              <p:cNvGraphicFramePr/>
              <p:nvPr/>
            </p:nvGraphicFramePr>
            <p:xfrm>
              <a:off x="6976800" y="1589040"/>
              <a:ext cx="1121040" cy="5223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76800" y="1589040"/>
                        <a:ext cx="1121040" cy="52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97680" y="192240"/>
                <a:ext cx="1081080" cy="11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78520" y="2378160"/>
                <a:ext cx="1317600" cy="113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4343400" y="609480"/>
            <a:ext cx="190512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3733560" y="685440"/>
            <a:ext cx="190476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38480" y="251460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43200" y="91440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52880" y="53352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72200" y="213372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634160" y="0"/>
            <a:ext cx="15098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4343400" y="609480"/>
            <a:ext cx="190512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733560" y="685440"/>
            <a:ext cx="190476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685800"/>
            <a:ext cx="190512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3505320" y="914400"/>
            <a:ext cx="17524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38480" y="251460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67080" y="289548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71800" y="129528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43200" y="91440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52880" y="91440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53352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213372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248520" y="251460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32720" y="0"/>
            <a:ext cx="1509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>
            <a:off x="4038480" y="762120"/>
            <a:ext cx="190512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3505320" y="914400"/>
            <a:ext cx="17524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81952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91440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70632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276372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32720" y="0"/>
            <a:ext cx="1509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357120" y="3301920"/>
            <a:ext cx="3673440" cy="2695680"/>
            <a:chOff x="357120" y="3301920"/>
            <a:chExt cx="3673440" cy="2695680"/>
          </a:xfrm>
        </p:grpSpPr>
        <p:sp>
          <p:nvSpPr>
            <p:cNvPr id="844" name=""/>
            <p:cNvSpPr/>
            <p:nvPr/>
          </p:nvSpPr>
          <p:spPr>
            <a:xfrm>
              <a:off x="357120" y="3301920"/>
              <a:ext cx="3673440" cy="2695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2240" y="33084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US HQ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49760" y="5140440"/>
              <a:ext cx="22867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nformation Tru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valu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05280" y="1425600"/>
            <a:ext cx="3457440" cy="1395360"/>
            <a:chOff x="3005280" y="1425600"/>
            <a:chExt cx="3457440" cy="1395360"/>
          </a:xfrm>
        </p:grpSpPr>
        <p:sp>
          <p:nvSpPr>
            <p:cNvPr id="848" name=""/>
            <p:cNvSpPr/>
            <p:nvPr/>
          </p:nvSpPr>
          <p:spPr>
            <a:xfrm>
              <a:off x="3005280" y="1425600"/>
              <a:ext cx="3457440" cy="1395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06000" y="14256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F H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Agent Cre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453360" y="4262400"/>
            <a:ext cx="2014200" cy="1409760"/>
            <a:chOff x="6453360" y="4262400"/>
            <a:chExt cx="2014200" cy="1409760"/>
          </a:xfrm>
        </p:grpSpPr>
        <p:sp>
          <p:nvSpPr>
            <p:cNvPr id="852" name=""/>
            <p:cNvSpPr/>
            <p:nvPr/>
          </p:nvSpPr>
          <p:spPr>
            <a:xfrm>
              <a:off x="6453360" y="4262400"/>
              <a:ext cx="2014200" cy="1409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539040" y="52228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53360" y="426240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rabello H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322800" y="2281320"/>
            <a:ext cx="3357360" cy="2911320"/>
            <a:chOff x="3322800" y="2281320"/>
            <a:chExt cx="3357360" cy="2911320"/>
          </a:xfrm>
        </p:grpSpPr>
        <p:grpSp>
          <p:nvGrpSpPr>
            <p:cNvPr id="856" name=""/>
            <p:cNvGrpSpPr/>
            <p:nvPr/>
          </p:nvGrpSpPr>
          <p:grpSpPr>
            <a:xfrm>
              <a:off x="3322800" y="2281320"/>
              <a:ext cx="2820960" cy="449280"/>
              <a:chOff x="3322800" y="2281320"/>
              <a:chExt cx="2820960" cy="449280"/>
            </a:xfrm>
          </p:grpSpPr>
          <p:sp>
            <p:nvSpPr>
              <p:cNvPr id="857" name=""/>
              <p:cNvSpPr/>
              <p:nvPr/>
            </p:nvSpPr>
            <p:spPr>
              <a:xfrm>
                <a:off x="3322800" y="2281320"/>
                <a:ext cx="1365480" cy="44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Matchm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78640" y="2281320"/>
                <a:ext cx="1365120" cy="44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InfoBro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 flipH="1" flipV="1">
              <a:off x="4402080" y="2820960"/>
              <a:ext cx="2247840" cy="23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5516640" y="2790720"/>
              <a:ext cx="1163520" cy="24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97360" y="340524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Advert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058760" y="4137120"/>
            <a:ext cx="5310360" cy="1054080"/>
            <a:chOff x="1058760" y="4137120"/>
            <a:chExt cx="5310360" cy="1054080"/>
          </a:xfrm>
        </p:grpSpPr>
        <p:sp>
          <p:nvSpPr>
            <p:cNvPr id="863" name=""/>
            <p:cNvSpPr/>
            <p:nvPr/>
          </p:nvSpPr>
          <p:spPr>
            <a:xfrm flipV="1">
              <a:off x="1192320" y="4137120"/>
              <a:ext cx="1287360" cy="68112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1994040" y="4325760"/>
              <a:ext cx="4375080" cy="865440"/>
              <a:chOff x="1994040" y="4325760"/>
              <a:chExt cx="4375080" cy="86544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1994040" y="4689360"/>
                <a:ext cx="612720" cy="43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00280" y="4325760"/>
                <a:ext cx="1069920" cy="57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Arabel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edi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14840" y="4614840"/>
                <a:ext cx="2654280" cy="5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45086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058760" y="4340160"/>
              <a:ext cx="142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Cre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42160" y="2789280"/>
            <a:ext cx="4680720" cy="1311480"/>
            <a:chOff x="542160" y="2789280"/>
            <a:chExt cx="4680720" cy="1311480"/>
          </a:xfrm>
        </p:grpSpPr>
        <p:sp>
          <p:nvSpPr>
            <p:cNvPr id="871" name=""/>
            <p:cNvSpPr/>
            <p:nvPr/>
          </p:nvSpPr>
          <p:spPr>
            <a:xfrm flipV="1">
              <a:off x="1874880" y="2789280"/>
              <a:ext cx="168912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1968480" y="2789280"/>
              <a:ext cx="325440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09520" y="2797200"/>
              <a:ext cx="172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Discover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Config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42160" y="3701880"/>
              <a:ext cx="1665000" cy="398880"/>
              <a:chOff x="542160" y="3701880"/>
              <a:chExt cx="1665000" cy="398880"/>
            </a:xfrm>
          </p:grpSpPr>
          <p:sp>
            <p:nvSpPr>
              <p:cNvPr id="875" name=""/>
              <p:cNvSpPr/>
              <p:nvPr/>
            </p:nvSpPr>
            <p:spPr>
              <a:xfrm>
                <a:off x="565200" y="3708360"/>
                <a:ext cx="1595520" cy="387360"/>
              </a:xfrm>
              <a:prstGeom prst="rect">
                <a:avLst/>
              </a:prstGeom>
              <a:solidFill>
                <a:srgbClr val="cc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42160" y="3701880"/>
                <a:ext cx="166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Agent Toolk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F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453360" y="4262400"/>
            <a:ext cx="2014200" cy="1409760"/>
            <a:chOff x="6453360" y="4262400"/>
            <a:chExt cx="2014200" cy="1409760"/>
          </a:xfrm>
        </p:grpSpPr>
        <p:grpSp>
          <p:nvGrpSpPr>
            <p:cNvPr id="881" name=""/>
            <p:cNvGrpSpPr/>
            <p:nvPr/>
          </p:nvGrpSpPr>
          <p:grpSpPr>
            <a:xfrm>
              <a:off x="6453360" y="4262400"/>
              <a:ext cx="2014200" cy="1409760"/>
              <a:chOff x="6453360" y="4262400"/>
              <a:chExt cx="2014200" cy="1409760"/>
            </a:xfrm>
          </p:grpSpPr>
          <p:sp>
            <p:nvSpPr>
              <p:cNvPr id="882" name=""/>
              <p:cNvSpPr/>
              <p:nvPr/>
            </p:nvSpPr>
            <p:spPr>
              <a:xfrm>
                <a:off x="6453360" y="4262400"/>
                <a:ext cx="2014200" cy="1409760"/>
              </a:xfrm>
              <a:prstGeom prst="rect">
                <a:avLst/>
              </a:prstGeom>
              <a:solidFill>
                <a:srgbClr val="cc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268040" y="4262400"/>
                <a:ext cx="1198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rabel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539040" y="52228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57120" y="3301920"/>
            <a:ext cx="4280040" cy="2695680"/>
            <a:chOff x="357120" y="3301920"/>
            <a:chExt cx="4280040" cy="2695680"/>
          </a:xfrm>
        </p:grpSpPr>
        <p:grpSp>
          <p:nvGrpSpPr>
            <p:cNvPr id="886" name=""/>
            <p:cNvGrpSpPr/>
            <p:nvPr/>
          </p:nvGrpSpPr>
          <p:grpSpPr>
            <a:xfrm>
              <a:off x="357120" y="3301920"/>
              <a:ext cx="4280040" cy="2695680"/>
              <a:chOff x="357120" y="3301920"/>
              <a:chExt cx="4280040" cy="2695680"/>
            </a:xfrm>
          </p:grpSpPr>
          <p:sp>
            <p:nvSpPr>
              <p:cNvPr id="887" name=""/>
              <p:cNvSpPr/>
              <p:nvPr/>
            </p:nvSpPr>
            <p:spPr>
              <a:xfrm>
                <a:off x="357120" y="3301920"/>
                <a:ext cx="4280040" cy="2695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2240" y="330840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US HQ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2390760" y="3902040"/>
              <a:ext cx="2089080" cy="64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formation Tru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valu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127320" y="4514760"/>
              <a:ext cx="792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96960" y="5054760"/>
              <a:ext cx="1070280" cy="57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rabe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edi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3529080" y="5081760"/>
            <a:ext cx="3100320" cy="337320"/>
            <a:chOff x="3529080" y="5081760"/>
            <a:chExt cx="3100320" cy="337320"/>
          </a:xfrm>
        </p:grpSpPr>
        <p:sp>
          <p:nvSpPr>
            <p:cNvPr id="893" name=""/>
            <p:cNvSpPr/>
            <p:nvPr/>
          </p:nvSpPr>
          <p:spPr>
            <a:xfrm>
              <a:off x="3529080" y="5381640"/>
              <a:ext cx="31003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80600" y="508176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Subsc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74720" y="1535040"/>
            <a:ext cx="2014560" cy="1384200"/>
            <a:chOff x="774720" y="1535040"/>
            <a:chExt cx="2014560" cy="1384200"/>
          </a:xfrm>
        </p:grpSpPr>
        <p:grpSp>
          <p:nvGrpSpPr>
            <p:cNvPr id="896" name=""/>
            <p:cNvGrpSpPr/>
            <p:nvPr/>
          </p:nvGrpSpPr>
          <p:grpSpPr>
            <a:xfrm>
              <a:off x="774720" y="1535040"/>
              <a:ext cx="2014560" cy="1384200"/>
              <a:chOff x="774720" y="1535040"/>
              <a:chExt cx="2014560" cy="138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774720" y="1535040"/>
                <a:ext cx="2014560" cy="138420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390680" y="1535040"/>
                <a:ext cx="139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FMC 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1246320" y="23320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vy C4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233880" y="1528920"/>
            <a:ext cx="5424480" cy="1395360"/>
            <a:chOff x="3233880" y="1528920"/>
            <a:chExt cx="5424480" cy="1395360"/>
          </a:xfrm>
        </p:grpSpPr>
        <p:grpSp>
          <p:nvGrpSpPr>
            <p:cNvPr id="901" name=""/>
            <p:cNvGrpSpPr/>
            <p:nvPr/>
          </p:nvGrpSpPr>
          <p:grpSpPr>
            <a:xfrm>
              <a:off x="3233880" y="1528920"/>
              <a:ext cx="5424480" cy="1395360"/>
              <a:chOff x="3233880" y="1528920"/>
              <a:chExt cx="5424480" cy="1395360"/>
            </a:xfrm>
          </p:grpSpPr>
          <p:sp>
            <p:nvSpPr>
              <p:cNvPr id="902" name=""/>
              <p:cNvSpPr/>
              <p:nvPr/>
            </p:nvSpPr>
            <p:spPr>
              <a:xfrm>
                <a:off x="3233880" y="1528920"/>
                <a:ext cx="5424480" cy="1395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234600" y="152892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F 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5676840" y="2301840"/>
              <a:ext cx="1365480" cy="3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Matchm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91360" y="2301840"/>
              <a:ext cx="1365120" cy="3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Info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14600" y="2305080"/>
              <a:ext cx="21146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cision Desk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6800" y="1747800"/>
              <a:ext cx="132372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FC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93560" y="2631960"/>
            <a:ext cx="3260880" cy="2210040"/>
            <a:chOff x="493560" y="2631960"/>
            <a:chExt cx="3260880" cy="2210040"/>
          </a:xfrm>
        </p:grpSpPr>
        <p:sp>
          <p:nvSpPr>
            <p:cNvPr id="909" name=""/>
            <p:cNvSpPr/>
            <p:nvPr/>
          </p:nvSpPr>
          <p:spPr>
            <a:xfrm>
              <a:off x="493560" y="3902040"/>
              <a:ext cx="1751040" cy="64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sset 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edi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593720" y="2679840"/>
              <a:ext cx="2160720" cy="121752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293840" y="2631960"/>
              <a:ext cx="239760" cy="1293840"/>
            </a:xfrm>
            <a:prstGeom prst="line">
              <a:avLst/>
            </a:prstGeom>
            <a:ln w="28440">
              <a:solidFill>
                <a:srgbClr val="28036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68400" y="4540320"/>
              <a:ext cx="741600" cy="301680"/>
            </a:xfrm>
            <a:custGeom>
              <a:avLst/>
              <a:gdLst/>
              <a:ahLst/>
              <a:rect l="l" t="t" r="r" b="b"/>
              <a:pathLst>
                <a:path w="467" h="190">
                  <a:moveTo>
                    <a:pt x="467" y="0"/>
                  </a:moveTo>
                  <a:cubicBezTo>
                    <a:pt x="463" y="58"/>
                    <a:pt x="460" y="117"/>
                    <a:pt x="420" y="148"/>
                  </a:cubicBezTo>
                  <a:cubicBezTo>
                    <a:pt x="380" y="179"/>
                    <a:pt x="288" y="190"/>
                    <a:pt x="226" y="187"/>
                  </a:cubicBezTo>
                  <a:cubicBezTo>
                    <a:pt x="164" y="184"/>
                    <a:pt x="84" y="163"/>
                    <a:pt x="46" y="133"/>
                  </a:cubicBezTo>
                  <a:cubicBezTo>
                    <a:pt x="8" y="103"/>
                    <a:pt x="4" y="55"/>
                    <a:pt x="0" y="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419840" y="2627280"/>
            <a:ext cx="6074640" cy="2627280"/>
            <a:chOff x="1419840" y="2627280"/>
            <a:chExt cx="6074640" cy="2627280"/>
          </a:xfrm>
        </p:grpSpPr>
        <p:grpSp>
          <p:nvGrpSpPr>
            <p:cNvPr id="914" name=""/>
            <p:cNvGrpSpPr/>
            <p:nvPr/>
          </p:nvGrpSpPr>
          <p:grpSpPr>
            <a:xfrm>
              <a:off x="1419840" y="2627280"/>
              <a:ext cx="3093480" cy="1293840"/>
              <a:chOff x="1419840" y="2627280"/>
              <a:chExt cx="3093480" cy="1293840"/>
            </a:xfrm>
          </p:grpSpPr>
          <p:sp>
            <p:nvSpPr>
              <p:cNvPr id="915" name=""/>
              <p:cNvSpPr/>
              <p:nvPr/>
            </p:nvSpPr>
            <p:spPr>
              <a:xfrm>
                <a:off x="2087640" y="2627280"/>
                <a:ext cx="1020600" cy="1293840"/>
              </a:xfrm>
              <a:prstGeom prst="line">
                <a:avLst/>
              </a:prstGeom>
              <a:ln w="28440">
                <a:solidFill>
                  <a:srgbClr val="28036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3789360" y="2692440"/>
                <a:ext cx="723960" cy="117936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19840" y="29480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155040" y="29480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403880" y="2663640"/>
              <a:ext cx="3090600" cy="2590920"/>
              <a:chOff x="4403880" y="2663640"/>
              <a:chExt cx="3090600" cy="2590920"/>
            </a:xfrm>
          </p:grpSpPr>
          <p:sp>
            <p:nvSpPr>
              <p:cNvPr id="920" name=""/>
              <p:cNvSpPr/>
              <p:nvPr/>
            </p:nvSpPr>
            <p:spPr>
              <a:xfrm flipH="1" flipV="1">
                <a:off x="6454800" y="2664000"/>
                <a:ext cx="195120" cy="259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6680160" y="2664000"/>
                <a:ext cx="814320" cy="258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63800" y="354168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Adverti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4403880" y="2663640"/>
                <a:ext cx="1697040" cy="162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4446720" y="2664000"/>
                <a:ext cx="2921040" cy="16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of Ev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dez submarine attack - agents alert appropriate HQ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ualty data collected by agents and used to effect timely medev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country, Arabello, joins the Coalition 'on-the-fly' - integrated by agent enab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abello's ASW sensor grid data fused with Coalition - translator agents generated on-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-mediated tasking - countermeasures deployed based on predicte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chievement of 'command agility' for NC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construction of Coalition comma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teroperability between legacy / previously incompatib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facilitate selective sharing of information and control of appropriate agent behavior - leading to an assured and secur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composition and dynamic reconfiguration lead to adaptive responses to unexpecte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onolithic - efficient, effective and less bri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87040" y="33624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coax-logo-globe-binni-2002" descr=""/>
          <p:cNvPicPr/>
          <p:nvPr/>
        </p:nvPicPr>
        <p:blipFill>
          <a:blip r:embed="rId1"/>
          <a:stretch/>
        </p:blipFill>
        <p:spPr>
          <a:xfrm>
            <a:off x="2989440" y="1519200"/>
            <a:ext cx="3120840" cy="33717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2282760" y="511956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938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939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1013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5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1018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1019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1024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5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9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030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1037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1038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1041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044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1045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1046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885400" y="649116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nd of CoAX 2002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of Ev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dez submarine attack - agents alert appropriate HQ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ualty data collected by agents and used to effect timely medev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country, Arabello, joins the Coalition 'on-the-fly' - integrated by agent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abello's ASW sensor grid data fused with Coalition - translator agents generated on-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-mediated tasking - countermeasures deployed based on predicte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AX_Binni_2002_Countries_All-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57200" y="0"/>
            <a:ext cx="8685360" cy="6858000"/>
            <a:chOff x="457200" y="0"/>
            <a:chExt cx="8685360" cy="6858000"/>
          </a:xfrm>
        </p:grpSpPr>
        <p:sp>
          <p:nvSpPr>
            <p:cNvPr id="136" name=""/>
            <p:cNvSpPr/>
            <p:nvPr/>
          </p:nvSpPr>
          <p:spPr>
            <a:xfrm>
              <a:off x="6642000" y="0"/>
              <a:ext cx="250056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afdb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120" y="600120"/>
              <a:ext cx="7991640" cy="6076800"/>
            </a:xfrm>
            <a:custGeom>
              <a:avLst/>
              <a:gdLst/>
              <a:ahLst/>
              <a:rect l="l" t="t" r="r" b="b"/>
              <a:pathLst>
                <a:path w="5034" h="3828">
                  <a:moveTo>
                    <a:pt x="123" y="3402"/>
                  </a:moveTo>
                  <a:lnTo>
                    <a:pt x="129" y="2346"/>
                  </a:lnTo>
                  <a:lnTo>
                    <a:pt x="93" y="2268"/>
                  </a:lnTo>
                  <a:lnTo>
                    <a:pt x="141" y="2220"/>
                  </a:lnTo>
                  <a:lnTo>
                    <a:pt x="153" y="1974"/>
                  </a:lnTo>
                  <a:lnTo>
                    <a:pt x="123" y="1932"/>
                  </a:lnTo>
                  <a:lnTo>
                    <a:pt x="141" y="1854"/>
                  </a:lnTo>
                  <a:lnTo>
                    <a:pt x="135" y="1728"/>
                  </a:lnTo>
                  <a:lnTo>
                    <a:pt x="129" y="1614"/>
                  </a:lnTo>
                  <a:lnTo>
                    <a:pt x="171" y="1560"/>
                  </a:lnTo>
                  <a:lnTo>
                    <a:pt x="123" y="1470"/>
                  </a:lnTo>
                  <a:lnTo>
                    <a:pt x="111" y="1410"/>
                  </a:lnTo>
                  <a:lnTo>
                    <a:pt x="69" y="1368"/>
                  </a:lnTo>
                  <a:lnTo>
                    <a:pt x="0" y="1209"/>
                  </a:lnTo>
                  <a:lnTo>
                    <a:pt x="39" y="1026"/>
                  </a:lnTo>
                  <a:lnTo>
                    <a:pt x="87" y="1002"/>
                  </a:lnTo>
                  <a:lnTo>
                    <a:pt x="147" y="1026"/>
                  </a:lnTo>
                  <a:lnTo>
                    <a:pt x="201" y="1056"/>
                  </a:lnTo>
                  <a:lnTo>
                    <a:pt x="261" y="1056"/>
                  </a:lnTo>
                  <a:lnTo>
                    <a:pt x="315" y="1086"/>
                  </a:lnTo>
                  <a:lnTo>
                    <a:pt x="357" y="1086"/>
                  </a:lnTo>
                  <a:lnTo>
                    <a:pt x="411" y="1062"/>
                  </a:lnTo>
                  <a:lnTo>
                    <a:pt x="441" y="1008"/>
                  </a:lnTo>
                  <a:lnTo>
                    <a:pt x="477" y="966"/>
                  </a:lnTo>
                  <a:lnTo>
                    <a:pt x="513" y="906"/>
                  </a:lnTo>
                  <a:lnTo>
                    <a:pt x="561" y="858"/>
                  </a:lnTo>
                  <a:lnTo>
                    <a:pt x="597" y="774"/>
                  </a:lnTo>
                  <a:lnTo>
                    <a:pt x="642" y="744"/>
                  </a:lnTo>
                  <a:lnTo>
                    <a:pt x="693" y="720"/>
                  </a:lnTo>
                  <a:lnTo>
                    <a:pt x="729" y="726"/>
                  </a:lnTo>
                  <a:lnTo>
                    <a:pt x="783" y="744"/>
                  </a:lnTo>
                  <a:lnTo>
                    <a:pt x="831" y="744"/>
                  </a:lnTo>
                  <a:lnTo>
                    <a:pt x="855" y="690"/>
                  </a:lnTo>
                  <a:lnTo>
                    <a:pt x="897" y="726"/>
                  </a:lnTo>
                  <a:lnTo>
                    <a:pt x="963" y="702"/>
                  </a:lnTo>
                  <a:lnTo>
                    <a:pt x="987" y="732"/>
                  </a:lnTo>
                  <a:lnTo>
                    <a:pt x="1029" y="720"/>
                  </a:lnTo>
                  <a:lnTo>
                    <a:pt x="1077" y="744"/>
                  </a:lnTo>
                  <a:lnTo>
                    <a:pt x="1113" y="744"/>
                  </a:lnTo>
                  <a:lnTo>
                    <a:pt x="1149" y="744"/>
                  </a:lnTo>
                  <a:lnTo>
                    <a:pt x="1215" y="774"/>
                  </a:lnTo>
                  <a:lnTo>
                    <a:pt x="1233" y="714"/>
                  </a:lnTo>
                  <a:lnTo>
                    <a:pt x="1263" y="762"/>
                  </a:lnTo>
                  <a:lnTo>
                    <a:pt x="1257" y="816"/>
                  </a:lnTo>
                  <a:lnTo>
                    <a:pt x="1293" y="792"/>
                  </a:lnTo>
                  <a:lnTo>
                    <a:pt x="1335" y="810"/>
                  </a:lnTo>
                  <a:lnTo>
                    <a:pt x="1407" y="828"/>
                  </a:lnTo>
                  <a:lnTo>
                    <a:pt x="1389" y="756"/>
                  </a:lnTo>
                  <a:lnTo>
                    <a:pt x="1347" y="726"/>
                  </a:lnTo>
                  <a:lnTo>
                    <a:pt x="1311" y="696"/>
                  </a:lnTo>
                  <a:lnTo>
                    <a:pt x="1299" y="642"/>
                  </a:lnTo>
                  <a:lnTo>
                    <a:pt x="1317" y="600"/>
                  </a:lnTo>
                  <a:lnTo>
                    <a:pt x="1347" y="570"/>
                  </a:lnTo>
                  <a:lnTo>
                    <a:pt x="1413" y="546"/>
                  </a:lnTo>
                  <a:lnTo>
                    <a:pt x="1461" y="588"/>
                  </a:lnTo>
                  <a:lnTo>
                    <a:pt x="1521" y="600"/>
                  </a:lnTo>
                  <a:lnTo>
                    <a:pt x="1575" y="624"/>
                  </a:lnTo>
                  <a:lnTo>
                    <a:pt x="1617" y="642"/>
                  </a:lnTo>
                  <a:lnTo>
                    <a:pt x="1653" y="660"/>
                  </a:lnTo>
                  <a:lnTo>
                    <a:pt x="1719" y="600"/>
                  </a:lnTo>
                  <a:lnTo>
                    <a:pt x="1785" y="582"/>
                  </a:lnTo>
                  <a:lnTo>
                    <a:pt x="1851" y="606"/>
                  </a:lnTo>
                  <a:lnTo>
                    <a:pt x="1875" y="648"/>
                  </a:lnTo>
                  <a:lnTo>
                    <a:pt x="1929" y="684"/>
                  </a:lnTo>
                  <a:lnTo>
                    <a:pt x="1983" y="630"/>
                  </a:lnTo>
                  <a:lnTo>
                    <a:pt x="2007" y="600"/>
                  </a:lnTo>
                  <a:lnTo>
                    <a:pt x="2067" y="522"/>
                  </a:lnTo>
                  <a:lnTo>
                    <a:pt x="2103" y="486"/>
                  </a:lnTo>
                  <a:lnTo>
                    <a:pt x="2139" y="474"/>
                  </a:lnTo>
                  <a:lnTo>
                    <a:pt x="2175" y="450"/>
                  </a:lnTo>
                  <a:lnTo>
                    <a:pt x="2217" y="426"/>
                  </a:lnTo>
                  <a:lnTo>
                    <a:pt x="2253" y="414"/>
                  </a:lnTo>
                  <a:lnTo>
                    <a:pt x="2271" y="468"/>
                  </a:lnTo>
                  <a:lnTo>
                    <a:pt x="2307" y="498"/>
                  </a:lnTo>
                  <a:lnTo>
                    <a:pt x="2367" y="516"/>
                  </a:lnTo>
                  <a:lnTo>
                    <a:pt x="2481" y="510"/>
                  </a:lnTo>
                  <a:lnTo>
                    <a:pt x="2559" y="498"/>
                  </a:lnTo>
                  <a:lnTo>
                    <a:pt x="2667" y="498"/>
                  </a:lnTo>
                  <a:lnTo>
                    <a:pt x="2757" y="516"/>
                  </a:lnTo>
                  <a:lnTo>
                    <a:pt x="2805" y="558"/>
                  </a:lnTo>
                  <a:lnTo>
                    <a:pt x="2841" y="588"/>
                  </a:lnTo>
                  <a:lnTo>
                    <a:pt x="2889" y="594"/>
                  </a:lnTo>
                  <a:lnTo>
                    <a:pt x="2931" y="576"/>
                  </a:lnTo>
                  <a:lnTo>
                    <a:pt x="2943" y="528"/>
                  </a:lnTo>
                  <a:lnTo>
                    <a:pt x="2955" y="492"/>
                  </a:lnTo>
                  <a:lnTo>
                    <a:pt x="3039" y="480"/>
                  </a:lnTo>
                  <a:lnTo>
                    <a:pt x="3111" y="486"/>
                  </a:lnTo>
                  <a:lnTo>
                    <a:pt x="3165" y="522"/>
                  </a:lnTo>
                  <a:lnTo>
                    <a:pt x="3255" y="534"/>
                  </a:lnTo>
                  <a:lnTo>
                    <a:pt x="3339" y="564"/>
                  </a:lnTo>
                  <a:lnTo>
                    <a:pt x="3417" y="570"/>
                  </a:lnTo>
                  <a:lnTo>
                    <a:pt x="3453" y="510"/>
                  </a:lnTo>
                  <a:lnTo>
                    <a:pt x="3507" y="480"/>
                  </a:lnTo>
                  <a:lnTo>
                    <a:pt x="3567" y="474"/>
                  </a:lnTo>
                  <a:lnTo>
                    <a:pt x="3603" y="468"/>
                  </a:lnTo>
                  <a:lnTo>
                    <a:pt x="3627" y="432"/>
                  </a:lnTo>
                  <a:lnTo>
                    <a:pt x="3705" y="396"/>
                  </a:lnTo>
                  <a:lnTo>
                    <a:pt x="3741" y="336"/>
                  </a:lnTo>
                  <a:lnTo>
                    <a:pt x="3777" y="288"/>
                  </a:lnTo>
                  <a:lnTo>
                    <a:pt x="3801" y="240"/>
                  </a:lnTo>
                  <a:lnTo>
                    <a:pt x="3807" y="204"/>
                  </a:lnTo>
                  <a:lnTo>
                    <a:pt x="3849" y="156"/>
                  </a:lnTo>
                  <a:lnTo>
                    <a:pt x="3897" y="114"/>
                  </a:lnTo>
                  <a:lnTo>
                    <a:pt x="3933" y="102"/>
                  </a:lnTo>
                  <a:lnTo>
                    <a:pt x="3945" y="36"/>
                  </a:lnTo>
                  <a:lnTo>
                    <a:pt x="3993" y="0"/>
                  </a:lnTo>
                  <a:lnTo>
                    <a:pt x="4017" y="66"/>
                  </a:lnTo>
                  <a:lnTo>
                    <a:pt x="4041" y="114"/>
                  </a:lnTo>
                  <a:lnTo>
                    <a:pt x="4083" y="132"/>
                  </a:lnTo>
                  <a:lnTo>
                    <a:pt x="4113" y="156"/>
                  </a:lnTo>
                  <a:lnTo>
                    <a:pt x="4125" y="177"/>
                  </a:lnTo>
                  <a:lnTo>
                    <a:pt x="4092" y="174"/>
                  </a:lnTo>
                  <a:lnTo>
                    <a:pt x="4047" y="195"/>
                  </a:lnTo>
                  <a:lnTo>
                    <a:pt x="4056" y="255"/>
                  </a:lnTo>
                  <a:lnTo>
                    <a:pt x="4089" y="276"/>
                  </a:lnTo>
                  <a:lnTo>
                    <a:pt x="4125" y="294"/>
                  </a:lnTo>
                  <a:lnTo>
                    <a:pt x="4161" y="288"/>
                  </a:lnTo>
                  <a:lnTo>
                    <a:pt x="4203" y="258"/>
                  </a:lnTo>
                  <a:lnTo>
                    <a:pt x="4191" y="222"/>
                  </a:lnTo>
                  <a:lnTo>
                    <a:pt x="4179" y="186"/>
                  </a:lnTo>
                  <a:lnTo>
                    <a:pt x="4209" y="201"/>
                  </a:lnTo>
                  <a:lnTo>
                    <a:pt x="4239" y="264"/>
                  </a:lnTo>
                  <a:lnTo>
                    <a:pt x="4251" y="324"/>
                  </a:lnTo>
                  <a:lnTo>
                    <a:pt x="4263" y="384"/>
                  </a:lnTo>
                  <a:lnTo>
                    <a:pt x="4263" y="444"/>
                  </a:lnTo>
                  <a:lnTo>
                    <a:pt x="4233" y="468"/>
                  </a:lnTo>
                  <a:lnTo>
                    <a:pt x="4194" y="492"/>
                  </a:lnTo>
                  <a:lnTo>
                    <a:pt x="4248" y="498"/>
                  </a:lnTo>
                  <a:lnTo>
                    <a:pt x="4263" y="516"/>
                  </a:lnTo>
                  <a:lnTo>
                    <a:pt x="4263" y="534"/>
                  </a:lnTo>
                  <a:lnTo>
                    <a:pt x="4212" y="585"/>
                  </a:lnTo>
                  <a:lnTo>
                    <a:pt x="4215" y="642"/>
                  </a:lnTo>
                  <a:lnTo>
                    <a:pt x="4221" y="708"/>
                  </a:lnTo>
                  <a:lnTo>
                    <a:pt x="4236" y="747"/>
                  </a:lnTo>
                  <a:lnTo>
                    <a:pt x="4263" y="786"/>
                  </a:lnTo>
                  <a:lnTo>
                    <a:pt x="4287" y="882"/>
                  </a:lnTo>
                  <a:lnTo>
                    <a:pt x="4299" y="930"/>
                  </a:lnTo>
                  <a:lnTo>
                    <a:pt x="4311" y="972"/>
                  </a:lnTo>
                  <a:lnTo>
                    <a:pt x="4347" y="1005"/>
                  </a:lnTo>
                  <a:lnTo>
                    <a:pt x="4371" y="1062"/>
                  </a:lnTo>
                  <a:lnTo>
                    <a:pt x="4407" y="1140"/>
                  </a:lnTo>
                  <a:lnTo>
                    <a:pt x="4437" y="1206"/>
                  </a:lnTo>
                  <a:lnTo>
                    <a:pt x="4443" y="1248"/>
                  </a:lnTo>
                  <a:lnTo>
                    <a:pt x="4440" y="1302"/>
                  </a:lnTo>
                  <a:lnTo>
                    <a:pt x="4470" y="1362"/>
                  </a:lnTo>
                  <a:lnTo>
                    <a:pt x="4485" y="1404"/>
                  </a:lnTo>
                  <a:lnTo>
                    <a:pt x="4509" y="1452"/>
                  </a:lnTo>
                  <a:lnTo>
                    <a:pt x="4545" y="1512"/>
                  </a:lnTo>
                  <a:lnTo>
                    <a:pt x="4581" y="1560"/>
                  </a:lnTo>
                  <a:lnTo>
                    <a:pt x="4605" y="1644"/>
                  </a:lnTo>
                  <a:lnTo>
                    <a:pt x="4617" y="1686"/>
                  </a:lnTo>
                  <a:lnTo>
                    <a:pt x="4659" y="1722"/>
                  </a:lnTo>
                  <a:lnTo>
                    <a:pt x="4677" y="1770"/>
                  </a:lnTo>
                  <a:lnTo>
                    <a:pt x="4683" y="1830"/>
                  </a:lnTo>
                  <a:lnTo>
                    <a:pt x="4683" y="1878"/>
                  </a:lnTo>
                  <a:lnTo>
                    <a:pt x="4695" y="1938"/>
                  </a:lnTo>
                  <a:lnTo>
                    <a:pt x="4713" y="2004"/>
                  </a:lnTo>
                  <a:lnTo>
                    <a:pt x="4743" y="2088"/>
                  </a:lnTo>
                  <a:lnTo>
                    <a:pt x="4785" y="2148"/>
                  </a:lnTo>
                  <a:lnTo>
                    <a:pt x="4803" y="2196"/>
                  </a:lnTo>
                  <a:lnTo>
                    <a:pt x="4803" y="2268"/>
                  </a:lnTo>
                  <a:lnTo>
                    <a:pt x="4809" y="2340"/>
                  </a:lnTo>
                  <a:lnTo>
                    <a:pt x="4815" y="2388"/>
                  </a:lnTo>
                  <a:lnTo>
                    <a:pt x="4812" y="2442"/>
                  </a:lnTo>
                  <a:lnTo>
                    <a:pt x="4839" y="2472"/>
                  </a:lnTo>
                  <a:lnTo>
                    <a:pt x="4890" y="2508"/>
                  </a:lnTo>
                  <a:lnTo>
                    <a:pt x="4935" y="2556"/>
                  </a:lnTo>
                  <a:lnTo>
                    <a:pt x="4947" y="2616"/>
                  </a:lnTo>
                  <a:lnTo>
                    <a:pt x="4983" y="2694"/>
                  </a:lnTo>
                  <a:lnTo>
                    <a:pt x="5031" y="2790"/>
                  </a:lnTo>
                  <a:lnTo>
                    <a:pt x="5034" y="2826"/>
                  </a:lnTo>
                  <a:lnTo>
                    <a:pt x="5031" y="2862"/>
                  </a:lnTo>
                  <a:lnTo>
                    <a:pt x="4971" y="2952"/>
                  </a:lnTo>
                  <a:lnTo>
                    <a:pt x="4926" y="3042"/>
                  </a:lnTo>
                  <a:lnTo>
                    <a:pt x="4884" y="3117"/>
                  </a:lnTo>
                  <a:lnTo>
                    <a:pt x="4881" y="3204"/>
                  </a:lnTo>
                  <a:lnTo>
                    <a:pt x="4857" y="3300"/>
                  </a:lnTo>
                  <a:lnTo>
                    <a:pt x="4851" y="3366"/>
                  </a:lnTo>
                  <a:lnTo>
                    <a:pt x="4833" y="3468"/>
                  </a:lnTo>
                  <a:lnTo>
                    <a:pt x="4815" y="3546"/>
                  </a:lnTo>
                  <a:lnTo>
                    <a:pt x="4791" y="3630"/>
                  </a:lnTo>
                  <a:lnTo>
                    <a:pt x="4758" y="3567"/>
                  </a:lnTo>
                  <a:lnTo>
                    <a:pt x="4755" y="3480"/>
                  </a:lnTo>
                  <a:lnTo>
                    <a:pt x="4743" y="3432"/>
                  </a:lnTo>
                  <a:lnTo>
                    <a:pt x="4707" y="3408"/>
                  </a:lnTo>
                  <a:lnTo>
                    <a:pt x="4653" y="3420"/>
                  </a:lnTo>
                  <a:lnTo>
                    <a:pt x="4611" y="3426"/>
                  </a:lnTo>
                  <a:lnTo>
                    <a:pt x="4557" y="3408"/>
                  </a:lnTo>
                  <a:lnTo>
                    <a:pt x="4497" y="3396"/>
                  </a:lnTo>
                  <a:lnTo>
                    <a:pt x="4443" y="3420"/>
                  </a:lnTo>
                  <a:lnTo>
                    <a:pt x="4362" y="3438"/>
                  </a:lnTo>
                  <a:lnTo>
                    <a:pt x="4329" y="3492"/>
                  </a:lnTo>
                  <a:lnTo>
                    <a:pt x="4341" y="3546"/>
                  </a:lnTo>
                  <a:lnTo>
                    <a:pt x="4335" y="3588"/>
                  </a:lnTo>
                  <a:lnTo>
                    <a:pt x="4281" y="3600"/>
                  </a:lnTo>
                  <a:lnTo>
                    <a:pt x="4263" y="3642"/>
                  </a:lnTo>
                  <a:lnTo>
                    <a:pt x="4203" y="3633"/>
                  </a:lnTo>
                  <a:lnTo>
                    <a:pt x="4149" y="3636"/>
                  </a:lnTo>
                  <a:lnTo>
                    <a:pt x="4107" y="3660"/>
                  </a:lnTo>
                  <a:lnTo>
                    <a:pt x="4059" y="3696"/>
                  </a:lnTo>
                  <a:lnTo>
                    <a:pt x="3969" y="3720"/>
                  </a:lnTo>
                  <a:lnTo>
                    <a:pt x="3897" y="3738"/>
                  </a:lnTo>
                  <a:lnTo>
                    <a:pt x="3801" y="3774"/>
                  </a:lnTo>
                  <a:lnTo>
                    <a:pt x="3723" y="3786"/>
                  </a:lnTo>
                  <a:lnTo>
                    <a:pt x="3675" y="3792"/>
                  </a:lnTo>
                  <a:lnTo>
                    <a:pt x="3609" y="3828"/>
                  </a:lnTo>
                  <a:lnTo>
                    <a:pt x="3564" y="3825"/>
                  </a:lnTo>
                  <a:lnTo>
                    <a:pt x="3531" y="3804"/>
                  </a:lnTo>
                  <a:lnTo>
                    <a:pt x="3483" y="3810"/>
                  </a:lnTo>
                  <a:lnTo>
                    <a:pt x="3387" y="3804"/>
                  </a:lnTo>
                  <a:lnTo>
                    <a:pt x="3327" y="3762"/>
                  </a:lnTo>
                  <a:lnTo>
                    <a:pt x="3291" y="3732"/>
                  </a:lnTo>
                  <a:lnTo>
                    <a:pt x="3249" y="3714"/>
                  </a:lnTo>
                  <a:lnTo>
                    <a:pt x="3195" y="3648"/>
                  </a:lnTo>
                  <a:lnTo>
                    <a:pt x="3153" y="3612"/>
                  </a:lnTo>
                  <a:lnTo>
                    <a:pt x="3099" y="3606"/>
                  </a:lnTo>
                  <a:lnTo>
                    <a:pt x="3027" y="3606"/>
                  </a:lnTo>
                  <a:lnTo>
                    <a:pt x="2961" y="3582"/>
                  </a:lnTo>
                  <a:lnTo>
                    <a:pt x="2901" y="3564"/>
                  </a:lnTo>
                  <a:lnTo>
                    <a:pt x="2808" y="3561"/>
                  </a:lnTo>
                  <a:lnTo>
                    <a:pt x="2739" y="3522"/>
                  </a:lnTo>
                  <a:lnTo>
                    <a:pt x="2661" y="3486"/>
                  </a:lnTo>
                  <a:lnTo>
                    <a:pt x="2571" y="3438"/>
                  </a:lnTo>
                  <a:lnTo>
                    <a:pt x="2529" y="3402"/>
                  </a:lnTo>
                  <a:lnTo>
                    <a:pt x="2493" y="3348"/>
                  </a:lnTo>
                  <a:lnTo>
                    <a:pt x="2457" y="3306"/>
                  </a:lnTo>
                  <a:lnTo>
                    <a:pt x="2421" y="3258"/>
                  </a:lnTo>
                  <a:lnTo>
                    <a:pt x="2379" y="3270"/>
                  </a:lnTo>
                  <a:lnTo>
                    <a:pt x="2349" y="3222"/>
                  </a:lnTo>
                  <a:lnTo>
                    <a:pt x="2319" y="3186"/>
                  </a:lnTo>
                  <a:lnTo>
                    <a:pt x="2235" y="3186"/>
                  </a:lnTo>
                  <a:lnTo>
                    <a:pt x="2151" y="3204"/>
                  </a:lnTo>
                  <a:lnTo>
                    <a:pt x="2061" y="3234"/>
                  </a:lnTo>
                  <a:lnTo>
                    <a:pt x="1923" y="3246"/>
                  </a:lnTo>
                  <a:lnTo>
                    <a:pt x="1851" y="3264"/>
                  </a:lnTo>
                  <a:lnTo>
                    <a:pt x="1797" y="3282"/>
                  </a:lnTo>
                  <a:lnTo>
                    <a:pt x="1731" y="3306"/>
                  </a:lnTo>
                  <a:lnTo>
                    <a:pt x="1659" y="3384"/>
                  </a:lnTo>
                  <a:lnTo>
                    <a:pt x="1635" y="3414"/>
                  </a:lnTo>
                  <a:lnTo>
                    <a:pt x="1557" y="3378"/>
                  </a:lnTo>
                  <a:lnTo>
                    <a:pt x="1509" y="3324"/>
                  </a:lnTo>
                  <a:lnTo>
                    <a:pt x="1455" y="3330"/>
                  </a:lnTo>
                  <a:lnTo>
                    <a:pt x="1383" y="3312"/>
                  </a:lnTo>
                  <a:lnTo>
                    <a:pt x="1305" y="3330"/>
                  </a:lnTo>
                  <a:lnTo>
                    <a:pt x="1257" y="3378"/>
                  </a:lnTo>
                  <a:lnTo>
                    <a:pt x="1179" y="3384"/>
                  </a:lnTo>
                  <a:lnTo>
                    <a:pt x="1047" y="3384"/>
                  </a:lnTo>
                  <a:lnTo>
                    <a:pt x="987" y="3378"/>
                  </a:lnTo>
                  <a:lnTo>
                    <a:pt x="861" y="3369"/>
                  </a:lnTo>
                  <a:lnTo>
                    <a:pt x="771" y="3366"/>
                  </a:lnTo>
                  <a:lnTo>
                    <a:pt x="675" y="3402"/>
                  </a:lnTo>
                  <a:lnTo>
                    <a:pt x="627" y="3450"/>
                  </a:lnTo>
                  <a:lnTo>
                    <a:pt x="573" y="3426"/>
                  </a:lnTo>
                  <a:lnTo>
                    <a:pt x="504" y="3471"/>
                  </a:lnTo>
                  <a:lnTo>
                    <a:pt x="411" y="3510"/>
                  </a:lnTo>
                  <a:lnTo>
                    <a:pt x="339" y="3492"/>
                  </a:lnTo>
                  <a:lnTo>
                    <a:pt x="252" y="3483"/>
                  </a:lnTo>
                  <a:lnTo>
                    <a:pt x="189" y="3444"/>
                  </a:lnTo>
                  <a:lnTo>
                    <a:pt x="123" y="34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3a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5960" y="3708360"/>
              <a:ext cx="3473280" cy="2457360"/>
            </a:xfrm>
            <a:custGeom>
              <a:avLst/>
              <a:gdLst/>
              <a:ahLst/>
              <a:rect l="l" t="t" r="r" b="b"/>
              <a:pathLst>
                <a:path w="2188" h="1548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2" y="1428"/>
                  </a:lnTo>
                  <a:lnTo>
                    <a:pt x="1456" y="1408"/>
                  </a:lnTo>
                  <a:lnTo>
                    <a:pt x="1436" y="1392"/>
                  </a:lnTo>
                  <a:lnTo>
                    <a:pt x="1408" y="1364"/>
                  </a:lnTo>
                  <a:lnTo>
                    <a:pt x="1384" y="1348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196" y="1376"/>
                  </a:lnTo>
                  <a:lnTo>
                    <a:pt x="1176" y="1404"/>
                  </a:lnTo>
                  <a:lnTo>
                    <a:pt x="1156" y="1424"/>
                  </a:lnTo>
                  <a:lnTo>
                    <a:pt x="1100" y="1428"/>
                  </a:lnTo>
                  <a:lnTo>
                    <a:pt x="1076" y="1428"/>
                  </a:lnTo>
                  <a:lnTo>
                    <a:pt x="1048" y="1432"/>
                  </a:lnTo>
                  <a:lnTo>
                    <a:pt x="1024" y="1436"/>
                  </a:lnTo>
                  <a:lnTo>
                    <a:pt x="976" y="1432"/>
                  </a:lnTo>
                  <a:lnTo>
                    <a:pt x="952" y="1420"/>
                  </a:lnTo>
                  <a:lnTo>
                    <a:pt x="928" y="1412"/>
                  </a:lnTo>
                  <a:lnTo>
                    <a:pt x="904" y="1424"/>
                  </a:lnTo>
                  <a:lnTo>
                    <a:pt x="864" y="1436"/>
                  </a:lnTo>
                  <a:lnTo>
                    <a:pt x="832" y="1420"/>
                  </a:lnTo>
                  <a:lnTo>
                    <a:pt x="808" y="1416"/>
                  </a:lnTo>
                  <a:lnTo>
                    <a:pt x="784" y="1408"/>
                  </a:lnTo>
                  <a:lnTo>
                    <a:pt x="716" y="1396"/>
                  </a:lnTo>
                  <a:lnTo>
                    <a:pt x="692" y="1396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lnTo>
                    <a:pt x="560" y="1488"/>
                  </a:lnTo>
                  <a:cubicBezTo>
                    <a:pt x="551" y="1488"/>
                    <a:pt x="541" y="1488"/>
                    <a:pt x="532" y="1488"/>
                  </a:cubicBezTo>
                  <a:lnTo>
                    <a:pt x="508" y="1480"/>
                  </a:lnTo>
                  <a:lnTo>
                    <a:pt x="476" y="1460"/>
                  </a:lnTo>
                  <a:lnTo>
                    <a:pt x="412" y="1500"/>
                  </a:lnTo>
                  <a:lnTo>
                    <a:pt x="380" y="1524"/>
                  </a:lnTo>
                  <a:lnTo>
                    <a:pt x="356" y="1548"/>
                  </a:lnTo>
                  <a:lnTo>
                    <a:pt x="304" y="1548"/>
                  </a:lnTo>
                  <a:lnTo>
                    <a:pt x="252" y="1536"/>
                  </a:lnTo>
                  <a:lnTo>
                    <a:pt x="212" y="1532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2" y="1472"/>
                  </a:lnTo>
                  <a:lnTo>
                    <a:pt x="24" y="1468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2082960"/>
              <a:ext cx="1111320" cy="1517400"/>
            </a:xfrm>
            <a:custGeom>
              <a:avLst/>
              <a:gdLst/>
              <a:ahLst/>
              <a:rect l="l" t="t" r="r" b="b"/>
              <a:pathLst>
                <a:path w="700" h="956">
                  <a:moveTo>
                    <a:pt x="140" y="940"/>
                  </a:moveTo>
                  <a:lnTo>
                    <a:pt x="176" y="956"/>
                  </a:lnTo>
                  <a:lnTo>
                    <a:pt x="236" y="952"/>
                  </a:lnTo>
                  <a:lnTo>
                    <a:pt x="264" y="932"/>
                  </a:lnTo>
                  <a:lnTo>
                    <a:pt x="300" y="944"/>
                  </a:lnTo>
                  <a:lnTo>
                    <a:pt x="340" y="956"/>
                  </a:lnTo>
                  <a:lnTo>
                    <a:pt x="376" y="956"/>
                  </a:lnTo>
                  <a:lnTo>
                    <a:pt x="396" y="924"/>
                  </a:lnTo>
                  <a:lnTo>
                    <a:pt x="372" y="888"/>
                  </a:lnTo>
                  <a:lnTo>
                    <a:pt x="376" y="852"/>
                  </a:lnTo>
                  <a:lnTo>
                    <a:pt x="412" y="844"/>
                  </a:lnTo>
                  <a:lnTo>
                    <a:pt x="432" y="860"/>
                  </a:lnTo>
                  <a:lnTo>
                    <a:pt x="476" y="888"/>
                  </a:lnTo>
                  <a:lnTo>
                    <a:pt x="524" y="884"/>
                  </a:lnTo>
                  <a:lnTo>
                    <a:pt x="544" y="872"/>
                  </a:lnTo>
                  <a:lnTo>
                    <a:pt x="556" y="856"/>
                  </a:lnTo>
                  <a:lnTo>
                    <a:pt x="544" y="832"/>
                  </a:lnTo>
                  <a:lnTo>
                    <a:pt x="544" y="780"/>
                  </a:lnTo>
                  <a:lnTo>
                    <a:pt x="548" y="752"/>
                  </a:lnTo>
                  <a:lnTo>
                    <a:pt x="576" y="744"/>
                  </a:lnTo>
                  <a:lnTo>
                    <a:pt x="632" y="716"/>
                  </a:lnTo>
                  <a:lnTo>
                    <a:pt x="668" y="704"/>
                  </a:lnTo>
                  <a:lnTo>
                    <a:pt x="696" y="664"/>
                  </a:lnTo>
                  <a:lnTo>
                    <a:pt x="700" y="636"/>
                  </a:lnTo>
                  <a:lnTo>
                    <a:pt x="684" y="616"/>
                  </a:lnTo>
                  <a:lnTo>
                    <a:pt x="656" y="612"/>
                  </a:lnTo>
                  <a:lnTo>
                    <a:pt x="632" y="592"/>
                  </a:lnTo>
                  <a:lnTo>
                    <a:pt x="632" y="560"/>
                  </a:lnTo>
                  <a:lnTo>
                    <a:pt x="652" y="532"/>
                  </a:lnTo>
                  <a:lnTo>
                    <a:pt x="684" y="508"/>
                  </a:lnTo>
                  <a:lnTo>
                    <a:pt x="676" y="480"/>
                  </a:lnTo>
                  <a:lnTo>
                    <a:pt x="660" y="460"/>
                  </a:lnTo>
                  <a:lnTo>
                    <a:pt x="656" y="420"/>
                  </a:lnTo>
                  <a:lnTo>
                    <a:pt x="652" y="388"/>
                  </a:lnTo>
                  <a:lnTo>
                    <a:pt x="644" y="348"/>
                  </a:lnTo>
                  <a:lnTo>
                    <a:pt x="620" y="308"/>
                  </a:lnTo>
                  <a:lnTo>
                    <a:pt x="612" y="272"/>
                  </a:lnTo>
                  <a:lnTo>
                    <a:pt x="564" y="208"/>
                  </a:lnTo>
                  <a:lnTo>
                    <a:pt x="580" y="144"/>
                  </a:lnTo>
                  <a:lnTo>
                    <a:pt x="580" y="96"/>
                  </a:lnTo>
                  <a:lnTo>
                    <a:pt x="612" y="56"/>
                  </a:lnTo>
                  <a:lnTo>
                    <a:pt x="620" y="20"/>
                  </a:lnTo>
                  <a:lnTo>
                    <a:pt x="588" y="0"/>
                  </a:lnTo>
                  <a:lnTo>
                    <a:pt x="552" y="20"/>
                  </a:lnTo>
                  <a:lnTo>
                    <a:pt x="516" y="20"/>
                  </a:lnTo>
                  <a:lnTo>
                    <a:pt x="492" y="4"/>
                  </a:lnTo>
                  <a:lnTo>
                    <a:pt x="464" y="28"/>
                  </a:lnTo>
                  <a:lnTo>
                    <a:pt x="436" y="104"/>
                  </a:lnTo>
                  <a:lnTo>
                    <a:pt x="368" y="152"/>
                  </a:lnTo>
                  <a:lnTo>
                    <a:pt x="320" y="152"/>
                  </a:lnTo>
                  <a:lnTo>
                    <a:pt x="288" y="124"/>
                  </a:lnTo>
                  <a:lnTo>
                    <a:pt x="212" y="112"/>
                  </a:lnTo>
                  <a:lnTo>
                    <a:pt x="156" y="88"/>
                  </a:lnTo>
                  <a:lnTo>
                    <a:pt x="112" y="68"/>
                  </a:lnTo>
                  <a:lnTo>
                    <a:pt x="44" y="80"/>
                  </a:lnTo>
                  <a:lnTo>
                    <a:pt x="32" y="140"/>
                  </a:lnTo>
                  <a:lnTo>
                    <a:pt x="0" y="272"/>
                  </a:lnTo>
                  <a:lnTo>
                    <a:pt x="72" y="432"/>
                  </a:lnTo>
                  <a:lnTo>
                    <a:pt x="116" y="484"/>
                  </a:lnTo>
                  <a:lnTo>
                    <a:pt x="120" y="536"/>
                  </a:lnTo>
                  <a:lnTo>
                    <a:pt x="176" y="624"/>
                  </a:lnTo>
                  <a:lnTo>
                    <a:pt x="144" y="684"/>
                  </a:lnTo>
                  <a:lnTo>
                    <a:pt x="140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8680" y="2235240"/>
              <a:ext cx="3575160" cy="4349880"/>
            </a:xfrm>
            <a:custGeom>
              <a:avLst/>
              <a:gdLst/>
              <a:ahLst/>
              <a:rect l="l" t="t" r="r" b="b"/>
              <a:pathLst>
                <a:path w="2252" h="2740">
                  <a:moveTo>
                    <a:pt x="0" y="2208"/>
                  </a:moveTo>
                  <a:lnTo>
                    <a:pt x="52" y="2160"/>
                  </a:lnTo>
                  <a:lnTo>
                    <a:pt x="84" y="2132"/>
                  </a:lnTo>
                  <a:lnTo>
                    <a:pt x="124" y="2116"/>
                  </a:lnTo>
                  <a:lnTo>
                    <a:pt x="156" y="2140"/>
                  </a:lnTo>
                  <a:lnTo>
                    <a:pt x="196" y="2112"/>
                  </a:lnTo>
                  <a:lnTo>
                    <a:pt x="244" y="2088"/>
                  </a:lnTo>
                  <a:lnTo>
                    <a:pt x="276" y="2060"/>
                  </a:lnTo>
                  <a:lnTo>
                    <a:pt x="284" y="2028"/>
                  </a:lnTo>
                  <a:lnTo>
                    <a:pt x="300" y="2000"/>
                  </a:lnTo>
                  <a:lnTo>
                    <a:pt x="312" y="1968"/>
                  </a:lnTo>
                  <a:lnTo>
                    <a:pt x="344" y="1952"/>
                  </a:lnTo>
                  <a:lnTo>
                    <a:pt x="380" y="1940"/>
                  </a:lnTo>
                  <a:lnTo>
                    <a:pt x="412" y="1932"/>
                  </a:lnTo>
                  <a:lnTo>
                    <a:pt x="432" y="1948"/>
                  </a:lnTo>
                  <a:lnTo>
                    <a:pt x="428" y="1988"/>
                  </a:lnTo>
                  <a:lnTo>
                    <a:pt x="452" y="2028"/>
                  </a:lnTo>
                  <a:lnTo>
                    <a:pt x="476" y="2012"/>
                  </a:lnTo>
                  <a:lnTo>
                    <a:pt x="480" y="1968"/>
                  </a:lnTo>
                  <a:lnTo>
                    <a:pt x="480" y="1932"/>
                  </a:lnTo>
                  <a:lnTo>
                    <a:pt x="476" y="1904"/>
                  </a:lnTo>
                  <a:lnTo>
                    <a:pt x="536" y="1888"/>
                  </a:lnTo>
                  <a:lnTo>
                    <a:pt x="568" y="1908"/>
                  </a:lnTo>
                  <a:lnTo>
                    <a:pt x="604" y="1908"/>
                  </a:lnTo>
                  <a:lnTo>
                    <a:pt x="624" y="1888"/>
                  </a:lnTo>
                  <a:lnTo>
                    <a:pt x="668" y="1892"/>
                  </a:lnTo>
                  <a:lnTo>
                    <a:pt x="680" y="1916"/>
                  </a:lnTo>
                  <a:lnTo>
                    <a:pt x="704" y="1940"/>
                  </a:lnTo>
                  <a:lnTo>
                    <a:pt x="756" y="1948"/>
                  </a:lnTo>
                  <a:lnTo>
                    <a:pt x="792" y="1972"/>
                  </a:lnTo>
                  <a:lnTo>
                    <a:pt x="820" y="2004"/>
                  </a:lnTo>
                  <a:lnTo>
                    <a:pt x="852" y="2028"/>
                  </a:lnTo>
                  <a:lnTo>
                    <a:pt x="876" y="1996"/>
                  </a:lnTo>
                  <a:lnTo>
                    <a:pt x="880" y="1968"/>
                  </a:lnTo>
                  <a:lnTo>
                    <a:pt x="888" y="1944"/>
                  </a:lnTo>
                  <a:lnTo>
                    <a:pt x="868" y="1920"/>
                  </a:lnTo>
                  <a:lnTo>
                    <a:pt x="840" y="1920"/>
                  </a:lnTo>
                  <a:lnTo>
                    <a:pt x="816" y="1920"/>
                  </a:lnTo>
                  <a:lnTo>
                    <a:pt x="800" y="1896"/>
                  </a:lnTo>
                  <a:lnTo>
                    <a:pt x="776" y="1884"/>
                  </a:lnTo>
                  <a:lnTo>
                    <a:pt x="736" y="1876"/>
                  </a:lnTo>
                  <a:lnTo>
                    <a:pt x="708" y="1852"/>
                  </a:lnTo>
                  <a:lnTo>
                    <a:pt x="680" y="1840"/>
                  </a:lnTo>
                  <a:lnTo>
                    <a:pt x="616" y="1828"/>
                  </a:lnTo>
                  <a:lnTo>
                    <a:pt x="568" y="1804"/>
                  </a:lnTo>
                  <a:lnTo>
                    <a:pt x="556" y="1780"/>
                  </a:lnTo>
                  <a:lnTo>
                    <a:pt x="544" y="1744"/>
                  </a:lnTo>
                  <a:lnTo>
                    <a:pt x="516" y="1724"/>
                  </a:lnTo>
                  <a:lnTo>
                    <a:pt x="508" y="1692"/>
                  </a:lnTo>
                  <a:lnTo>
                    <a:pt x="536" y="1684"/>
                  </a:lnTo>
                  <a:lnTo>
                    <a:pt x="532" y="1648"/>
                  </a:lnTo>
                  <a:lnTo>
                    <a:pt x="516" y="1624"/>
                  </a:lnTo>
                  <a:lnTo>
                    <a:pt x="488" y="1592"/>
                  </a:lnTo>
                  <a:lnTo>
                    <a:pt x="468" y="1560"/>
                  </a:lnTo>
                  <a:lnTo>
                    <a:pt x="456" y="1532"/>
                  </a:lnTo>
                  <a:lnTo>
                    <a:pt x="456" y="1504"/>
                  </a:lnTo>
                  <a:lnTo>
                    <a:pt x="432" y="1464"/>
                  </a:lnTo>
                  <a:lnTo>
                    <a:pt x="412" y="1444"/>
                  </a:lnTo>
                  <a:lnTo>
                    <a:pt x="400" y="1408"/>
                  </a:lnTo>
                  <a:lnTo>
                    <a:pt x="408" y="1380"/>
                  </a:lnTo>
                  <a:lnTo>
                    <a:pt x="420" y="1344"/>
                  </a:lnTo>
                  <a:lnTo>
                    <a:pt x="416" y="1316"/>
                  </a:lnTo>
                  <a:lnTo>
                    <a:pt x="428" y="1288"/>
                  </a:lnTo>
                  <a:lnTo>
                    <a:pt x="416" y="1256"/>
                  </a:lnTo>
                  <a:lnTo>
                    <a:pt x="408" y="1220"/>
                  </a:lnTo>
                  <a:lnTo>
                    <a:pt x="456" y="1196"/>
                  </a:lnTo>
                  <a:lnTo>
                    <a:pt x="492" y="1180"/>
                  </a:lnTo>
                  <a:lnTo>
                    <a:pt x="512" y="1140"/>
                  </a:lnTo>
                  <a:lnTo>
                    <a:pt x="548" y="1136"/>
                  </a:lnTo>
                  <a:lnTo>
                    <a:pt x="580" y="1176"/>
                  </a:lnTo>
                  <a:lnTo>
                    <a:pt x="580" y="1216"/>
                  </a:lnTo>
                  <a:lnTo>
                    <a:pt x="584" y="1248"/>
                  </a:lnTo>
                  <a:lnTo>
                    <a:pt x="572" y="1288"/>
                  </a:lnTo>
                  <a:lnTo>
                    <a:pt x="572" y="1336"/>
                  </a:lnTo>
                  <a:lnTo>
                    <a:pt x="596" y="1364"/>
                  </a:lnTo>
                  <a:lnTo>
                    <a:pt x="612" y="1388"/>
                  </a:lnTo>
                  <a:lnTo>
                    <a:pt x="620" y="1420"/>
                  </a:lnTo>
                  <a:lnTo>
                    <a:pt x="664" y="1428"/>
                  </a:lnTo>
                  <a:lnTo>
                    <a:pt x="672" y="1456"/>
                  </a:lnTo>
                  <a:lnTo>
                    <a:pt x="700" y="1436"/>
                  </a:lnTo>
                  <a:lnTo>
                    <a:pt x="688" y="1408"/>
                  </a:lnTo>
                  <a:lnTo>
                    <a:pt x="676" y="1376"/>
                  </a:lnTo>
                  <a:lnTo>
                    <a:pt x="680" y="1344"/>
                  </a:lnTo>
                  <a:lnTo>
                    <a:pt x="712" y="1328"/>
                  </a:lnTo>
                  <a:lnTo>
                    <a:pt x="736" y="1316"/>
                  </a:lnTo>
                  <a:lnTo>
                    <a:pt x="764" y="1312"/>
                  </a:lnTo>
                  <a:lnTo>
                    <a:pt x="804" y="1328"/>
                  </a:lnTo>
                  <a:lnTo>
                    <a:pt x="808" y="1356"/>
                  </a:lnTo>
                  <a:lnTo>
                    <a:pt x="844" y="1388"/>
                  </a:lnTo>
                  <a:lnTo>
                    <a:pt x="872" y="1412"/>
                  </a:lnTo>
                  <a:lnTo>
                    <a:pt x="912" y="1420"/>
                  </a:lnTo>
                  <a:lnTo>
                    <a:pt x="928" y="1372"/>
                  </a:lnTo>
                  <a:lnTo>
                    <a:pt x="928" y="1328"/>
                  </a:lnTo>
                  <a:lnTo>
                    <a:pt x="920" y="1284"/>
                  </a:lnTo>
                  <a:lnTo>
                    <a:pt x="904" y="1252"/>
                  </a:lnTo>
                  <a:lnTo>
                    <a:pt x="904" y="1220"/>
                  </a:lnTo>
                  <a:lnTo>
                    <a:pt x="888" y="1172"/>
                  </a:lnTo>
                  <a:lnTo>
                    <a:pt x="880" y="1104"/>
                  </a:lnTo>
                  <a:lnTo>
                    <a:pt x="872" y="1076"/>
                  </a:lnTo>
                  <a:lnTo>
                    <a:pt x="860" y="1040"/>
                  </a:lnTo>
                  <a:lnTo>
                    <a:pt x="856" y="996"/>
                  </a:lnTo>
                  <a:lnTo>
                    <a:pt x="884" y="992"/>
                  </a:lnTo>
                  <a:lnTo>
                    <a:pt x="900" y="1020"/>
                  </a:lnTo>
                  <a:lnTo>
                    <a:pt x="912" y="1056"/>
                  </a:lnTo>
                  <a:lnTo>
                    <a:pt x="944" y="1084"/>
                  </a:lnTo>
                  <a:lnTo>
                    <a:pt x="976" y="1104"/>
                  </a:lnTo>
                  <a:lnTo>
                    <a:pt x="1008" y="1088"/>
                  </a:lnTo>
                  <a:lnTo>
                    <a:pt x="1028" y="1056"/>
                  </a:lnTo>
                  <a:lnTo>
                    <a:pt x="1048" y="1016"/>
                  </a:lnTo>
                  <a:lnTo>
                    <a:pt x="1068" y="980"/>
                  </a:lnTo>
                  <a:lnTo>
                    <a:pt x="1068" y="952"/>
                  </a:lnTo>
                  <a:lnTo>
                    <a:pt x="1056" y="924"/>
                  </a:lnTo>
                  <a:lnTo>
                    <a:pt x="1060" y="896"/>
                  </a:lnTo>
                  <a:lnTo>
                    <a:pt x="1116" y="888"/>
                  </a:lnTo>
                  <a:lnTo>
                    <a:pt x="1136" y="860"/>
                  </a:lnTo>
                  <a:lnTo>
                    <a:pt x="1128" y="804"/>
                  </a:lnTo>
                  <a:lnTo>
                    <a:pt x="1120" y="756"/>
                  </a:lnTo>
                  <a:lnTo>
                    <a:pt x="1080" y="732"/>
                  </a:lnTo>
                  <a:lnTo>
                    <a:pt x="1056" y="720"/>
                  </a:lnTo>
                  <a:lnTo>
                    <a:pt x="1016" y="668"/>
                  </a:lnTo>
                  <a:lnTo>
                    <a:pt x="1000" y="628"/>
                  </a:lnTo>
                  <a:lnTo>
                    <a:pt x="1028" y="588"/>
                  </a:lnTo>
                  <a:lnTo>
                    <a:pt x="1048" y="568"/>
                  </a:lnTo>
                  <a:lnTo>
                    <a:pt x="1036" y="532"/>
                  </a:lnTo>
                  <a:lnTo>
                    <a:pt x="1000" y="488"/>
                  </a:lnTo>
                  <a:lnTo>
                    <a:pt x="976" y="452"/>
                  </a:lnTo>
                  <a:lnTo>
                    <a:pt x="944" y="396"/>
                  </a:lnTo>
                  <a:lnTo>
                    <a:pt x="948" y="352"/>
                  </a:lnTo>
                  <a:lnTo>
                    <a:pt x="968" y="292"/>
                  </a:lnTo>
                  <a:lnTo>
                    <a:pt x="992" y="284"/>
                  </a:lnTo>
                  <a:lnTo>
                    <a:pt x="1024" y="300"/>
                  </a:lnTo>
                  <a:lnTo>
                    <a:pt x="1048" y="324"/>
                  </a:lnTo>
                  <a:lnTo>
                    <a:pt x="1052" y="356"/>
                  </a:lnTo>
                  <a:lnTo>
                    <a:pt x="1052" y="404"/>
                  </a:lnTo>
                  <a:lnTo>
                    <a:pt x="1064" y="436"/>
                  </a:lnTo>
                  <a:lnTo>
                    <a:pt x="1104" y="440"/>
                  </a:lnTo>
                  <a:lnTo>
                    <a:pt x="1132" y="420"/>
                  </a:lnTo>
                  <a:lnTo>
                    <a:pt x="1176" y="428"/>
                  </a:lnTo>
                  <a:lnTo>
                    <a:pt x="1196" y="452"/>
                  </a:lnTo>
                  <a:lnTo>
                    <a:pt x="1232" y="476"/>
                  </a:lnTo>
                  <a:lnTo>
                    <a:pt x="1268" y="512"/>
                  </a:lnTo>
                  <a:lnTo>
                    <a:pt x="1276" y="556"/>
                  </a:lnTo>
                  <a:lnTo>
                    <a:pt x="1276" y="604"/>
                  </a:lnTo>
                  <a:lnTo>
                    <a:pt x="1260" y="648"/>
                  </a:lnTo>
                  <a:lnTo>
                    <a:pt x="1232" y="700"/>
                  </a:lnTo>
                  <a:lnTo>
                    <a:pt x="1224" y="740"/>
                  </a:lnTo>
                  <a:lnTo>
                    <a:pt x="1216" y="788"/>
                  </a:lnTo>
                  <a:lnTo>
                    <a:pt x="1212" y="820"/>
                  </a:lnTo>
                  <a:lnTo>
                    <a:pt x="1200" y="860"/>
                  </a:lnTo>
                  <a:lnTo>
                    <a:pt x="1188" y="892"/>
                  </a:lnTo>
                  <a:lnTo>
                    <a:pt x="1168" y="932"/>
                  </a:lnTo>
                  <a:lnTo>
                    <a:pt x="1120" y="980"/>
                  </a:lnTo>
                  <a:lnTo>
                    <a:pt x="1096" y="1036"/>
                  </a:lnTo>
                  <a:lnTo>
                    <a:pt x="1088" y="1068"/>
                  </a:lnTo>
                  <a:lnTo>
                    <a:pt x="1072" y="1116"/>
                  </a:lnTo>
                  <a:lnTo>
                    <a:pt x="1064" y="1148"/>
                  </a:lnTo>
                  <a:lnTo>
                    <a:pt x="1036" y="1188"/>
                  </a:lnTo>
                  <a:lnTo>
                    <a:pt x="1012" y="1236"/>
                  </a:lnTo>
                  <a:lnTo>
                    <a:pt x="1044" y="1260"/>
                  </a:lnTo>
                  <a:lnTo>
                    <a:pt x="1100" y="1260"/>
                  </a:lnTo>
                  <a:lnTo>
                    <a:pt x="1112" y="1224"/>
                  </a:lnTo>
                  <a:lnTo>
                    <a:pt x="1132" y="1180"/>
                  </a:lnTo>
                  <a:lnTo>
                    <a:pt x="1168" y="1148"/>
                  </a:lnTo>
                  <a:lnTo>
                    <a:pt x="1208" y="1116"/>
                  </a:lnTo>
                  <a:lnTo>
                    <a:pt x="1240" y="1076"/>
                  </a:lnTo>
                  <a:lnTo>
                    <a:pt x="1272" y="1028"/>
                  </a:lnTo>
                  <a:lnTo>
                    <a:pt x="1296" y="968"/>
                  </a:lnTo>
                  <a:lnTo>
                    <a:pt x="1308" y="932"/>
                  </a:lnTo>
                  <a:lnTo>
                    <a:pt x="1332" y="924"/>
                  </a:lnTo>
                  <a:lnTo>
                    <a:pt x="1372" y="948"/>
                  </a:lnTo>
                  <a:lnTo>
                    <a:pt x="1396" y="932"/>
                  </a:lnTo>
                  <a:lnTo>
                    <a:pt x="1396" y="888"/>
                  </a:lnTo>
                  <a:lnTo>
                    <a:pt x="1428" y="864"/>
                  </a:lnTo>
                  <a:lnTo>
                    <a:pt x="1448" y="828"/>
                  </a:lnTo>
                  <a:lnTo>
                    <a:pt x="1448" y="784"/>
                  </a:lnTo>
                  <a:lnTo>
                    <a:pt x="1464" y="708"/>
                  </a:lnTo>
                  <a:lnTo>
                    <a:pt x="1496" y="668"/>
                  </a:lnTo>
                  <a:lnTo>
                    <a:pt x="1520" y="616"/>
                  </a:lnTo>
                  <a:lnTo>
                    <a:pt x="1540" y="560"/>
                  </a:lnTo>
                  <a:lnTo>
                    <a:pt x="1560" y="532"/>
                  </a:lnTo>
                  <a:lnTo>
                    <a:pt x="1560" y="464"/>
                  </a:lnTo>
                  <a:lnTo>
                    <a:pt x="1572" y="400"/>
                  </a:lnTo>
                  <a:lnTo>
                    <a:pt x="1600" y="352"/>
                  </a:lnTo>
                  <a:lnTo>
                    <a:pt x="1616" y="316"/>
                  </a:lnTo>
                  <a:lnTo>
                    <a:pt x="1640" y="260"/>
                  </a:lnTo>
                  <a:lnTo>
                    <a:pt x="1700" y="192"/>
                  </a:lnTo>
                  <a:lnTo>
                    <a:pt x="1728" y="156"/>
                  </a:lnTo>
                  <a:lnTo>
                    <a:pt x="1760" y="124"/>
                  </a:lnTo>
                  <a:lnTo>
                    <a:pt x="1800" y="96"/>
                  </a:lnTo>
                  <a:lnTo>
                    <a:pt x="1844" y="104"/>
                  </a:lnTo>
                  <a:lnTo>
                    <a:pt x="1880" y="132"/>
                  </a:lnTo>
                  <a:lnTo>
                    <a:pt x="1920" y="148"/>
                  </a:lnTo>
                  <a:lnTo>
                    <a:pt x="1956" y="128"/>
                  </a:lnTo>
                  <a:lnTo>
                    <a:pt x="1964" y="76"/>
                  </a:lnTo>
                  <a:lnTo>
                    <a:pt x="1964" y="28"/>
                  </a:lnTo>
                  <a:lnTo>
                    <a:pt x="2012" y="0"/>
                  </a:lnTo>
                  <a:lnTo>
                    <a:pt x="2036" y="20"/>
                  </a:lnTo>
                  <a:lnTo>
                    <a:pt x="2080" y="44"/>
                  </a:lnTo>
                  <a:lnTo>
                    <a:pt x="2124" y="44"/>
                  </a:lnTo>
                  <a:lnTo>
                    <a:pt x="2188" y="36"/>
                  </a:lnTo>
                  <a:lnTo>
                    <a:pt x="2212" y="44"/>
                  </a:lnTo>
                  <a:lnTo>
                    <a:pt x="2228" y="76"/>
                  </a:lnTo>
                  <a:lnTo>
                    <a:pt x="2252" y="148"/>
                  </a:lnTo>
                  <a:lnTo>
                    <a:pt x="2252" y="192"/>
                  </a:lnTo>
                  <a:lnTo>
                    <a:pt x="2240" y="224"/>
                  </a:lnTo>
                  <a:lnTo>
                    <a:pt x="2176" y="208"/>
                  </a:lnTo>
                  <a:lnTo>
                    <a:pt x="2156" y="188"/>
                  </a:lnTo>
                  <a:lnTo>
                    <a:pt x="2112" y="192"/>
                  </a:lnTo>
                  <a:lnTo>
                    <a:pt x="2088" y="224"/>
                  </a:lnTo>
                  <a:lnTo>
                    <a:pt x="2060" y="244"/>
                  </a:lnTo>
                  <a:lnTo>
                    <a:pt x="2032" y="268"/>
                  </a:lnTo>
                  <a:lnTo>
                    <a:pt x="1984" y="296"/>
                  </a:lnTo>
                  <a:lnTo>
                    <a:pt x="1956" y="352"/>
                  </a:lnTo>
                  <a:lnTo>
                    <a:pt x="1956" y="380"/>
                  </a:lnTo>
                  <a:lnTo>
                    <a:pt x="2020" y="412"/>
                  </a:lnTo>
                  <a:lnTo>
                    <a:pt x="2040" y="376"/>
                  </a:lnTo>
                  <a:lnTo>
                    <a:pt x="2068" y="340"/>
                  </a:lnTo>
                  <a:lnTo>
                    <a:pt x="2100" y="352"/>
                  </a:lnTo>
                  <a:lnTo>
                    <a:pt x="2108" y="392"/>
                  </a:lnTo>
                  <a:lnTo>
                    <a:pt x="2108" y="436"/>
                  </a:lnTo>
                  <a:lnTo>
                    <a:pt x="2108" y="476"/>
                  </a:lnTo>
                  <a:lnTo>
                    <a:pt x="2116" y="520"/>
                  </a:lnTo>
                  <a:lnTo>
                    <a:pt x="2168" y="556"/>
                  </a:lnTo>
                  <a:lnTo>
                    <a:pt x="2200" y="584"/>
                  </a:lnTo>
                  <a:lnTo>
                    <a:pt x="2232" y="624"/>
                  </a:lnTo>
                  <a:lnTo>
                    <a:pt x="2204" y="676"/>
                  </a:lnTo>
                  <a:lnTo>
                    <a:pt x="2168" y="676"/>
                  </a:lnTo>
                  <a:lnTo>
                    <a:pt x="2140" y="652"/>
                  </a:lnTo>
                  <a:lnTo>
                    <a:pt x="2112" y="628"/>
                  </a:lnTo>
                  <a:lnTo>
                    <a:pt x="2084" y="628"/>
                  </a:lnTo>
                  <a:lnTo>
                    <a:pt x="2056" y="660"/>
                  </a:lnTo>
                  <a:lnTo>
                    <a:pt x="2032" y="668"/>
                  </a:lnTo>
                  <a:lnTo>
                    <a:pt x="2000" y="660"/>
                  </a:lnTo>
                  <a:lnTo>
                    <a:pt x="1972" y="628"/>
                  </a:lnTo>
                  <a:lnTo>
                    <a:pt x="1940" y="620"/>
                  </a:lnTo>
                  <a:lnTo>
                    <a:pt x="1920" y="652"/>
                  </a:lnTo>
                  <a:lnTo>
                    <a:pt x="1880" y="644"/>
                  </a:lnTo>
                  <a:lnTo>
                    <a:pt x="1844" y="620"/>
                  </a:lnTo>
                  <a:lnTo>
                    <a:pt x="1840" y="664"/>
                  </a:lnTo>
                  <a:lnTo>
                    <a:pt x="1856" y="688"/>
                  </a:lnTo>
                  <a:lnTo>
                    <a:pt x="1904" y="724"/>
                  </a:lnTo>
                  <a:lnTo>
                    <a:pt x="1928" y="752"/>
                  </a:lnTo>
                  <a:lnTo>
                    <a:pt x="1964" y="784"/>
                  </a:lnTo>
                  <a:lnTo>
                    <a:pt x="2008" y="800"/>
                  </a:lnTo>
                  <a:lnTo>
                    <a:pt x="2036" y="852"/>
                  </a:lnTo>
                  <a:lnTo>
                    <a:pt x="2012" y="880"/>
                  </a:lnTo>
                  <a:lnTo>
                    <a:pt x="1972" y="892"/>
                  </a:lnTo>
                  <a:lnTo>
                    <a:pt x="1948" y="880"/>
                  </a:lnTo>
                  <a:lnTo>
                    <a:pt x="1900" y="852"/>
                  </a:lnTo>
                  <a:lnTo>
                    <a:pt x="1868" y="820"/>
                  </a:lnTo>
                  <a:lnTo>
                    <a:pt x="1832" y="808"/>
                  </a:lnTo>
                  <a:lnTo>
                    <a:pt x="1812" y="832"/>
                  </a:lnTo>
                  <a:lnTo>
                    <a:pt x="1816" y="868"/>
                  </a:lnTo>
                  <a:lnTo>
                    <a:pt x="1828" y="904"/>
                  </a:lnTo>
                  <a:cubicBezTo>
                    <a:pt x="1815" y="908"/>
                    <a:pt x="1820" y="908"/>
                    <a:pt x="1812" y="908"/>
                  </a:cubicBezTo>
                  <a:lnTo>
                    <a:pt x="1760" y="884"/>
                  </a:lnTo>
                  <a:cubicBezTo>
                    <a:pt x="1717" y="888"/>
                    <a:pt x="1726" y="876"/>
                    <a:pt x="1716" y="896"/>
                  </a:cubicBezTo>
                  <a:lnTo>
                    <a:pt x="1716" y="928"/>
                  </a:lnTo>
                  <a:lnTo>
                    <a:pt x="1720" y="972"/>
                  </a:lnTo>
                  <a:lnTo>
                    <a:pt x="1736" y="1004"/>
                  </a:lnTo>
                  <a:lnTo>
                    <a:pt x="1784" y="1012"/>
                  </a:lnTo>
                  <a:lnTo>
                    <a:pt x="1820" y="1016"/>
                  </a:lnTo>
                  <a:lnTo>
                    <a:pt x="1836" y="1060"/>
                  </a:lnTo>
                  <a:lnTo>
                    <a:pt x="1804" y="1076"/>
                  </a:lnTo>
                  <a:lnTo>
                    <a:pt x="1760" y="1100"/>
                  </a:lnTo>
                  <a:lnTo>
                    <a:pt x="1720" y="1100"/>
                  </a:lnTo>
                  <a:lnTo>
                    <a:pt x="1668" y="1100"/>
                  </a:lnTo>
                  <a:lnTo>
                    <a:pt x="1632" y="1132"/>
                  </a:lnTo>
                  <a:lnTo>
                    <a:pt x="1656" y="1168"/>
                  </a:lnTo>
                  <a:lnTo>
                    <a:pt x="1688" y="1172"/>
                  </a:lnTo>
                  <a:lnTo>
                    <a:pt x="1756" y="1172"/>
                  </a:lnTo>
                  <a:lnTo>
                    <a:pt x="1816" y="1168"/>
                  </a:lnTo>
                  <a:lnTo>
                    <a:pt x="1864" y="1152"/>
                  </a:lnTo>
                  <a:lnTo>
                    <a:pt x="1908" y="1128"/>
                  </a:lnTo>
                  <a:lnTo>
                    <a:pt x="1960" y="1128"/>
                  </a:lnTo>
                  <a:lnTo>
                    <a:pt x="1992" y="1156"/>
                  </a:lnTo>
                  <a:lnTo>
                    <a:pt x="2012" y="1188"/>
                  </a:lnTo>
                  <a:lnTo>
                    <a:pt x="2004" y="1228"/>
                  </a:lnTo>
                  <a:lnTo>
                    <a:pt x="1964" y="1252"/>
                  </a:lnTo>
                  <a:lnTo>
                    <a:pt x="1952" y="1292"/>
                  </a:lnTo>
                  <a:lnTo>
                    <a:pt x="1964" y="1324"/>
                  </a:lnTo>
                  <a:lnTo>
                    <a:pt x="1992" y="1356"/>
                  </a:lnTo>
                  <a:lnTo>
                    <a:pt x="2024" y="1376"/>
                  </a:lnTo>
                  <a:lnTo>
                    <a:pt x="2052" y="1412"/>
                  </a:lnTo>
                  <a:lnTo>
                    <a:pt x="2076" y="1452"/>
                  </a:lnTo>
                  <a:lnTo>
                    <a:pt x="2036" y="1472"/>
                  </a:lnTo>
                  <a:lnTo>
                    <a:pt x="2008" y="1440"/>
                  </a:lnTo>
                  <a:lnTo>
                    <a:pt x="1980" y="1440"/>
                  </a:lnTo>
                  <a:lnTo>
                    <a:pt x="1968" y="1464"/>
                  </a:lnTo>
                  <a:lnTo>
                    <a:pt x="1976" y="1492"/>
                  </a:lnTo>
                  <a:lnTo>
                    <a:pt x="2016" y="1524"/>
                  </a:lnTo>
                  <a:lnTo>
                    <a:pt x="2024" y="1556"/>
                  </a:lnTo>
                  <a:lnTo>
                    <a:pt x="1996" y="1580"/>
                  </a:lnTo>
                  <a:lnTo>
                    <a:pt x="1956" y="1604"/>
                  </a:lnTo>
                  <a:lnTo>
                    <a:pt x="1912" y="1612"/>
                  </a:lnTo>
                  <a:lnTo>
                    <a:pt x="1896" y="1592"/>
                  </a:lnTo>
                  <a:lnTo>
                    <a:pt x="1884" y="1564"/>
                  </a:lnTo>
                  <a:lnTo>
                    <a:pt x="1872" y="1540"/>
                  </a:lnTo>
                  <a:lnTo>
                    <a:pt x="1852" y="1484"/>
                  </a:lnTo>
                  <a:lnTo>
                    <a:pt x="1820" y="1440"/>
                  </a:lnTo>
                  <a:lnTo>
                    <a:pt x="1792" y="1416"/>
                  </a:lnTo>
                  <a:lnTo>
                    <a:pt x="1744" y="1400"/>
                  </a:lnTo>
                  <a:lnTo>
                    <a:pt x="1732" y="1440"/>
                  </a:lnTo>
                  <a:lnTo>
                    <a:pt x="1748" y="1468"/>
                  </a:lnTo>
                  <a:lnTo>
                    <a:pt x="1768" y="1500"/>
                  </a:lnTo>
                  <a:lnTo>
                    <a:pt x="1780" y="1524"/>
                  </a:lnTo>
                  <a:lnTo>
                    <a:pt x="1788" y="1564"/>
                  </a:lnTo>
                  <a:lnTo>
                    <a:pt x="1784" y="1600"/>
                  </a:lnTo>
                  <a:lnTo>
                    <a:pt x="1788" y="1624"/>
                  </a:lnTo>
                  <a:lnTo>
                    <a:pt x="1832" y="1660"/>
                  </a:lnTo>
                  <a:lnTo>
                    <a:pt x="1864" y="1672"/>
                  </a:lnTo>
                  <a:lnTo>
                    <a:pt x="1900" y="1696"/>
                  </a:lnTo>
                  <a:lnTo>
                    <a:pt x="1864" y="1728"/>
                  </a:lnTo>
                  <a:lnTo>
                    <a:pt x="1836" y="1728"/>
                  </a:lnTo>
                  <a:lnTo>
                    <a:pt x="1804" y="1732"/>
                  </a:lnTo>
                  <a:lnTo>
                    <a:pt x="1776" y="1732"/>
                  </a:lnTo>
                  <a:lnTo>
                    <a:pt x="1720" y="1732"/>
                  </a:lnTo>
                  <a:lnTo>
                    <a:pt x="1668" y="1752"/>
                  </a:lnTo>
                  <a:lnTo>
                    <a:pt x="1652" y="1776"/>
                  </a:lnTo>
                  <a:lnTo>
                    <a:pt x="1660" y="1808"/>
                  </a:lnTo>
                  <a:lnTo>
                    <a:pt x="1700" y="1832"/>
                  </a:lnTo>
                  <a:lnTo>
                    <a:pt x="1744" y="1840"/>
                  </a:lnTo>
                  <a:lnTo>
                    <a:pt x="1776" y="1820"/>
                  </a:lnTo>
                  <a:lnTo>
                    <a:pt x="1824" y="1796"/>
                  </a:lnTo>
                  <a:lnTo>
                    <a:pt x="1868" y="1792"/>
                  </a:lnTo>
                  <a:lnTo>
                    <a:pt x="1904" y="1804"/>
                  </a:lnTo>
                  <a:lnTo>
                    <a:pt x="1920" y="1836"/>
                  </a:lnTo>
                  <a:lnTo>
                    <a:pt x="1912" y="1880"/>
                  </a:lnTo>
                  <a:lnTo>
                    <a:pt x="1872" y="1900"/>
                  </a:lnTo>
                  <a:lnTo>
                    <a:pt x="1848" y="1900"/>
                  </a:lnTo>
                  <a:lnTo>
                    <a:pt x="1812" y="1888"/>
                  </a:lnTo>
                  <a:lnTo>
                    <a:pt x="1776" y="1896"/>
                  </a:lnTo>
                  <a:lnTo>
                    <a:pt x="1748" y="1936"/>
                  </a:lnTo>
                  <a:lnTo>
                    <a:pt x="1748" y="1964"/>
                  </a:lnTo>
                  <a:lnTo>
                    <a:pt x="1764" y="1992"/>
                  </a:lnTo>
                  <a:lnTo>
                    <a:pt x="1804" y="2012"/>
                  </a:lnTo>
                  <a:lnTo>
                    <a:pt x="1840" y="2008"/>
                  </a:lnTo>
                  <a:lnTo>
                    <a:pt x="1880" y="1984"/>
                  </a:lnTo>
                  <a:lnTo>
                    <a:pt x="1908" y="1976"/>
                  </a:lnTo>
                  <a:lnTo>
                    <a:pt x="1928" y="1992"/>
                  </a:lnTo>
                  <a:lnTo>
                    <a:pt x="1928" y="2024"/>
                  </a:lnTo>
                  <a:lnTo>
                    <a:pt x="1916" y="2052"/>
                  </a:lnTo>
                  <a:lnTo>
                    <a:pt x="1924" y="2076"/>
                  </a:lnTo>
                  <a:lnTo>
                    <a:pt x="1952" y="2084"/>
                  </a:lnTo>
                  <a:lnTo>
                    <a:pt x="1980" y="2112"/>
                  </a:lnTo>
                  <a:lnTo>
                    <a:pt x="2000" y="2128"/>
                  </a:lnTo>
                  <a:lnTo>
                    <a:pt x="2060" y="2148"/>
                  </a:lnTo>
                  <a:lnTo>
                    <a:pt x="2080" y="2168"/>
                  </a:lnTo>
                  <a:lnTo>
                    <a:pt x="2048" y="2200"/>
                  </a:lnTo>
                  <a:lnTo>
                    <a:pt x="2008" y="2200"/>
                  </a:lnTo>
                  <a:lnTo>
                    <a:pt x="1952" y="2188"/>
                  </a:lnTo>
                  <a:lnTo>
                    <a:pt x="1936" y="2160"/>
                  </a:lnTo>
                  <a:lnTo>
                    <a:pt x="1912" y="2136"/>
                  </a:lnTo>
                  <a:lnTo>
                    <a:pt x="1892" y="2104"/>
                  </a:lnTo>
                  <a:lnTo>
                    <a:pt x="1872" y="2084"/>
                  </a:lnTo>
                  <a:lnTo>
                    <a:pt x="1836" y="2076"/>
                  </a:lnTo>
                  <a:lnTo>
                    <a:pt x="1800" y="2076"/>
                  </a:lnTo>
                  <a:lnTo>
                    <a:pt x="1744" y="2056"/>
                  </a:lnTo>
                  <a:lnTo>
                    <a:pt x="1720" y="2036"/>
                  </a:lnTo>
                  <a:lnTo>
                    <a:pt x="1660" y="2032"/>
                  </a:lnTo>
                  <a:lnTo>
                    <a:pt x="1612" y="2040"/>
                  </a:lnTo>
                  <a:lnTo>
                    <a:pt x="1556" y="2060"/>
                  </a:lnTo>
                  <a:lnTo>
                    <a:pt x="1528" y="2076"/>
                  </a:lnTo>
                  <a:lnTo>
                    <a:pt x="1528" y="2104"/>
                  </a:lnTo>
                  <a:lnTo>
                    <a:pt x="1560" y="2124"/>
                  </a:lnTo>
                  <a:lnTo>
                    <a:pt x="1592" y="2112"/>
                  </a:lnTo>
                  <a:lnTo>
                    <a:pt x="1624" y="2096"/>
                  </a:lnTo>
                  <a:lnTo>
                    <a:pt x="1660" y="2092"/>
                  </a:lnTo>
                  <a:lnTo>
                    <a:pt x="1688" y="2108"/>
                  </a:lnTo>
                  <a:lnTo>
                    <a:pt x="1696" y="2144"/>
                  </a:lnTo>
                  <a:lnTo>
                    <a:pt x="1712" y="2168"/>
                  </a:lnTo>
                  <a:lnTo>
                    <a:pt x="1748" y="2188"/>
                  </a:lnTo>
                  <a:lnTo>
                    <a:pt x="1796" y="2168"/>
                  </a:lnTo>
                  <a:lnTo>
                    <a:pt x="1832" y="2168"/>
                  </a:lnTo>
                  <a:lnTo>
                    <a:pt x="1864" y="2216"/>
                  </a:lnTo>
                  <a:lnTo>
                    <a:pt x="1880" y="2252"/>
                  </a:lnTo>
                  <a:lnTo>
                    <a:pt x="1912" y="2280"/>
                  </a:lnTo>
                  <a:lnTo>
                    <a:pt x="1960" y="2300"/>
                  </a:lnTo>
                  <a:lnTo>
                    <a:pt x="1996" y="2300"/>
                  </a:lnTo>
                  <a:lnTo>
                    <a:pt x="2040" y="2300"/>
                  </a:lnTo>
                  <a:lnTo>
                    <a:pt x="2076" y="2288"/>
                  </a:lnTo>
                  <a:lnTo>
                    <a:pt x="2120" y="2264"/>
                  </a:lnTo>
                  <a:lnTo>
                    <a:pt x="2160" y="2288"/>
                  </a:lnTo>
                  <a:lnTo>
                    <a:pt x="2176" y="2344"/>
                  </a:lnTo>
                  <a:lnTo>
                    <a:pt x="2184" y="2388"/>
                  </a:lnTo>
                  <a:lnTo>
                    <a:pt x="2164" y="2424"/>
                  </a:lnTo>
                  <a:lnTo>
                    <a:pt x="2108" y="2484"/>
                  </a:lnTo>
                  <a:lnTo>
                    <a:pt x="2064" y="2484"/>
                  </a:lnTo>
                  <a:lnTo>
                    <a:pt x="2024" y="2436"/>
                  </a:lnTo>
                  <a:lnTo>
                    <a:pt x="1976" y="2400"/>
                  </a:lnTo>
                  <a:lnTo>
                    <a:pt x="1936" y="2380"/>
                  </a:lnTo>
                  <a:lnTo>
                    <a:pt x="1896" y="2348"/>
                  </a:lnTo>
                  <a:lnTo>
                    <a:pt x="1864" y="2292"/>
                  </a:lnTo>
                  <a:lnTo>
                    <a:pt x="1824" y="2260"/>
                  </a:lnTo>
                  <a:lnTo>
                    <a:pt x="1788" y="2260"/>
                  </a:lnTo>
                  <a:lnTo>
                    <a:pt x="1788" y="2308"/>
                  </a:lnTo>
                  <a:lnTo>
                    <a:pt x="1812" y="2376"/>
                  </a:lnTo>
                  <a:lnTo>
                    <a:pt x="1832" y="2412"/>
                  </a:lnTo>
                  <a:lnTo>
                    <a:pt x="1840" y="2476"/>
                  </a:lnTo>
                  <a:lnTo>
                    <a:pt x="1812" y="2496"/>
                  </a:lnTo>
                  <a:lnTo>
                    <a:pt x="1784" y="2504"/>
                  </a:lnTo>
                  <a:lnTo>
                    <a:pt x="1728" y="2504"/>
                  </a:lnTo>
                  <a:lnTo>
                    <a:pt x="1668" y="2472"/>
                  </a:lnTo>
                  <a:lnTo>
                    <a:pt x="1628" y="2436"/>
                  </a:lnTo>
                  <a:lnTo>
                    <a:pt x="1576" y="2404"/>
                  </a:lnTo>
                  <a:lnTo>
                    <a:pt x="1532" y="2400"/>
                  </a:lnTo>
                  <a:lnTo>
                    <a:pt x="1484" y="2396"/>
                  </a:lnTo>
                  <a:cubicBezTo>
                    <a:pt x="1470" y="2382"/>
                    <a:pt x="1460" y="2364"/>
                    <a:pt x="1440" y="2384"/>
                  </a:cubicBezTo>
                  <a:lnTo>
                    <a:pt x="1416" y="2420"/>
                  </a:lnTo>
                  <a:lnTo>
                    <a:pt x="1376" y="2400"/>
                  </a:lnTo>
                  <a:lnTo>
                    <a:pt x="1352" y="2372"/>
                  </a:lnTo>
                  <a:lnTo>
                    <a:pt x="1320" y="2356"/>
                  </a:lnTo>
                  <a:lnTo>
                    <a:pt x="1284" y="2356"/>
                  </a:lnTo>
                  <a:lnTo>
                    <a:pt x="1256" y="2364"/>
                  </a:lnTo>
                  <a:lnTo>
                    <a:pt x="1256" y="2392"/>
                  </a:lnTo>
                  <a:lnTo>
                    <a:pt x="1276" y="2420"/>
                  </a:lnTo>
                  <a:lnTo>
                    <a:pt x="1316" y="2456"/>
                  </a:lnTo>
                  <a:lnTo>
                    <a:pt x="1368" y="2488"/>
                  </a:lnTo>
                  <a:lnTo>
                    <a:pt x="1432" y="2508"/>
                  </a:lnTo>
                  <a:lnTo>
                    <a:pt x="1484" y="2516"/>
                  </a:lnTo>
                  <a:lnTo>
                    <a:pt x="1548" y="2520"/>
                  </a:lnTo>
                  <a:lnTo>
                    <a:pt x="1624" y="2540"/>
                  </a:lnTo>
                  <a:lnTo>
                    <a:pt x="1708" y="2588"/>
                  </a:lnTo>
                  <a:lnTo>
                    <a:pt x="1744" y="2632"/>
                  </a:lnTo>
                  <a:lnTo>
                    <a:pt x="1760" y="2692"/>
                  </a:lnTo>
                  <a:lnTo>
                    <a:pt x="1716" y="2704"/>
                  </a:lnTo>
                  <a:lnTo>
                    <a:pt x="1672" y="2664"/>
                  </a:lnTo>
                  <a:lnTo>
                    <a:pt x="1644" y="2640"/>
                  </a:lnTo>
                  <a:lnTo>
                    <a:pt x="1596" y="2612"/>
                  </a:lnTo>
                  <a:lnTo>
                    <a:pt x="1540" y="2596"/>
                  </a:lnTo>
                  <a:lnTo>
                    <a:pt x="1512" y="2624"/>
                  </a:lnTo>
                  <a:lnTo>
                    <a:pt x="1496" y="2656"/>
                  </a:lnTo>
                  <a:lnTo>
                    <a:pt x="1456" y="2676"/>
                  </a:lnTo>
                  <a:lnTo>
                    <a:pt x="1432" y="2700"/>
                  </a:lnTo>
                  <a:lnTo>
                    <a:pt x="1360" y="2740"/>
                  </a:lnTo>
                  <a:lnTo>
                    <a:pt x="1320" y="2708"/>
                  </a:lnTo>
                  <a:lnTo>
                    <a:pt x="1288" y="2684"/>
                  </a:lnTo>
                  <a:lnTo>
                    <a:pt x="1248" y="2628"/>
                  </a:lnTo>
                  <a:lnTo>
                    <a:pt x="1220" y="2604"/>
                  </a:lnTo>
                  <a:lnTo>
                    <a:pt x="1184" y="2576"/>
                  </a:lnTo>
                  <a:lnTo>
                    <a:pt x="1144" y="2568"/>
                  </a:lnTo>
                  <a:lnTo>
                    <a:pt x="1088" y="2564"/>
                  </a:lnTo>
                  <a:lnTo>
                    <a:pt x="1028" y="2564"/>
                  </a:lnTo>
                  <a:lnTo>
                    <a:pt x="1000" y="2544"/>
                  </a:lnTo>
                  <a:lnTo>
                    <a:pt x="964" y="2528"/>
                  </a:lnTo>
                  <a:lnTo>
                    <a:pt x="904" y="2520"/>
                  </a:lnTo>
                  <a:lnTo>
                    <a:pt x="844" y="2532"/>
                  </a:lnTo>
                  <a:lnTo>
                    <a:pt x="792" y="2500"/>
                  </a:lnTo>
                  <a:lnTo>
                    <a:pt x="728" y="2464"/>
                  </a:lnTo>
                  <a:lnTo>
                    <a:pt x="664" y="2432"/>
                  </a:lnTo>
                  <a:lnTo>
                    <a:pt x="592" y="2392"/>
                  </a:lnTo>
                  <a:lnTo>
                    <a:pt x="564" y="2360"/>
                  </a:lnTo>
                  <a:lnTo>
                    <a:pt x="528" y="2316"/>
                  </a:lnTo>
                  <a:lnTo>
                    <a:pt x="504" y="2276"/>
                  </a:lnTo>
                  <a:lnTo>
                    <a:pt x="480" y="2232"/>
                  </a:lnTo>
                  <a:lnTo>
                    <a:pt x="440" y="2228"/>
                  </a:lnTo>
                  <a:lnTo>
                    <a:pt x="408" y="2236"/>
                  </a:lnTo>
                  <a:lnTo>
                    <a:pt x="388" y="2204"/>
                  </a:lnTo>
                  <a:lnTo>
                    <a:pt x="388" y="2164"/>
                  </a:lnTo>
                  <a:lnTo>
                    <a:pt x="328" y="2152"/>
                  </a:lnTo>
                  <a:lnTo>
                    <a:pt x="272" y="2168"/>
                  </a:lnTo>
                  <a:lnTo>
                    <a:pt x="208" y="2176"/>
                  </a:lnTo>
                  <a:lnTo>
                    <a:pt x="132" y="2180"/>
                  </a:lnTo>
                  <a:lnTo>
                    <a:pt x="96" y="2196"/>
                  </a:lnTo>
                  <a:lnTo>
                    <a:pt x="48" y="2204"/>
                  </a:lnTo>
                  <a:lnTo>
                    <a:pt x="0" y="220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27440" y="1251000"/>
              <a:ext cx="2692440" cy="793800"/>
            </a:xfrm>
            <a:custGeom>
              <a:avLst/>
              <a:gdLst/>
              <a:ahLst/>
              <a:rect l="l" t="t" r="r" b="b"/>
              <a:pathLst>
                <a:path w="1696" h="500">
                  <a:moveTo>
                    <a:pt x="0" y="124"/>
                  </a:moveTo>
                  <a:lnTo>
                    <a:pt x="28" y="172"/>
                  </a:lnTo>
                  <a:lnTo>
                    <a:pt x="88" y="208"/>
                  </a:lnTo>
                  <a:lnTo>
                    <a:pt x="128" y="236"/>
                  </a:lnTo>
                  <a:lnTo>
                    <a:pt x="180" y="248"/>
                  </a:lnTo>
                  <a:lnTo>
                    <a:pt x="232" y="236"/>
                  </a:lnTo>
                  <a:lnTo>
                    <a:pt x="260" y="216"/>
                  </a:lnTo>
                  <a:lnTo>
                    <a:pt x="296" y="212"/>
                  </a:lnTo>
                  <a:lnTo>
                    <a:pt x="308" y="236"/>
                  </a:lnTo>
                  <a:lnTo>
                    <a:pt x="292" y="264"/>
                  </a:lnTo>
                  <a:lnTo>
                    <a:pt x="324" y="284"/>
                  </a:lnTo>
                  <a:lnTo>
                    <a:pt x="376" y="304"/>
                  </a:lnTo>
                  <a:lnTo>
                    <a:pt x="400" y="316"/>
                  </a:lnTo>
                  <a:lnTo>
                    <a:pt x="456" y="336"/>
                  </a:lnTo>
                  <a:lnTo>
                    <a:pt x="492" y="368"/>
                  </a:lnTo>
                  <a:lnTo>
                    <a:pt x="532" y="384"/>
                  </a:lnTo>
                  <a:lnTo>
                    <a:pt x="564" y="392"/>
                  </a:lnTo>
                  <a:lnTo>
                    <a:pt x="596" y="392"/>
                  </a:lnTo>
                  <a:cubicBezTo>
                    <a:pt x="616" y="389"/>
                    <a:pt x="640" y="386"/>
                    <a:pt x="640" y="360"/>
                  </a:cubicBezTo>
                  <a:lnTo>
                    <a:pt x="644" y="336"/>
                  </a:lnTo>
                  <a:lnTo>
                    <a:pt x="624" y="304"/>
                  </a:lnTo>
                  <a:lnTo>
                    <a:pt x="588" y="288"/>
                  </a:lnTo>
                  <a:lnTo>
                    <a:pt x="600" y="244"/>
                  </a:lnTo>
                  <a:lnTo>
                    <a:pt x="632" y="224"/>
                  </a:lnTo>
                  <a:lnTo>
                    <a:pt x="636" y="200"/>
                  </a:lnTo>
                  <a:lnTo>
                    <a:pt x="636" y="172"/>
                  </a:lnTo>
                  <a:lnTo>
                    <a:pt x="676" y="160"/>
                  </a:lnTo>
                  <a:lnTo>
                    <a:pt x="712" y="176"/>
                  </a:lnTo>
                  <a:lnTo>
                    <a:pt x="724" y="208"/>
                  </a:lnTo>
                  <a:lnTo>
                    <a:pt x="728" y="244"/>
                  </a:lnTo>
                  <a:lnTo>
                    <a:pt x="720" y="288"/>
                  </a:lnTo>
                  <a:lnTo>
                    <a:pt x="724" y="316"/>
                  </a:lnTo>
                  <a:lnTo>
                    <a:pt x="776" y="344"/>
                  </a:lnTo>
                  <a:lnTo>
                    <a:pt x="828" y="344"/>
                  </a:lnTo>
                  <a:lnTo>
                    <a:pt x="868" y="324"/>
                  </a:lnTo>
                  <a:lnTo>
                    <a:pt x="916" y="308"/>
                  </a:lnTo>
                  <a:lnTo>
                    <a:pt x="940" y="308"/>
                  </a:lnTo>
                  <a:lnTo>
                    <a:pt x="972" y="328"/>
                  </a:lnTo>
                  <a:lnTo>
                    <a:pt x="1000" y="336"/>
                  </a:lnTo>
                  <a:lnTo>
                    <a:pt x="1036" y="352"/>
                  </a:lnTo>
                  <a:lnTo>
                    <a:pt x="1084" y="352"/>
                  </a:lnTo>
                  <a:lnTo>
                    <a:pt x="1112" y="352"/>
                  </a:lnTo>
                  <a:lnTo>
                    <a:pt x="1132" y="320"/>
                  </a:lnTo>
                  <a:lnTo>
                    <a:pt x="1116" y="288"/>
                  </a:lnTo>
                  <a:lnTo>
                    <a:pt x="1116" y="264"/>
                  </a:lnTo>
                  <a:lnTo>
                    <a:pt x="1128" y="240"/>
                  </a:lnTo>
                  <a:lnTo>
                    <a:pt x="1156" y="232"/>
                  </a:lnTo>
                  <a:lnTo>
                    <a:pt x="1204" y="252"/>
                  </a:lnTo>
                  <a:lnTo>
                    <a:pt x="1220" y="276"/>
                  </a:lnTo>
                  <a:lnTo>
                    <a:pt x="1236" y="300"/>
                  </a:lnTo>
                  <a:lnTo>
                    <a:pt x="1272" y="312"/>
                  </a:lnTo>
                  <a:lnTo>
                    <a:pt x="1308" y="324"/>
                  </a:lnTo>
                  <a:lnTo>
                    <a:pt x="1332" y="340"/>
                  </a:lnTo>
                  <a:lnTo>
                    <a:pt x="1308" y="372"/>
                  </a:lnTo>
                  <a:lnTo>
                    <a:pt x="1304" y="396"/>
                  </a:lnTo>
                  <a:lnTo>
                    <a:pt x="1344" y="420"/>
                  </a:lnTo>
                  <a:lnTo>
                    <a:pt x="1388" y="412"/>
                  </a:lnTo>
                  <a:lnTo>
                    <a:pt x="1420" y="404"/>
                  </a:lnTo>
                  <a:lnTo>
                    <a:pt x="1444" y="388"/>
                  </a:lnTo>
                  <a:lnTo>
                    <a:pt x="1484" y="372"/>
                  </a:lnTo>
                  <a:lnTo>
                    <a:pt x="1524" y="408"/>
                  </a:lnTo>
                  <a:lnTo>
                    <a:pt x="1556" y="432"/>
                  </a:lnTo>
                  <a:lnTo>
                    <a:pt x="1560" y="460"/>
                  </a:lnTo>
                  <a:lnTo>
                    <a:pt x="1604" y="488"/>
                  </a:lnTo>
                  <a:lnTo>
                    <a:pt x="1652" y="500"/>
                  </a:lnTo>
                  <a:lnTo>
                    <a:pt x="1688" y="488"/>
                  </a:lnTo>
                  <a:lnTo>
                    <a:pt x="1696" y="460"/>
                  </a:lnTo>
                  <a:lnTo>
                    <a:pt x="1676" y="396"/>
                  </a:lnTo>
                  <a:lnTo>
                    <a:pt x="1652" y="376"/>
                  </a:lnTo>
                  <a:lnTo>
                    <a:pt x="1620" y="344"/>
                  </a:lnTo>
                  <a:lnTo>
                    <a:pt x="1612" y="320"/>
                  </a:lnTo>
                  <a:lnTo>
                    <a:pt x="1584" y="280"/>
                  </a:lnTo>
                  <a:lnTo>
                    <a:pt x="1564" y="236"/>
                  </a:lnTo>
                  <a:lnTo>
                    <a:pt x="1564" y="200"/>
                  </a:lnTo>
                  <a:lnTo>
                    <a:pt x="1516" y="164"/>
                  </a:lnTo>
                  <a:lnTo>
                    <a:pt x="1484" y="148"/>
                  </a:lnTo>
                  <a:lnTo>
                    <a:pt x="1432" y="136"/>
                  </a:lnTo>
                  <a:lnTo>
                    <a:pt x="1384" y="116"/>
                  </a:lnTo>
                  <a:lnTo>
                    <a:pt x="1376" y="148"/>
                  </a:lnTo>
                  <a:lnTo>
                    <a:pt x="1328" y="156"/>
                  </a:lnTo>
                  <a:lnTo>
                    <a:pt x="1244" y="152"/>
                  </a:lnTo>
                  <a:lnTo>
                    <a:pt x="1184" y="124"/>
                  </a:lnTo>
                  <a:lnTo>
                    <a:pt x="1120" y="108"/>
                  </a:lnTo>
                  <a:lnTo>
                    <a:pt x="1032" y="68"/>
                  </a:lnTo>
                  <a:lnTo>
                    <a:pt x="984" y="64"/>
                  </a:lnTo>
                  <a:lnTo>
                    <a:pt x="912" y="88"/>
                  </a:lnTo>
                  <a:lnTo>
                    <a:pt x="888" y="132"/>
                  </a:lnTo>
                  <a:lnTo>
                    <a:pt x="856" y="188"/>
                  </a:lnTo>
                  <a:lnTo>
                    <a:pt x="800" y="176"/>
                  </a:lnTo>
                  <a:lnTo>
                    <a:pt x="744" y="152"/>
                  </a:lnTo>
                  <a:lnTo>
                    <a:pt x="700" y="112"/>
                  </a:lnTo>
                  <a:lnTo>
                    <a:pt x="640" y="76"/>
                  </a:lnTo>
                  <a:lnTo>
                    <a:pt x="544" y="84"/>
                  </a:lnTo>
                  <a:lnTo>
                    <a:pt x="460" y="84"/>
                  </a:lnTo>
                  <a:lnTo>
                    <a:pt x="388" y="104"/>
                  </a:lnTo>
                  <a:lnTo>
                    <a:pt x="316" y="104"/>
                  </a:lnTo>
                  <a:lnTo>
                    <a:pt x="256" y="92"/>
                  </a:lnTo>
                  <a:lnTo>
                    <a:pt x="208" y="60"/>
                  </a:lnTo>
                  <a:lnTo>
                    <a:pt x="208" y="12"/>
                  </a:lnTo>
                  <a:lnTo>
                    <a:pt x="160" y="0"/>
                  </a:lnTo>
                  <a:lnTo>
                    <a:pt x="112" y="44"/>
                  </a:lnTo>
                  <a:lnTo>
                    <a:pt x="60" y="76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5320" y="3962520"/>
              <a:ext cx="21600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64200" y="2533680"/>
              <a:ext cx="641520" cy="857160"/>
            </a:xfrm>
            <a:custGeom>
              <a:avLst/>
              <a:gdLst/>
              <a:ahLst/>
              <a:rect l="l" t="t" r="r" b="b"/>
              <a:pathLst>
                <a:path w="404" h="540">
                  <a:moveTo>
                    <a:pt x="4" y="488"/>
                  </a:moveTo>
                  <a:lnTo>
                    <a:pt x="0" y="452"/>
                  </a:lnTo>
                  <a:lnTo>
                    <a:pt x="16" y="420"/>
                  </a:lnTo>
                  <a:lnTo>
                    <a:pt x="52" y="400"/>
                  </a:lnTo>
                  <a:cubicBezTo>
                    <a:pt x="56" y="383"/>
                    <a:pt x="56" y="389"/>
                    <a:pt x="56" y="380"/>
                  </a:cubicBezTo>
                  <a:lnTo>
                    <a:pt x="56" y="356"/>
                  </a:lnTo>
                  <a:cubicBezTo>
                    <a:pt x="59" y="342"/>
                    <a:pt x="62" y="334"/>
                    <a:pt x="72" y="324"/>
                  </a:cubicBezTo>
                  <a:lnTo>
                    <a:pt x="92" y="304"/>
                  </a:lnTo>
                  <a:lnTo>
                    <a:pt x="104" y="268"/>
                  </a:lnTo>
                  <a:lnTo>
                    <a:pt x="104" y="232"/>
                  </a:lnTo>
                  <a:lnTo>
                    <a:pt x="108" y="188"/>
                  </a:lnTo>
                  <a:lnTo>
                    <a:pt x="136" y="164"/>
                  </a:lnTo>
                  <a:lnTo>
                    <a:pt x="156" y="144"/>
                  </a:lnTo>
                  <a:lnTo>
                    <a:pt x="172" y="120"/>
                  </a:lnTo>
                  <a:lnTo>
                    <a:pt x="204" y="96"/>
                  </a:lnTo>
                  <a:lnTo>
                    <a:pt x="232" y="92"/>
                  </a:lnTo>
                  <a:lnTo>
                    <a:pt x="264" y="100"/>
                  </a:lnTo>
                  <a:lnTo>
                    <a:pt x="292" y="88"/>
                  </a:lnTo>
                  <a:lnTo>
                    <a:pt x="300" y="44"/>
                  </a:lnTo>
                  <a:lnTo>
                    <a:pt x="316" y="16"/>
                  </a:lnTo>
                  <a:lnTo>
                    <a:pt x="348" y="0"/>
                  </a:lnTo>
                  <a:lnTo>
                    <a:pt x="372" y="36"/>
                  </a:lnTo>
                  <a:lnTo>
                    <a:pt x="364" y="12"/>
                  </a:lnTo>
                  <a:lnTo>
                    <a:pt x="404" y="52"/>
                  </a:lnTo>
                  <a:lnTo>
                    <a:pt x="388" y="100"/>
                  </a:lnTo>
                  <a:lnTo>
                    <a:pt x="356" y="116"/>
                  </a:lnTo>
                  <a:lnTo>
                    <a:pt x="324" y="140"/>
                  </a:lnTo>
                  <a:lnTo>
                    <a:pt x="296" y="168"/>
                  </a:lnTo>
                  <a:lnTo>
                    <a:pt x="268" y="188"/>
                  </a:lnTo>
                  <a:lnTo>
                    <a:pt x="244" y="196"/>
                  </a:lnTo>
                  <a:lnTo>
                    <a:pt x="232" y="220"/>
                  </a:lnTo>
                  <a:lnTo>
                    <a:pt x="224" y="252"/>
                  </a:lnTo>
                  <a:lnTo>
                    <a:pt x="196" y="260"/>
                  </a:lnTo>
                  <a:lnTo>
                    <a:pt x="176" y="288"/>
                  </a:lnTo>
                  <a:lnTo>
                    <a:pt x="172" y="316"/>
                  </a:lnTo>
                  <a:lnTo>
                    <a:pt x="156" y="336"/>
                  </a:lnTo>
                  <a:lnTo>
                    <a:pt x="124" y="356"/>
                  </a:lnTo>
                  <a:lnTo>
                    <a:pt x="100" y="404"/>
                  </a:lnTo>
                  <a:lnTo>
                    <a:pt x="100" y="428"/>
                  </a:lnTo>
                  <a:lnTo>
                    <a:pt x="100" y="452"/>
                  </a:lnTo>
                  <a:lnTo>
                    <a:pt x="100" y="476"/>
                  </a:lnTo>
                  <a:lnTo>
                    <a:pt x="100" y="516"/>
                  </a:lnTo>
                  <a:lnTo>
                    <a:pt x="60" y="540"/>
                  </a:lnTo>
                  <a:lnTo>
                    <a:pt x="24" y="532"/>
                  </a:lnTo>
                  <a:lnTo>
                    <a:pt x="4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1400" y="2965320"/>
              <a:ext cx="444600" cy="247680"/>
            </a:xfrm>
            <a:custGeom>
              <a:avLst/>
              <a:gdLst/>
              <a:ahLst/>
              <a:rect l="l" t="t" r="r" b="b"/>
              <a:pathLst>
                <a:path w="280" h="156">
                  <a:moveTo>
                    <a:pt x="28" y="0"/>
                  </a:moveTo>
                  <a:lnTo>
                    <a:pt x="4" y="20"/>
                  </a:lnTo>
                  <a:lnTo>
                    <a:pt x="0" y="40"/>
                  </a:lnTo>
                  <a:lnTo>
                    <a:pt x="8" y="64"/>
                  </a:lnTo>
                  <a:lnTo>
                    <a:pt x="28" y="80"/>
                  </a:lnTo>
                  <a:lnTo>
                    <a:pt x="88" y="100"/>
                  </a:lnTo>
                  <a:lnTo>
                    <a:pt x="104" y="132"/>
                  </a:lnTo>
                  <a:lnTo>
                    <a:pt x="128" y="140"/>
                  </a:lnTo>
                  <a:lnTo>
                    <a:pt x="152" y="148"/>
                  </a:lnTo>
                  <a:lnTo>
                    <a:pt x="180" y="148"/>
                  </a:lnTo>
                  <a:lnTo>
                    <a:pt x="204" y="148"/>
                  </a:lnTo>
                  <a:lnTo>
                    <a:pt x="244" y="148"/>
                  </a:lnTo>
                  <a:lnTo>
                    <a:pt x="268" y="156"/>
                  </a:lnTo>
                  <a:lnTo>
                    <a:pt x="280" y="132"/>
                  </a:lnTo>
                  <a:lnTo>
                    <a:pt x="268" y="104"/>
                  </a:lnTo>
                  <a:lnTo>
                    <a:pt x="248" y="84"/>
                  </a:lnTo>
                  <a:lnTo>
                    <a:pt x="216" y="56"/>
                  </a:lnTo>
                  <a:lnTo>
                    <a:pt x="184" y="52"/>
                  </a:lnTo>
                  <a:lnTo>
                    <a:pt x="136" y="68"/>
                  </a:lnTo>
                  <a:lnTo>
                    <a:pt x="108" y="68"/>
                  </a:lnTo>
                  <a:lnTo>
                    <a:pt x="84" y="40"/>
                  </a:lnTo>
                  <a:lnTo>
                    <a:pt x="52" y="20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40" y="0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7280" y="1244520"/>
              <a:ext cx="927000" cy="266760"/>
            </a:xfrm>
            <a:custGeom>
              <a:avLst/>
              <a:gdLst/>
              <a:ahLst/>
              <a:rect l="l" t="t" r="r" b="b"/>
              <a:pathLst>
                <a:path w="584" h="168">
                  <a:moveTo>
                    <a:pt x="0" y="100"/>
                  </a:moveTo>
                  <a:lnTo>
                    <a:pt x="12" y="120"/>
                  </a:lnTo>
                  <a:lnTo>
                    <a:pt x="36" y="140"/>
                  </a:lnTo>
                  <a:lnTo>
                    <a:pt x="80" y="160"/>
                  </a:lnTo>
                  <a:lnTo>
                    <a:pt x="128" y="144"/>
                  </a:lnTo>
                  <a:lnTo>
                    <a:pt x="156" y="140"/>
                  </a:lnTo>
                  <a:lnTo>
                    <a:pt x="196" y="148"/>
                  </a:lnTo>
                  <a:lnTo>
                    <a:pt x="260" y="168"/>
                  </a:lnTo>
                  <a:lnTo>
                    <a:pt x="300" y="168"/>
                  </a:lnTo>
                  <a:lnTo>
                    <a:pt x="340" y="156"/>
                  </a:lnTo>
                  <a:lnTo>
                    <a:pt x="396" y="140"/>
                  </a:lnTo>
                  <a:lnTo>
                    <a:pt x="428" y="136"/>
                  </a:lnTo>
                  <a:lnTo>
                    <a:pt x="496" y="136"/>
                  </a:lnTo>
                  <a:lnTo>
                    <a:pt x="560" y="132"/>
                  </a:lnTo>
                  <a:lnTo>
                    <a:pt x="584" y="116"/>
                  </a:lnTo>
                  <a:lnTo>
                    <a:pt x="580" y="80"/>
                  </a:lnTo>
                  <a:lnTo>
                    <a:pt x="512" y="80"/>
                  </a:lnTo>
                  <a:lnTo>
                    <a:pt x="464" y="80"/>
                  </a:lnTo>
                  <a:lnTo>
                    <a:pt x="440" y="92"/>
                  </a:lnTo>
                  <a:lnTo>
                    <a:pt x="392" y="100"/>
                  </a:lnTo>
                  <a:lnTo>
                    <a:pt x="356" y="104"/>
                  </a:lnTo>
                  <a:lnTo>
                    <a:pt x="320" y="108"/>
                  </a:lnTo>
                  <a:lnTo>
                    <a:pt x="292" y="112"/>
                  </a:lnTo>
                  <a:lnTo>
                    <a:pt x="252" y="112"/>
                  </a:lnTo>
                  <a:lnTo>
                    <a:pt x="220" y="100"/>
                  </a:lnTo>
                  <a:lnTo>
                    <a:pt x="196" y="60"/>
                  </a:lnTo>
                  <a:lnTo>
                    <a:pt x="172" y="16"/>
                  </a:lnTo>
                  <a:lnTo>
                    <a:pt x="148" y="0"/>
                  </a:lnTo>
                  <a:lnTo>
                    <a:pt x="112" y="16"/>
                  </a:lnTo>
                  <a:lnTo>
                    <a:pt x="68" y="52"/>
                  </a:lnTo>
                  <a:lnTo>
                    <a:pt x="44" y="64"/>
                  </a:lnTo>
                  <a:lnTo>
                    <a:pt x="16" y="72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3680" y="604800"/>
              <a:ext cx="6340320" cy="5435640"/>
            </a:xfrm>
            <a:custGeom>
              <a:avLst/>
              <a:gdLst/>
              <a:ahLst/>
              <a:rect l="l" t="t" r="r" b="b"/>
              <a:pathLst>
                <a:path w="3994" h="3424">
                  <a:moveTo>
                    <a:pt x="120" y="3424"/>
                  </a:moveTo>
                  <a:lnTo>
                    <a:pt x="128" y="2351"/>
                  </a:lnTo>
                  <a:lnTo>
                    <a:pt x="92" y="2266"/>
                  </a:lnTo>
                  <a:lnTo>
                    <a:pt x="142" y="2217"/>
                  </a:lnTo>
                  <a:lnTo>
                    <a:pt x="149" y="1970"/>
                  </a:lnTo>
                  <a:lnTo>
                    <a:pt x="120" y="1927"/>
                  </a:lnTo>
                  <a:lnTo>
                    <a:pt x="135" y="1871"/>
                  </a:lnTo>
                  <a:lnTo>
                    <a:pt x="142" y="1793"/>
                  </a:lnTo>
                  <a:lnTo>
                    <a:pt x="128" y="1617"/>
                  </a:lnTo>
                  <a:lnTo>
                    <a:pt x="177" y="1553"/>
                  </a:lnTo>
                  <a:lnTo>
                    <a:pt x="156" y="1511"/>
                  </a:lnTo>
                  <a:lnTo>
                    <a:pt x="120" y="1468"/>
                  </a:lnTo>
                  <a:lnTo>
                    <a:pt x="113" y="1405"/>
                  </a:lnTo>
                  <a:lnTo>
                    <a:pt x="71" y="1363"/>
                  </a:lnTo>
                  <a:lnTo>
                    <a:pt x="43" y="1313"/>
                  </a:lnTo>
                  <a:lnTo>
                    <a:pt x="22" y="1257"/>
                  </a:lnTo>
                  <a:lnTo>
                    <a:pt x="0" y="1207"/>
                  </a:lnTo>
                  <a:lnTo>
                    <a:pt x="29" y="1087"/>
                  </a:lnTo>
                  <a:lnTo>
                    <a:pt x="43" y="1017"/>
                  </a:lnTo>
                  <a:lnTo>
                    <a:pt x="78" y="995"/>
                  </a:lnTo>
                  <a:lnTo>
                    <a:pt x="128" y="1003"/>
                  </a:lnTo>
                  <a:lnTo>
                    <a:pt x="163" y="1031"/>
                  </a:lnTo>
                  <a:lnTo>
                    <a:pt x="212" y="1052"/>
                  </a:lnTo>
                  <a:lnTo>
                    <a:pt x="283" y="1059"/>
                  </a:lnTo>
                  <a:lnTo>
                    <a:pt x="325" y="1087"/>
                  </a:lnTo>
                  <a:lnTo>
                    <a:pt x="382" y="1087"/>
                  </a:lnTo>
                  <a:lnTo>
                    <a:pt x="438" y="1031"/>
                  </a:lnTo>
                  <a:lnTo>
                    <a:pt x="473" y="953"/>
                  </a:lnTo>
                  <a:lnTo>
                    <a:pt x="516" y="911"/>
                  </a:lnTo>
                  <a:lnTo>
                    <a:pt x="558" y="875"/>
                  </a:lnTo>
                  <a:lnTo>
                    <a:pt x="579" y="819"/>
                  </a:lnTo>
                  <a:lnTo>
                    <a:pt x="600" y="784"/>
                  </a:lnTo>
                  <a:lnTo>
                    <a:pt x="629" y="755"/>
                  </a:lnTo>
                  <a:lnTo>
                    <a:pt x="678" y="720"/>
                  </a:lnTo>
                  <a:lnTo>
                    <a:pt x="720" y="720"/>
                  </a:lnTo>
                  <a:lnTo>
                    <a:pt x="770" y="727"/>
                  </a:lnTo>
                  <a:lnTo>
                    <a:pt x="833" y="734"/>
                  </a:lnTo>
                  <a:lnTo>
                    <a:pt x="862" y="692"/>
                  </a:lnTo>
                  <a:lnTo>
                    <a:pt x="888" y="691"/>
                  </a:lnTo>
                  <a:lnTo>
                    <a:pt x="904" y="727"/>
                  </a:lnTo>
                  <a:lnTo>
                    <a:pt x="939" y="699"/>
                  </a:lnTo>
                  <a:lnTo>
                    <a:pt x="968" y="707"/>
                  </a:lnTo>
                  <a:lnTo>
                    <a:pt x="989" y="734"/>
                  </a:lnTo>
                  <a:lnTo>
                    <a:pt x="1032" y="715"/>
                  </a:lnTo>
                  <a:lnTo>
                    <a:pt x="1066" y="734"/>
                  </a:lnTo>
                  <a:lnTo>
                    <a:pt x="1137" y="741"/>
                  </a:lnTo>
                  <a:lnTo>
                    <a:pt x="1176" y="739"/>
                  </a:lnTo>
                  <a:lnTo>
                    <a:pt x="1208" y="770"/>
                  </a:lnTo>
                  <a:lnTo>
                    <a:pt x="1228" y="755"/>
                  </a:lnTo>
                  <a:lnTo>
                    <a:pt x="1236" y="707"/>
                  </a:lnTo>
                  <a:lnTo>
                    <a:pt x="1264" y="715"/>
                  </a:lnTo>
                  <a:lnTo>
                    <a:pt x="1252" y="799"/>
                  </a:lnTo>
                  <a:lnTo>
                    <a:pt x="1280" y="815"/>
                  </a:lnTo>
                  <a:lnTo>
                    <a:pt x="1296" y="783"/>
                  </a:lnTo>
                  <a:lnTo>
                    <a:pt x="1320" y="779"/>
                  </a:lnTo>
                  <a:lnTo>
                    <a:pt x="1328" y="827"/>
                  </a:lnTo>
                  <a:lnTo>
                    <a:pt x="1360" y="811"/>
                  </a:lnTo>
                  <a:lnTo>
                    <a:pt x="1405" y="826"/>
                  </a:lnTo>
                  <a:lnTo>
                    <a:pt x="1416" y="795"/>
                  </a:lnTo>
                  <a:lnTo>
                    <a:pt x="1398" y="770"/>
                  </a:lnTo>
                  <a:lnTo>
                    <a:pt x="1356" y="741"/>
                  </a:lnTo>
                  <a:lnTo>
                    <a:pt x="1320" y="699"/>
                  </a:lnTo>
                  <a:lnTo>
                    <a:pt x="1306" y="643"/>
                  </a:lnTo>
                  <a:lnTo>
                    <a:pt x="1320" y="593"/>
                  </a:lnTo>
                  <a:lnTo>
                    <a:pt x="1370" y="544"/>
                  </a:lnTo>
                  <a:lnTo>
                    <a:pt x="1419" y="551"/>
                  </a:lnTo>
                  <a:lnTo>
                    <a:pt x="1462" y="579"/>
                  </a:lnTo>
                  <a:lnTo>
                    <a:pt x="1553" y="600"/>
                  </a:lnTo>
                  <a:lnTo>
                    <a:pt x="1603" y="621"/>
                  </a:lnTo>
                  <a:lnTo>
                    <a:pt x="1638" y="650"/>
                  </a:lnTo>
                  <a:lnTo>
                    <a:pt x="1680" y="643"/>
                  </a:lnTo>
                  <a:lnTo>
                    <a:pt x="1723" y="600"/>
                  </a:lnTo>
                  <a:lnTo>
                    <a:pt x="1779" y="586"/>
                  </a:lnTo>
                  <a:lnTo>
                    <a:pt x="1822" y="586"/>
                  </a:lnTo>
                  <a:lnTo>
                    <a:pt x="1864" y="635"/>
                  </a:lnTo>
                  <a:lnTo>
                    <a:pt x="1876" y="679"/>
                  </a:lnTo>
                  <a:lnTo>
                    <a:pt x="1920" y="683"/>
                  </a:lnTo>
                  <a:lnTo>
                    <a:pt x="1956" y="657"/>
                  </a:lnTo>
                  <a:lnTo>
                    <a:pt x="2005" y="607"/>
                  </a:lnTo>
                  <a:lnTo>
                    <a:pt x="2026" y="572"/>
                  </a:lnTo>
                  <a:lnTo>
                    <a:pt x="2055" y="530"/>
                  </a:lnTo>
                  <a:lnTo>
                    <a:pt x="2104" y="480"/>
                  </a:lnTo>
                  <a:lnTo>
                    <a:pt x="2160" y="459"/>
                  </a:lnTo>
                  <a:lnTo>
                    <a:pt x="2217" y="410"/>
                  </a:lnTo>
                  <a:lnTo>
                    <a:pt x="2266" y="417"/>
                  </a:lnTo>
                  <a:cubicBezTo>
                    <a:pt x="2266" y="433"/>
                    <a:pt x="2266" y="450"/>
                    <a:pt x="2266" y="466"/>
                  </a:cubicBezTo>
                  <a:lnTo>
                    <a:pt x="2323" y="508"/>
                  </a:lnTo>
                  <a:lnTo>
                    <a:pt x="2393" y="515"/>
                  </a:lnTo>
                  <a:lnTo>
                    <a:pt x="2443" y="515"/>
                  </a:lnTo>
                  <a:lnTo>
                    <a:pt x="2499" y="501"/>
                  </a:lnTo>
                  <a:lnTo>
                    <a:pt x="2577" y="494"/>
                  </a:lnTo>
                  <a:lnTo>
                    <a:pt x="2640" y="487"/>
                  </a:lnTo>
                  <a:lnTo>
                    <a:pt x="2697" y="487"/>
                  </a:lnTo>
                  <a:lnTo>
                    <a:pt x="2739" y="508"/>
                  </a:lnTo>
                  <a:lnTo>
                    <a:pt x="2810" y="565"/>
                  </a:lnTo>
                  <a:lnTo>
                    <a:pt x="2859" y="593"/>
                  </a:lnTo>
                  <a:lnTo>
                    <a:pt x="2916" y="593"/>
                  </a:lnTo>
                  <a:lnTo>
                    <a:pt x="2937" y="558"/>
                  </a:lnTo>
                  <a:lnTo>
                    <a:pt x="2958" y="494"/>
                  </a:lnTo>
                  <a:lnTo>
                    <a:pt x="3036" y="473"/>
                  </a:lnTo>
                  <a:lnTo>
                    <a:pt x="3085" y="473"/>
                  </a:lnTo>
                  <a:lnTo>
                    <a:pt x="3149" y="508"/>
                  </a:lnTo>
                  <a:lnTo>
                    <a:pt x="3233" y="523"/>
                  </a:lnTo>
                  <a:lnTo>
                    <a:pt x="3297" y="551"/>
                  </a:lnTo>
                  <a:lnTo>
                    <a:pt x="3368" y="565"/>
                  </a:lnTo>
                  <a:lnTo>
                    <a:pt x="3431" y="558"/>
                  </a:lnTo>
                  <a:lnTo>
                    <a:pt x="3445" y="515"/>
                  </a:lnTo>
                  <a:lnTo>
                    <a:pt x="3480" y="487"/>
                  </a:lnTo>
                  <a:lnTo>
                    <a:pt x="3544" y="473"/>
                  </a:lnTo>
                  <a:lnTo>
                    <a:pt x="3600" y="473"/>
                  </a:lnTo>
                  <a:lnTo>
                    <a:pt x="3629" y="410"/>
                  </a:lnTo>
                  <a:lnTo>
                    <a:pt x="3692" y="395"/>
                  </a:lnTo>
                  <a:lnTo>
                    <a:pt x="3742" y="332"/>
                  </a:lnTo>
                  <a:lnTo>
                    <a:pt x="3777" y="275"/>
                  </a:lnTo>
                  <a:lnTo>
                    <a:pt x="3805" y="233"/>
                  </a:lnTo>
                  <a:lnTo>
                    <a:pt x="3805" y="184"/>
                  </a:lnTo>
                  <a:lnTo>
                    <a:pt x="3840" y="163"/>
                  </a:lnTo>
                  <a:lnTo>
                    <a:pt x="3883" y="127"/>
                  </a:lnTo>
                  <a:lnTo>
                    <a:pt x="3934" y="96"/>
                  </a:lnTo>
                  <a:lnTo>
                    <a:pt x="3949" y="9"/>
                  </a:lnTo>
                  <a:lnTo>
                    <a:pt x="3994" y="0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4120" y="5654520"/>
              <a:ext cx="7418160" cy="1019160"/>
            </a:xfrm>
            <a:custGeom>
              <a:avLst/>
              <a:gdLst/>
              <a:ahLst/>
              <a:rect l="l" t="t" r="r" b="b"/>
              <a:pathLst>
                <a:path w="4673" h="642">
                  <a:moveTo>
                    <a:pt x="0" y="243"/>
                  </a:moveTo>
                  <a:cubicBezTo>
                    <a:pt x="22" y="246"/>
                    <a:pt x="44" y="249"/>
                    <a:pt x="64" y="257"/>
                  </a:cubicBezTo>
                  <a:cubicBezTo>
                    <a:pt x="84" y="265"/>
                    <a:pt x="98" y="284"/>
                    <a:pt x="120" y="292"/>
                  </a:cubicBezTo>
                  <a:cubicBezTo>
                    <a:pt x="142" y="300"/>
                    <a:pt x="176" y="301"/>
                    <a:pt x="198" y="306"/>
                  </a:cubicBezTo>
                  <a:cubicBezTo>
                    <a:pt x="220" y="311"/>
                    <a:pt x="235" y="318"/>
                    <a:pt x="255" y="320"/>
                  </a:cubicBezTo>
                  <a:cubicBezTo>
                    <a:pt x="275" y="322"/>
                    <a:pt x="293" y="328"/>
                    <a:pt x="318" y="320"/>
                  </a:cubicBezTo>
                  <a:cubicBezTo>
                    <a:pt x="343" y="312"/>
                    <a:pt x="381" y="285"/>
                    <a:pt x="403" y="271"/>
                  </a:cubicBezTo>
                  <a:cubicBezTo>
                    <a:pt x="425" y="257"/>
                    <a:pt x="438" y="238"/>
                    <a:pt x="452" y="236"/>
                  </a:cubicBezTo>
                  <a:cubicBezTo>
                    <a:pt x="466" y="234"/>
                    <a:pt x="474" y="254"/>
                    <a:pt x="488" y="257"/>
                  </a:cubicBezTo>
                  <a:cubicBezTo>
                    <a:pt x="502" y="260"/>
                    <a:pt x="523" y="265"/>
                    <a:pt x="537" y="257"/>
                  </a:cubicBezTo>
                  <a:cubicBezTo>
                    <a:pt x="551" y="249"/>
                    <a:pt x="554" y="220"/>
                    <a:pt x="572" y="207"/>
                  </a:cubicBezTo>
                  <a:cubicBezTo>
                    <a:pt x="590" y="194"/>
                    <a:pt x="622" y="184"/>
                    <a:pt x="643" y="179"/>
                  </a:cubicBezTo>
                  <a:cubicBezTo>
                    <a:pt x="664" y="174"/>
                    <a:pt x="677" y="178"/>
                    <a:pt x="699" y="179"/>
                  </a:cubicBezTo>
                  <a:cubicBezTo>
                    <a:pt x="721" y="180"/>
                    <a:pt x="751" y="181"/>
                    <a:pt x="777" y="186"/>
                  </a:cubicBezTo>
                  <a:cubicBezTo>
                    <a:pt x="803" y="191"/>
                    <a:pt x="834" y="206"/>
                    <a:pt x="855" y="207"/>
                  </a:cubicBezTo>
                  <a:cubicBezTo>
                    <a:pt x="876" y="208"/>
                    <a:pt x="883" y="193"/>
                    <a:pt x="904" y="193"/>
                  </a:cubicBezTo>
                  <a:cubicBezTo>
                    <a:pt x="925" y="193"/>
                    <a:pt x="959" y="205"/>
                    <a:pt x="982" y="207"/>
                  </a:cubicBezTo>
                  <a:cubicBezTo>
                    <a:pt x="1005" y="209"/>
                    <a:pt x="1018" y="209"/>
                    <a:pt x="1045" y="207"/>
                  </a:cubicBezTo>
                  <a:cubicBezTo>
                    <a:pt x="1072" y="205"/>
                    <a:pt x="1124" y="201"/>
                    <a:pt x="1144" y="193"/>
                  </a:cubicBezTo>
                  <a:cubicBezTo>
                    <a:pt x="1164" y="185"/>
                    <a:pt x="1153" y="167"/>
                    <a:pt x="1165" y="158"/>
                  </a:cubicBezTo>
                  <a:cubicBezTo>
                    <a:pt x="1177" y="149"/>
                    <a:pt x="1195" y="141"/>
                    <a:pt x="1215" y="137"/>
                  </a:cubicBezTo>
                  <a:cubicBezTo>
                    <a:pt x="1235" y="133"/>
                    <a:pt x="1268" y="134"/>
                    <a:pt x="1285" y="137"/>
                  </a:cubicBezTo>
                  <a:cubicBezTo>
                    <a:pt x="1302" y="140"/>
                    <a:pt x="1307" y="160"/>
                    <a:pt x="1320" y="158"/>
                  </a:cubicBezTo>
                  <a:cubicBezTo>
                    <a:pt x="1333" y="156"/>
                    <a:pt x="1350" y="124"/>
                    <a:pt x="1363" y="123"/>
                  </a:cubicBezTo>
                  <a:cubicBezTo>
                    <a:pt x="1376" y="122"/>
                    <a:pt x="1385" y="140"/>
                    <a:pt x="1398" y="151"/>
                  </a:cubicBezTo>
                  <a:cubicBezTo>
                    <a:pt x="1411" y="162"/>
                    <a:pt x="1427" y="177"/>
                    <a:pt x="1440" y="186"/>
                  </a:cubicBezTo>
                  <a:cubicBezTo>
                    <a:pt x="1453" y="195"/>
                    <a:pt x="1461" y="201"/>
                    <a:pt x="1476" y="207"/>
                  </a:cubicBezTo>
                  <a:cubicBezTo>
                    <a:pt x="1491" y="213"/>
                    <a:pt x="1520" y="230"/>
                    <a:pt x="1532" y="222"/>
                  </a:cubicBezTo>
                  <a:cubicBezTo>
                    <a:pt x="1544" y="214"/>
                    <a:pt x="1537" y="175"/>
                    <a:pt x="1546" y="158"/>
                  </a:cubicBezTo>
                  <a:cubicBezTo>
                    <a:pt x="1555" y="141"/>
                    <a:pt x="1575" y="123"/>
                    <a:pt x="1589" y="116"/>
                  </a:cubicBezTo>
                  <a:cubicBezTo>
                    <a:pt x="1603" y="109"/>
                    <a:pt x="1616" y="120"/>
                    <a:pt x="1631" y="116"/>
                  </a:cubicBezTo>
                  <a:cubicBezTo>
                    <a:pt x="1646" y="112"/>
                    <a:pt x="1659" y="100"/>
                    <a:pt x="1680" y="94"/>
                  </a:cubicBezTo>
                  <a:cubicBezTo>
                    <a:pt x="1701" y="88"/>
                    <a:pt x="1737" y="85"/>
                    <a:pt x="1758" y="80"/>
                  </a:cubicBezTo>
                  <a:cubicBezTo>
                    <a:pt x="1779" y="75"/>
                    <a:pt x="1780" y="73"/>
                    <a:pt x="1808" y="66"/>
                  </a:cubicBezTo>
                  <a:cubicBezTo>
                    <a:pt x="1836" y="59"/>
                    <a:pt x="1896" y="44"/>
                    <a:pt x="1928" y="38"/>
                  </a:cubicBezTo>
                  <a:cubicBezTo>
                    <a:pt x="1960" y="32"/>
                    <a:pt x="1979" y="34"/>
                    <a:pt x="1998" y="31"/>
                  </a:cubicBezTo>
                  <a:cubicBezTo>
                    <a:pt x="2017" y="28"/>
                    <a:pt x="2025" y="21"/>
                    <a:pt x="2040" y="17"/>
                  </a:cubicBezTo>
                  <a:cubicBezTo>
                    <a:pt x="2055" y="13"/>
                    <a:pt x="2072" y="12"/>
                    <a:pt x="2090" y="10"/>
                  </a:cubicBezTo>
                  <a:cubicBezTo>
                    <a:pt x="2108" y="8"/>
                    <a:pt x="2126" y="3"/>
                    <a:pt x="2146" y="3"/>
                  </a:cubicBezTo>
                  <a:cubicBezTo>
                    <a:pt x="2166" y="3"/>
                    <a:pt x="2197" y="0"/>
                    <a:pt x="2210" y="10"/>
                  </a:cubicBezTo>
                  <a:cubicBezTo>
                    <a:pt x="2223" y="20"/>
                    <a:pt x="2216" y="53"/>
                    <a:pt x="2224" y="66"/>
                  </a:cubicBezTo>
                  <a:cubicBezTo>
                    <a:pt x="2232" y="79"/>
                    <a:pt x="2246" y="86"/>
                    <a:pt x="2259" y="87"/>
                  </a:cubicBezTo>
                  <a:cubicBezTo>
                    <a:pt x="2272" y="88"/>
                    <a:pt x="2289" y="66"/>
                    <a:pt x="2302" y="73"/>
                  </a:cubicBezTo>
                  <a:cubicBezTo>
                    <a:pt x="2315" y="80"/>
                    <a:pt x="2325" y="113"/>
                    <a:pt x="2337" y="130"/>
                  </a:cubicBezTo>
                  <a:cubicBezTo>
                    <a:pt x="2349" y="147"/>
                    <a:pt x="2362" y="157"/>
                    <a:pt x="2372" y="172"/>
                  </a:cubicBezTo>
                  <a:cubicBezTo>
                    <a:pt x="2382" y="187"/>
                    <a:pt x="2380" y="204"/>
                    <a:pt x="2400" y="222"/>
                  </a:cubicBezTo>
                  <a:cubicBezTo>
                    <a:pt x="2420" y="240"/>
                    <a:pt x="2470" y="264"/>
                    <a:pt x="2492" y="278"/>
                  </a:cubicBezTo>
                  <a:cubicBezTo>
                    <a:pt x="2514" y="292"/>
                    <a:pt x="2521" y="299"/>
                    <a:pt x="2535" y="306"/>
                  </a:cubicBezTo>
                  <a:cubicBezTo>
                    <a:pt x="2549" y="313"/>
                    <a:pt x="2562" y="313"/>
                    <a:pt x="2577" y="320"/>
                  </a:cubicBezTo>
                  <a:cubicBezTo>
                    <a:pt x="2592" y="327"/>
                    <a:pt x="2607" y="341"/>
                    <a:pt x="2626" y="349"/>
                  </a:cubicBezTo>
                  <a:cubicBezTo>
                    <a:pt x="2645" y="357"/>
                    <a:pt x="2670" y="366"/>
                    <a:pt x="2690" y="370"/>
                  </a:cubicBezTo>
                  <a:cubicBezTo>
                    <a:pt x="2710" y="374"/>
                    <a:pt x="2730" y="369"/>
                    <a:pt x="2746" y="370"/>
                  </a:cubicBezTo>
                  <a:cubicBezTo>
                    <a:pt x="2762" y="371"/>
                    <a:pt x="2774" y="373"/>
                    <a:pt x="2789" y="377"/>
                  </a:cubicBezTo>
                  <a:cubicBezTo>
                    <a:pt x="2804" y="381"/>
                    <a:pt x="2823" y="385"/>
                    <a:pt x="2838" y="391"/>
                  </a:cubicBezTo>
                  <a:cubicBezTo>
                    <a:pt x="2853" y="397"/>
                    <a:pt x="2864" y="409"/>
                    <a:pt x="2880" y="412"/>
                  </a:cubicBezTo>
                  <a:cubicBezTo>
                    <a:pt x="2896" y="415"/>
                    <a:pt x="2918" y="411"/>
                    <a:pt x="2937" y="412"/>
                  </a:cubicBezTo>
                  <a:cubicBezTo>
                    <a:pt x="2956" y="413"/>
                    <a:pt x="2972" y="412"/>
                    <a:pt x="2993" y="419"/>
                  </a:cubicBezTo>
                  <a:cubicBezTo>
                    <a:pt x="3014" y="426"/>
                    <a:pt x="3043" y="435"/>
                    <a:pt x="3064" y="454"/>
                  </a:cubicBezTo>
                  <a:cubicBezTo>
                    <a:pt x="3085" y="473"/>
                    <a:pt x="3104" y="517"/>
                    <a:pt x="3120" y="532"/>
                  </a:cubicBezTo>
                  <a:cubicBezTo>
                    <a:pt x="3136" y="547"/>
                    <a:pt x="3146" y="536"/>
                    <a:pt x="3163" y="546"/>
                  </a:cubicBezTo>
                  <a:cubicBezTo>
                    <a:pt x="3180" y="556"/>
                    <a:pt x="3199" y="577"/>
                    <a:pt x="3219" y="589"/>
                  </a:cubicBezTo>
                  <a:cubicBezTo>
                    <a:pt x="3239" y="601"/>
                    <a:pt x="3264" y="610"/>
                    <a:pt x="3283" y="617"/>
                  </a:cubicBezTo>
                  <a:cubicBezTo>
                    <a:pt x="3302" y="624"/>
                    <a:pt x="3312" y="631"/>
                    <a:pt x="3332" y="631"/>
                  </a:cubicBezTo>
                  <a:cubicBezTo>
                    <a:pt x="3352" y="631"/>
                    <a:pt x="3385" y="616"/>
                    <a:pt x="3403" y="617"/>
                  </a:cubicBezTo>
                  <a:cubicBezTo>
                    <a:pt x="3421" y="618"/>
                    <a:pt x="3423" y="634"/>
                    <a:pt x="3438" y="638"/>
                  </a:cubicBezTo>
                  <a:cubicBezTo>
                    <a:pt x="3453" y="642"/>
                    <a:pt x="3475" y="642"/>
                    <a:pt x="3495" y="638"/>
                  </a:cubicBezTo>
                  <a:cubicBezTo>
                    <a:pt x="3515" y="634"/>
                    <a:pt x="3536" y="622"/>
                    <a:pt x="3558" y="617"/>
                  </a:cubicBezTo>
                  <a:cubicBezTo>
                    <a:pt x="3580" y="612"/>
                    <a:pt x="3608" y="613"/>
                    <a:pt x="3629" y="610"/>
                  </a:cubicBezTo>
                  <a:cubicBezTo>
                    <a:pt x="3650" y="607"/>
                    <a:pt x="3667" y="602"/>
                    <a:pt x="3685" y="596"/>
                  </a:cubicBezTo>
                  <a:cubicBezTo>
                    <a:pt x="3703" y="590"/>
                    <a:pt x="3716" y="582"/>
                    <a:pt x="3735" y="574"/>
                  </a:cubicBezTo>
                  <a:cubicBezTo>
                    <a:pt x="3754" y="566"/>
                    <a:pt x="3773" y="555"/>
                    <a:pt x="3798" y="546"/>
                  </a:cubicBezTo>
                  <a:cubicBezTo>
                    <a:pt x="3823" y="537"/>
                    <a:pt x="3862" y="524"/>
                    <a:pt x="3883" y="518"/>
                  </a:cubicBezTo>
                  <a:cubicBezTo>
                    <a:pt x="3904" y="512"/>
                    <a:pt x="3910" y="516"/>
                    <a:pt x="3925" y="511"/>
                  </a:cubicBezTo>
                  <a:cubicBezTo>
                    <a:pt x="3940" y="506"/>
                    <a:pt x="3956" y="500"/>
                    <a:pt x="3975" y="490"/>
                  </a:cubicBezTo>
                  <a:cubicBezTo>
                    <a:pt x="3994" y="480"/>
                    <a:pt x="4021" y="460"/>
                    <a:pt x="4038" y="454"/>
                  </a:cubicBezTo>
                  <a:cubicBezTo>
                    <a:pt x="4055" y="448"/>
                    <a:pt x="4061" y="453"/>
                    <a:pt x="4080" y="454"/>
                  </a:cubicBezTo>
                  <a:cubicBezTo>
                    <a:pt x="4099" y="455"/>
                    <a:pt x="4137" y="468"/>
                    <a:pt x="4151" y="462"/>
                  </a:cubicBezTo>
                  <a:cubicBezTo>
                    <a:pt x="4165" y="456"/>
                    <a:pt x="4156" y="428"/>
                    <a:pt x="4165" y="419"/>
                  </a:cubicBezTo>
                  <a:cubicBezTo>
                    <a:pt x="4174" y="410"/>
                    <a:pt x="4200" y="417"/>
                    <a:pt x="4208" y="405"/>
                  </a:cubicBezTo>
                  <a:cubicBezTo>
                    <a:pt x="4216" y="393"/>
                    <a:pt x="4214" y="365"/>
                    <a:pt x="4215" y="349"/>
                  </a:cubicBezTo>
                  <a:cubicBezTo>
                    <a:pt x="4216" y="333"/>
                    <a:pt x="4212" y="320"/>
                    <a:pt x="4215" y="306"/>
                  </a:cubicBezTo>
                  <a:cubicBezTo>
                    <a:pt x="4218" y="292"/>
                    <a:pt x="4227" y="276"/>
                    <a:pt x="4236" y="264"/>
                  </a:cubicBezTo>
                  <a:cubicBezTo>
                    <a:pt x="4245" y="252"/>
                    <a:pt x="4258" y="238"/>
                    <a:pt x="4271" y="236"/>
                  </a:cubicBezTo>
                  <a:cubicBezTo>
                    <a:pt x="4284" y="234"/>
                    <a:pt x="4298" y="251"/>
                    <a:pt x="4313" y="250"/>
                  </a:cubicBezTo>
                  <a:cubicBezTo>
                    <a:pt x="4328" y="249"/>
                    <a:pt x="4347" y="235"/>
                    <a:pt x="4363" y="229"/>
                  </a:cubicBezTo>
                  <a:cubicBezTo>
                    <a:pt x="4379" y="223"/>
                    <a:pt x="4394" y="210"/>
                    <a:pt x="4412" y="214"/>
                  </a:cubicBezTo>
                  <a:cubicBezTo>
                    <a:pt x="4430" y="218"/>
                    <a:pt x="4451" y="244"/>
                    <a:pt x="4469" y="250"/>
                  </a:cubicBezTo>
                  <a:cubicBezTo>
                    <a:pt x="4487" y="256"/>
                    <a:pt x="4503" y="253"/>
                    <a:pt x="4518" y="250"/>
                  </a:cubicBezTo>
                  <a:cubicBezTo>
                    <a:pt x="4533" y="247"/>
                    <a:pt x="4545" y="233"/>
                    <a:pt x="4560" y="229"/>
                  </a:cubicBezTo>
                  <a:cubicBezTo>
                    <a:pt x="4575" y="225"/>
                    <a:pt x="4598" y="220"/>
                    <a:pt x="4610" y="229"/>
                  </a:cubicBezTo>
                  <a:cubicBezTo>
                    <a:pt x="4622" y="238"/>
                    <a:pt x="4628" y="268"/>
                    <a:pt x="4631" y="285"/>
                  </a:cubicBezTo>
                  <a:cubicBezTo>
                    <a:pt x="4634" y="302"/>
                    <a:pt x="4629" y="316"/>
                    <a:pt x="4631" y="334"/>
                  </a:cubicBezTo>
                  <a:cubicBezTo>
                    <a:pt x="4633" y="352"/>
                    <a:pt x="4638" y="373"/>
                    <a:pt x="4645" y="391"/>
                  </a:cubicBezTo>
                  <a:cubicBezTo>
                    <a:pt x="4652" y="409"/>
                    <a:pt x="4662" y="424"/>
                    <a:pt x="4673" y="44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3732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1"/>
                    <a:pt x="121" y="428"/>
                  </a:cubicBezTo>
                  <a:cubicBezTo>
                    <a:pt x="129" y="445"/>
                    <a:pt x="133" y="463"/>
                    <a:pt x="153" y="483"/>
                  </a:cubicBezTo>
                  <a:cubicBezTo>
                    <a:pt x="173" y="503"/>
                    <a:pt x="235" y="535"/>
                    <a:pt x="243" y="546"/>
                  </a:cubicBezTo>
                  <a:cubicBezTo>
                    <a:pt x="251" y="557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8"/>
                    <a:pt x="162" y="612"/>
                  </a:cubicBezTo>
                  <a:cubicBezTo>
                    <a:pt x="165" y="626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160" y="4680"/>
            <a:ext cx="8435880" cy="6853320"/>
            <a:chOff x="38160" y="4680"/>
            <a:chExt cx="8435880" cy="6853320"/>
          </a:xfrm>
        </p:grpSpPr>
        <p:sp>
          <p:nvSpPr>
            <p:cNvPr id="155" name=""/>
            <p:cNvSpPr/>
            <p:nvPr/>
          </p:nvSpPr>
          <p:spPr>
            <a:xfrm>
              <a:off x="664380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2"/>
                    <a:pt x="121" y="428"/>
                  </a:cubicBezTo>
                  <a:cubicBezTo>
                    <a:pt x="129" y="444"/>
                    <a:pt x="136" y="457"/>
                    <a:pt x="156" y="477"/>
                  </a:cubicBezTo>
                  <a:cubicBezTo>
                    <a:pt x="176" y="497"/>
                    <a:pt x="235" y="534"/>
                    <a:pt x="243" y="546"/>
                  </a:cubicBezTo>
                  <a:cubicBezTo>
                    <a:pt x="251" y="558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7"/>
                    <a:pt x="163" y="611"/>
                  </a:cubicBezTo>
                  <a:cubicBezTo>
                    <a:pt x="167" y="625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60" y="355680"/>
              <a:ext cx="706320" cy="1860480"/>
            </a:xfrm>
            <a:custGeom>
              <a:avLst/>
              <a:gdLst/>
              <a:ahLst/>
              <a:rect l="l" t="t" r="r" b="b"/>
              <a:pathLst>
                <a:path w="445" h="1172">
                  <a:moveTo>
                    <a:pt x="308" y="1172"/>
                  </a:moveTo>
                  <a:cubicBezTo>
                    <a:pt x="312" y="1140"/>
                    <a:pt x="316" y="1108"/>
                    <a:pt x="324" y="1072"/>
                  </a:cubicBezTo>
                  <a:cubicBezTo>
                    <a:pt x="332" y="1036"/>
                    <a:pt x="351" y="987"/>
                    <a:pt x="356" y="956"/>
                  </a:cubicBezTo>
                  <a:cubicBezTo>
                    <a:pt x="361" y="925"/>
                    <a:pt x="355" y="909"/>
                    <a:pt x="356" y="888"/>
                  </a:cubicBezTo>
                  <a:cubicBezTo>
                    <a:pt x="357" y="867"/>
                    <a:pt x="359" y="846"/>
                    <a:pt x="364" y="828"/>
                  </a:cubicBezTo>
                  <a:cubicBezTo>
                    <a:pt x="369" y="810"/>
                    <a:pt x="381" y="792"/>
                    <a:pt x="388" y="780"/>
                  </a:cubicBezTo>
                  <a:cubicBezTo>
                    <a:pt x="395" y="768"/>
                    <a:pt x="395" y="759"/>
                    <a:pt x="404" y="756"/>
                  </a:cubicBezTo>
                  <a:cubicBezTo>
                    <a:pt x="413" y="753"/>
                    <a:pt x="435" y="766"/>
                    <a:pt x="440" y="760"/>
                  </a:cubicBezTo>
                  <a:cubicBezTo>
                    <a:pt x="445" y="754"/>
                    <a:pt x="439" y="743"/>
                    <a:pt x="432" y="720"/>
                  </a:cubicBezTo>
                  <a:cubicBezTo>
                    <a:pt x="425" y="697"/>
                    <a:pt x="406" y="654"/>
                    <a:pt x="400" y="620"/>
                  </a:cubicBezTo>
                  <a:cubicBezTo>
                    <a:pt x="394" y="586"/>
                    <a:pt x="397" y="549"/>
                    <a:pt x="396" y="516"/>
                  </a:cubicBezTo>
                  <a:cubicBezTo>
                    <a:pt x="395" y="483"/>
                    <a:pt x="400" y="443"/>
                    <a:pt x="396" y="420"/>
                  </a:cubicBezTo>
                  <a:cubicBezTo>
                    <a:pt x="392" y="397"/>
                    <a:pt x="384" y="391"/>
                    <a:pt x="372" y="380"/>
                  </a:cubicBezTo>
                  <a:cubicBezTo>
                    <a:pt x="360" y="369"/>
                    <a:pt x="330" y="365"/>
                    <a:pt x="324" y="356"/>
                  </a:cubicBezTo>
                  <a:cubicBezTo>
                    <a:pt x="318" y="347"/>
                    <a:pt x="331" y="335"/>
                    <a:pt x="336" y="328"/>
                  </a:cubicBezTo>
                  <a:cubicBezTo>
                    <a:pt x="341" y="321"/>
                    <a:pt x="350" y="324"/>
                    <a:pt x="356" y="312"/>
                  </a:cubicBezTo>
                  <a:cubicBezTo>
                    <a:pt x="362" y="300"/>
                    <a:pt x="373" y="269"/>
                    <a:pt x="372" y="256"/>
                  </a:cubicBezTo>
                  <a:cubicBezTo>
                    <a:pt x="371" y="243"/>
                    <a:pt x="363" y="233"/>
                    <a:pt x="352" y="236"/>
                  </a:cubicBezTo>
                  <a:cubicBezTo>
                    <a:pt x="341" y="239"/>
                    <a:pt x="317" y="271"/>
                    <a:pt x="304" y="272"/>
                  </a:cubicBezTo>
                  <a:cubicBezTo>
                    <a:pt x="291" y="273"/>
                    <a:pt x="283" y="252"/>
                    <a:pt x="276" y="240"/>
                  </a:cubicBezTo>
                  <a:cubicBezTo>
                    <a:pt x="269" y="228"/>
                    <a:pt x="275" y="203"/>
                    <a:pt x="264" y="200"/>
                  </a:cubicBezTo>
                  <a:cubicBezTo>
                    <a:pt x="253" y="197"/>
                    <a:pt x="221" y="220"/>
                    <a:pt x="208" y="224"/>
                  </a:cubicBezTo>
                  <a:cubicBezTo>
                    <a:pt x="195" y="228"/>
                    <a:pt x="187" y="235"/>
                    <a:pt x="184" y="224"/>
                  </a:cubicBezTo>
                  <a:cubicBezTo>
                    <a:pt x="181" y="213"/>
                    <a:pt x="194" y="179"/>
                    <a:pt x="192" y="160"/>
                  </a:cubicBezTo>
                  <a:cubicBezTo>
                    <a:pt x="190" y="141"/>
                    <a:pt x="177" y="125"/>
                    <a:pt x="172" y="112"/>
                  </a:cubicBezTo>
                  <a:cubicBezTo>
                    <a:pt x="167" y="99"/>
                    <a:pt x="172" y="91"/>
                    <a:pt x="160" y="84"/>
                  </a:cubicBezTo>
                  <a:cubicBezTo>
                    <a:pt x="148" y="77"/>
                    <a:pt x="123" y="79"/>
                    <a:pt x="100" y="68"/>
                  </a:cubicBezTo>
                  <a:cubicBezTo>
                    <a:pt x="77" y="57"/>
                    <a:pt x="41" y="31"/>
                    <a:pt x="24" y="20"/>
                  </a:cubicBezTo>
                  <a:cubicBezTo>
                    <a:pt x="7" y="9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69800" y="619200"/>
              <a:ext cx="7608960" cy="6054480"/>
              <a:chOff x="469800" y="619200"/>
              <a:chExt cx="7608960" cy="60544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9800" y="619200"/>
                <a:ext cx="6321600" cy="5421240"/>
              </a:xfrm>
              <a:custGeom>
                <a:avLst/>
                <a:gdLst/>
                <a:ahLst/>
                <a:rect l="l" t="t" r="r" b="b"/>
                <a:pathLst>
                  <a:path w="3982" h="3415">
                    <a:moveTo>
                      <a:pt x="120" y="3415"/>
                    </a:moveTo>
                    <a:lnTo>
                      <a:pt x="128" y="2342"/>
                    </a:lnTo>
                    <a:lnTo>
                      <a:pt x="92" y="2257"/>
                    </a:lnTo>
                    <a:lnTo>
                      <a:pt x="142" y="2208"/>
                    </a:lnTo>
                    <a:lnTo>
                      <a:pt x="149" y="1961"/>
                    </a:lnTo>
                    <a:lnTo>
                      <a:pt x="120" y="1918"/>
                    </a:lnTo>
                    <a:lnTo>
                      <a:pt x="135" y="1862"/>
                    </a:lnTo>
                    <a:lnTo>
                      <a:pt x="142" y="1784"/>
                    </a:lnTo>
                    <a:lnTo>
                      <a:pt x="128" y="1608"/>
                    </a:lnTo>
                    <a:lnTo>
                      <a:pt x="177" y="1544"/>
                    </a:lnTo>
                    <a:lnTo>
                      <a:pt x="156" y="1502"/>
                    </a:lnTo>
                    <a:lnTo>
                      <a:pt x="120" y="1459"/>
                    </a:lnTo>
                    <a:lnTo>
                      <a:pt x="113" y="1396"/>
                    </a:lnTo>
                    <a:lnTo>
                      <a:pt x="71" y="1354"/>
                    </a:lnTo>
                    <a:lnTo>
                      <a:pt x="43" y="1304"/>
                    </a:lnTo>
                    <a:lnTo>
                      <a:pt x="22" y="1248"/>
                    </a:lnTo>
                    <a:lnTo>
                      <a:pt x="0" y="1198"/>
                    </a:lnTo>
                    <a:lnTo>
                      <a:pt x="29" y="1078"/>
                    </a:lnTo>
                    <a:lnTo>
                      <a:pt x="43" y="1008"/>
                    </a:lnTo>
                    <a:lnTo>
                      <a:pt x="78" y="986"/>
                    </a:lnTo>
                    <a:lnTo>
                      <a:pt x="128" y="994"/>
                    </a:lnTo>
                    <a:lnTo>
                      <a:pt x="163" y="1022"/>
                    </a:lnTo>
                    <a:lnTo>
                      <a:pt x="212" y="1043"/>
                    </a:lnTo>
                    <a:lnTo>
                      <a:pt x="283" y="1050"/>
                    </a:lnTo>
                    <a:lnTo>
                      <a:pt x="325" y="1078"/>
                    </a:lnTo>
                    <a:lnTo>
                      <a:pt x="382" y="1078"/>
                    </a:lnTo>
                    <a:lnTo>
                      <a:pt x="438" y="1022"/>
                    </a:lnTo>
                    <a:lnTo>
                      <a:pt x="473" y="944"/>
                    </a:lnTo>
                    <a:lnTo>
                      <a:pt x="516" y="902"/>
                    </a:lnTo>
                    <a:lnTo>
                      <a:pt x="558" y="866"/>
                    </a:lnTo>
                    <a:lnTo>
                      <a:pt x="579" y="810"/>
                    </a:lnTo>
                    <a:lnTo>
                      <a:pt x="600" y="775"/>
                    </a:lnTo>
                    <a:lnTo>
                      <a:pt x="629" y="746"/>
                    </a:lnTo>
                    <a:lnTo>
                      <a:pt x="678" y="711"/>
                    </a:lnTo>
                    <a:lnTo>
                      <a:pt x="720" y="711"/>
                    </a:lnTo>
                    <a:lnTo>
                      <a:pt x="770" y="718"/>
                    </a:lnTo>
                    <a:lnTo>
                      <a:pt x="833" y="725"/>
                    </a:lnTo>
                    <a:lnTo>
                      <a:pt x="862" y="683"/>
                    </a:lnTo>
                    <a:lnTo>
                      <a:pt x="888" y="682"/>
                    </a:lnTo>
                    <a:lnTo>
                      <a:pt x="904" y="718"/>
                    </a:lnTo>
                    <a:lnTo>
                      <a:pt x="939" y="690"/>
                    </a:lnTo>
                    <a:lnTo>
                      <a:pt x="968" y="698"/>
                    </a:lnTo>
                    <a:lnTo>
                      <a:pt x="989" y="725"/>
                    </a:lnTo>
                    <a:lnTo>
                      <a:pt x="1032" y="706"/>
                    </a:lnTo>
                    <a:lnTo>
                      <a:pt x="1066" y="725"/>
                    </a:lnTo>
                    <a:lnTo>
                      <a:pt x="1137" y="732"/>
                    </a:lnTo>
                    <a:lnTo>
                      <a:pt x="1176" y="730"/>
                    </a:lnTo>
                    <a:lnTo>
                      <a:pt x="1208" y="761"/>
                    </a:lnTo>
                    <a:lnTo>
                      <a:pt x="1228" y="746"/>
                    </a:lnTo>
                    <a:lnTo>
                      <a:pt x="1236" y="698"/>
                    </a:lnTo>
                    <a:lnTo>
                      <a:pt x="1264" y="706"/>
                    </a:lnTo>
                    <a:lnTo>
                      <a:pt x="1252" y="790"/>
                    </a:lnTo>
                    <a:lnTo>
                      <a:pt x="1280" y="806"/>
                    </a:lnTo>
                    <a:lnTo>
                      <a:pt x="1296" y="774"/>
                    </a:lnTo>
                    <a:lnTo>
                      <a:pt x="1320" y="770"/>
                    </a:lnTo>
                    <a:lnTo>
                      <a:pt x="1328" y="818"/>
                    </a:lnTo>
                    <a:lnTo>
                      <a:pt x="1360" y="802"/>
                    </a:lnTo>
                    <a:lnTo>
                      <a:pt x="1405" y="817"/>
                    </a:lnTo>
                    <a:lnTo>
                      <a:pt x="1416" y="786"/>
                    </a:lnTo>
                    <a:lnTo>
                      <a:pt x="1398" y="761"/>
                    </a:lnTo>
                    <a:lnTo>
                      <a:pt x="1356" y="732"/>
                    </a:lnTo>
                    <a:lnTo>
                      <a:pt x="1320" y="690"/>
                    </a:lnTo>
                    <a:lnTo>
                      <a:pt x="1306" y="634"/>
                    </a:lnTo>
                    <a:lnTo>
                      <a:pt x="1320" y="584"/>
                    </a:lnTo>
                    <a:lnTo>
                      <a:pt x="1370" y="535"/>
                    </a:lnTo>
                    <a:lnTo>
                      <a:pt x="1419" y="542"/>
                    </a:lnTo>
                    <a:lnTo>
                      <a:pt x="1462" y="570"/>
                    </a:lnTo>
                    <a:lnTo>
                      <a:pt x="1553" y="591"/>
                    </a:lnTo>
                    <a:lnTo>
                      <a:pt x="1603" y="612"/>
                    </a:lnTo>
                    <a:lnTo>
                      <a:pt x="1638" y="641"/>
                    </a:lnTo>
                    <a:lnTo>
                      <a:pt x="1680" y="634"/>
                    </a:lnTo>
                    <a:lnTo>
                      <a:pt x="1723" y="591"/>
                    </a:lnTo>
                    <a:lnTo>
                      <a:pt x="1779" y="577"/>
                    </a:lnTo>
                    <a:lnTo>
                      <a:pt x="1822" y="577"/>
                    </a:lnTo>
                    <a:lnTo>
                      <a:pt x="1864" y="626"/>
                    </a:lnTo>
                    <a:lnTo>
                      <a:pt x="1876" y="670"/>
                    </a:lnTo>
                    <a:lnTo>
                      <a:pt x="1920" y="674"/>
                    </a:lnTo>
                    <a:lnTo>
                      <a:pt x="1956" y="648"/>
                    </a:lnTo>
                    <a:lnTo>
                      <a:pt x="2005" y="598"/>
                    </a:lnTo>
                    <a:lnTo>
                      <a:pt x="2026" y="563"/>
                    </a:lnTo>
                    <a:lnTo>
                      <a:pt x="2055" y="521"/>
                    </a:lnTo>
                    <a:lnTo>
                      <a:pt x="2104" y="471"/>
                    </a:lnTo>
                    <a:lnTo>
                      <a:pt x="2160" y="450"/>
                    </a:lnTo>
                    <a:lnTo>
                      <a:pt x="2217" y="401"/>
                    </a:lnTo>
                    <a:lnTo>
                      <a:pt x="2266" y="408"/>
                    </a:lnTo>
                    <a:cubicBezTo>
                      <a:pt x="2266" y="424"/>
                      <a:pt x="2266" y="441"/>
                      <a:pt x="2266" y="457"/>
                    </a:cubicBezTo>
                    <a:lnTo>
                      <a:pt x="2323" y="499"/>
                    </a:lnTo>
                    <a:lnTo>
                      <a:pt x="2393" y="506"/>
                    </a:lnTo>
                    <a:lnTo>
                      <a:pt x="2443" y="506"/>
                    </a:lnTo>
                    <a:lnTo>
                      <a:pt x="2499" y="492"/>
                    </a:lnTo>
                    <a:lnTo>
                      <a:pt x="2577" y="485"/>
                    </a:lnTo>
                    <a:lnTo>
                      <a:pt x="2640" y="478"/>
                    </a:lnTo>
                    <a:lnTo>
                      <a:pt x="2697" y="478"/>
                    </a:lnTo>
                    <a:lnTo>
                      <a:pt x="2739" y="499"/>
                    </a:lnTo>
                    <a:lnTo>
                      <a:pt x="2810" y="556"/>
                    </a:lnTo>
                    <a:lnTo>
                      <a:pt x="2859" y="584"/>
                    </a:lnTo>
                    <a:lnTo>
                      <a:pt x="2916" y="584"/>
                    </a:lnTo>
                    <a:lnTo>
                      <a:pt x="2937" y="549"/>
                    </a:lnTo>
                    <a:lnTo>
                      <a:pt x="2958" y="485"/>
                    </a:lnTo>
                    <a:lnTo>
                      <a:pt x="3036" y="464"/>
                    </a:lnTo>
                    <a:lnTo>
                      <a:pt x="3085" y="464"/>
                    </a:lnTo>
                    <a:lnTo>
                      <a:pt x="3149" y="499"/>
                    </a:lnTo>
                    <a:lnTo>
                      <a:pt x="3233" y="514"/>
                    </a:lnTo>
                    <a:lnTo>
                      <a:pt x="3297" y="542"/>
                    </a:lnTo>
                    <a:lnTo>
                      <a:pt x="3368" y="556"/>
                    </a:lnTo>
                    <a:lnTo>
                      <a:pt x="3431" y="549"/>
                    </a:lnTo>
                    <a:lnTo>
                      <a:pt x="3445" y="506"/>
                    </a:lnTo>
                    <a:lnTo>
                      <a:pt x="3480" y="478"/>
                    </a:lnTo>
                    <a:lnTo>
                      <a:pt x="3544" y="464"/>
                    </a:lnTo>
                    <a:lnTo>
                      <a:pt x="3600" y="464"/>
                    </a:lnTo>
                    <a:lnTo>
                      <a:pt x="3629" y="401"/>
                    </a:lnTo>
                    <a:lnTo>
                      <a:pt x="3692" y="386"/>
                    </a:lnTo>
                    <a:lnTo>
                      <a:pt x="3742" y="323"/>
                    </a:lnTo>
                    <a:lnTo>
                      <a:pt x="3777" y="266"/>
                    </a:lnTo>
                    <a:lnTo>
                      <a:pt x="3805" y="224"/>
                    </a:lnTo>
                    <a:lnTo>
                      <a:pt x="3805" y="175"/>
                    </a:lnTo>
                    <a:lnTo>
                      <a:pt x="3840" y="154"/>
                    </a:lnTo>
                    <a:lnTo>
                      <a:pt x="3883" y="118"/>
                    </a:lnTo>
                    <a:lnTo>
                      <a:pt x="3934" y="87"/>
                    </a:lnTo>
                    <a:lnTo>
                      <a:pt x="3949" y="0"/>
                    </a:lnTo>
                    <a:lnTo>
                      <a:pt x="39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0240" y="5654520"/>
                <a:ext cx="7418520" cy="1019160"/>
              </a:xfrm>
              <a:custGeom>
                <a:avLst/>
                <a:gdLst/>
                <a:ahLst/>
                <a:rect l="l" t="t" r="r" b="b"/>
                <a:pathLst>
                  <a:path w="4673" h="642">
                    <a:moveTo>
                      <a:pt x="0" y="243"/>
                    </a:moveTo>
                    <a:cubicBezTo>
                      <a:pt x="22" y="246"/>
                      <a:pt x="44" y="249"/>
                      <a:pt x="64" y="257"/>
                    </a:cubicBezTo>
                    <a:cubicBezTo>
                      <a:pt x="84" y="265"/>
                      <a:pt x="98" y="284"/>
                      <a:pt x="120" y="292"/>
                    </a:cubicBezTo>
                    <a:cubicBezTo>
                      <a:pt x="142" y="300"/>
                      <a:pt x="176" y="301"/>
                      <a:pt x="198" y="306"/>
                    </a:cubicBezTo>
                    <a:cubicBezTo>
                      <a:pt x="220" y="311"/>
                      <a:pt x="235" y="318"/>
                      <a:pt x="255" y="320"/>
                    </a:cubicBezTo>
                    <a:cubicBezTo>
                      <a:pt x="275" y="322"/>
                      <a:pt x="293" y="328"/>
                      <a:pt x="318" y="320"/>
                    </a:cubicBezTo>
                    <a:cubicBezTo>
                      <a:pt x="343" y="312"/>
                      <a:pt x="381" y="285"/>
                      <a:pt x="403" y="271"/>
                    </a:cubicBezTo>
                    <a:cubicBezTo>
                      <a:pt x="425" y="257"/>
                      <a:pt x="438" y="238"/>
                      <a:pt x="452" y="236"/>
                    </a:cubicBezTo>
                    <a:cubicBezTo>
                      <a:pt x="466" y="234"/>
                      <a:pt x="474" y="254"/>
                      <a:pt x="488" y="257"/>
                    </a:cubicBezTo>
                    <a:cubicBezTo>
                      <a:pt x="502" y="260"/>
                      <a:pt x="523" y="265"/>
                      <a:pt x="537" y="257"/>
                    </a:cubicBezTo>
                    <a:cubicBezTo>
                      <a:pt x="551" y="249"/>
                      <a:pt x="554" y="220"/>
                      <a:pt x="572" y="207"/>
                    </a:cubicBezTo>
                    <a:cubicBezTo>
                      <a:pt x="590" y="194"/>
                      <a:pt x="622" y="184"/>
                      <a:pt x="643" y="179"/>
                    </a:cubicBezTo>
                    <a:cubicBezTo>
                      <a:pt x="664" y="174"/>
                      <a:pt x="677" y="178"/>
                      <a:pt x="699" y="179"/>
                    </a:cubicBezTo>
                    <a:cubicBezTo>
                      <a:pt x="721" y="180"/>
                      <a:pt x="751" y="181"/>
                      <a:pt x="777" y="186"/>
                    </a:cubicBezTo>
                    <a:cubicBezTo>
                      <a:pt x="803" y="191"/>
                      <a:pt x="834" y="206"/>
                      <a:pt x="855" y="207"/>
                    </a:cubicBezTo>
                    <a:cubicBezTo>
                      <a:pt x="876" y="208"/>
                      <a:pt x="883" y="193"/>
                      <a:pt x="904" y="193"/>
                    </a:cubicBezTo>
                    <a:cubicBezTo>
                      <a:pt x="925" y="193"/>
                      <a:pt x="959" y="205"/>
                      <a:pt x="982" y="207"/>
                    </a:cubicBezTo>
                    <a:cubicBezTo>
                      <a:pt x="1005" y="209"/>
                      <a:pt x="1018" y="209"/>
                      <a:pt x="1045" y="207"/>
                    </a:cubicBezTo>
                    <a:cubicBezTo>
                      <a:pt x="1072" y="205"/>
                      <a:pt x="1124" y="201"/>
                      <a:pt x="1144" y="193"/>
                    </a:cubicBezTo>
                    <a:cubicBezTo>
                      <a:pt x="1164" y="185"/>
                      <a:pt x="1153" y="167"/>
                      <a:pt x="1165" y="158"/>
                    </a:cubicBezTo>
                    <a:cubicBezTo>
                      <a:pt x="1177" y="149"/>
                      <a:pt x="1195" y="141"/>
                      <a:pt x="1215" y="137"/>
                    </a:cubicBezTo>
                    <a:cubicBezTo>
                      <a:pt x="1235" y="133"/>
                      <a:pt x="1268" y="134"/>
                      <a:pt x="1285" y="137"/>
                    </a:cubicBezTo>
                    <a:cubicBezTo>
                      <a:pt x="1302" y="140"/>
                      <a:pt x="1307" y="160"/>
                      <a:pt x="1320" y="158"/>
                    </a:cubicBezTo>
                    <a:cubicBezTo>
                      <a:pt x="1333" y="156"/>
                      <a:pt x="1350" y="124"/>
                      <a:pt x="1363" y="123"/>
                    </a:cubicBezTo>
                    <a:cubicBezTo>
                      <a:pt x="1376" y="122"/>
                      <a:pt x="1385" y="140"/>
                      <a:pt x="1398" y="151"/>
                    </a:cubicBezTo>
                    <a:cubicBezTo>
                      <a:pt x="1411" y="162"/>
                      <a:pt x="1427" y="177"/>
                      <a:pt x="1440" y="186"/>
                    </a:cubicBezTo>
                    <a:cubicBezTo>
                      <a:pt x="1453" y="195"/>
                      <a:pt x="1461" y="201"/>
                      <a:pt x="1476" y="207"/>
                    </a:cubicBezTo>
                    <a:cubicBezTo>
                      <a:pt x="1491" y="213"/>
                      <a:pt x="1520" y="230"/>
                      <a:pt x="1532" y="222"/>
                    </a:cubicBezTo>
                    <a:cubicBezTo>
                      <a:pt x="1544" y="214"/>
                      <a:pt x="1537" y="175"/>
                      <a:pt x="1546" y="158"/>
                    </a:cubicBezTo>
                    <a:cubicBezTo>
                      <a:pt x="1555" y="141"/>
                      <a:pt x="1575" y="123"/>
                      <a:pt x="1589" y="116"/>
                    </a:cubicBezTo>
                    <a:cubicBezTo>
                      <a:pt x="1603" y="109"/>
                      <a:pt x="1616" y="120"/>
                      <a:pt x="1631" y="116"/>
                    </a:cubicBezTo>
                    <a:cubicBezTo>
                      <a:pt x="1646" y="112"/>
                      <a:pt x="1659" y="100"/>
                      <a:pt x="1680" y="94"/>
                    </a:cubicBezTo>
                    <a:cubicBezTo>
                      <a:pt x="1701" y="88"/>
                      <a:pt x="1737" y="85"/>
                      <a:pt x="1758" y="80"/>
                    </a:cubicBezTo>
                    <a:cubicBezTo>
                      <a:pt x="1779" y="75"/>
                      <a:pt x="1780" y="73"/>
                      <a:pt x="1808" y="66"/>
                    </a:cubicBezTo>
                    <a:cubicBezTo>
                      <a:pt x="1836" y="59"/>
                      <a:pt x="1896" y="44"/>
                      <a:pt x="1928" y="38"/>
                    </a:cubicBezTo>
                    <a:cubicBezTo>
                      <a:pt x="1960" y="32"/>
                      <a:pt x="1979" y="34"/>
                      <a:pt x="1998" y="31"/>
                    </a:cubicBezTo>
                    <a:cubicBezTo>
                      <a:pt x="2017" y="28"/>
                      <a:pt x="2025" y="21"/>
                      <a:pt x="2040" y="17"/>
                    </a:cubicBezTo>
                    <a:cubicBezTo>
                      <a:pt x="2055" y="13"/>
                      <a:pt x="2072" y="12"/>
                      <a:pt x="2090" y="10"/>
                    </a:cubicBezTo>
                    <a:cubicBezTo>
                      <a:pt x="2108" y="8"/>
                      <a:pt x="2126" y="3"/>
                      <a:pt x="2146" y="3"/>
                    </a:cubicBezTo>
                    <a:cubicBezTo>
                      <a:pt x="2166" y="3"/>
                      <a:pt x="2197" y="0"/>
                      <a:pt x="2210" y="10"/>
                    </a:cubicBezTo>
                    <a:cubicBezTo>
                      <a:pt x="2223" y="20"/>
                      <a:pt x="2216" y="53"/>
                      <a:pt x="2224" y="66"/>
                    </a:cubicBezTo>
                    <a:cubicBezTo>
                      <a:pt x="2232" y="79"/>
                      <a:pt x="2246" y="86"/>
                      <a:pt x="2259" y="87"/>
                    </a:cubicBezTo>
                    <a:cubicBezTo>
                      <a:pt x="2272" y="88"/>
                      <a:pt x="2289" y="66"/>
                      <a:pt x="2302" y="73"/>
                    </a:cubicBezTo>
                    <a:cubicBezTo>
                      <a:pt x="2315" y="80"/>
                      <a:pt x="2325" y="113"/>
                      <a:pt x="2337" y="130"/>
                    </a:cubicBezTo>
                    <a:cubicBezTo>
                      <a:pt x="2349" y="147"/>
                      <a:pt x="2362" y="157"/>
                      <a:pt x="2372" y="172"/>
                    </a:cubicBezTo>
                    <a:cubicBezTo>
                      <a:pt x="2382" y="187"/>
                      <a:pt x="2380" y="204"/>
                      <a:pt x="2400" y="222"/>
                    </a:cubicBezTo>
                    <a:cubicBezTo>
                      <a:pt x="2420" y="240"/>
                      <a:pt x="2470" y="264"/>
                      <a:pt x="2492" y="278"/>
                    </a:cubicBezTo>
                    <a:cubicBezTo>
                      <a:pt x="2514" y="292"/>
                      <a:pt x="2521" y="299"/>
                      <a:pt x="2535" y="306"/>
                    </a:cubicBezTo>
                    <a:cubicBezTo>
                      <a:pt x="2549" y="313"/>
                      <a:pt x="2562" y="313"/>
                      <a:pt x="2577" y="320"/>
                    </a:cubicBezTo>
                    <a:cubicBezTo>
                      <a:pt x="2592" y="327"/>
                      <a:pt x="2607" y="341"/>
                      <a:pt x="2626" y="349"/>
                    </a:cubicBezTo>
                    <a:cubicBezTo>
                      <a:pt x="2645" y="357"/>
                      <a:pt x="2670" y="366"/>
                      <a:pt x="2690" y="370"/>
                    </a:cubicBezTo>
                    <a:cubicBezTo>
                      <a:pt x="2710" y="374"/>
                      <a:pt x="2730" y="369"/>
                      <a:pt x="2746" y="370"/>
                    </a:cubicBezTo>
                    <a:cubicBezTo>
                      <a:pt x="2762" y="371"/>
                      <a:pt x="2774" y="373"/>
                      <a:pt x="2789" y="377"/>
                    </a:cubicBezTo>
                    <a:cubicBezTo>
                      <a:pt x="2804" y="381"/>
                      <a:pt x="2823" y="385"/>
                      <a:pt x="2838" y="391"/>
                    </a:cubicBezTo>
                    <a:cubicBezTo>
                      <a:pt x="2853" y="397"/>
                      <a:pt x="2864" y="409"/>
                      <a:pt x="2880" y="412"/>
                    </a:cubicBezTo>
                    <a:cubicBezTo>
                      <a:pt x="2896" y="415"/>
                      <a:pt x="2918" y="411"/>
                      <a:pt x="2937" y="412"/>
                    </a:cubicBezTo>
                    <a:cubicBezTo>
                      <a:pt x="2956" y="413"/>
                      <a:pt x="2972" y="412"/>
                      <a:pt x="2993" y="419"/>
                    </a:cubicBezTo>
                    <a:cubicBezTo>
                      <a:pt x="3014" y="426"/>
                      <a:pt x="3043" y="435"/>
                      <a:pt x="3064" y="454"/>
                    </a:cubicBezTo>
                    <a:cubicBezTo>
                      <a:pt x="3085" y="473"/>
                      <a:pt x="3104" y="517"/>
                      <a:pt x="3120" y="532"/>
                    </a:cubicBezTo>
                    <a:cubicBezTo>
                      <a:pt x="3136" y="547"/>
                      <a:pt x="3146" y="536"/>
                      <a:pt x="3163" y="546"/>
                    </a:cubicBezTo>
                    <a:cubicBezTo>
                      <a:pt x="3180" y="556"/>
                      <a:pt x="3199" y="577"/>
                      <a:pt x="3219" y="589"/>
                    </a:cubicBezTo>
                    <a:cubicBezTo>
                      <a:pt x="3239" y="601"/>
                      <a:pt x="3264" y="610"/>
                      <a:pt x="3283" y="617"/>
                    </a:cubicBezTo>
                    <a:cubicBezTo>
                      <a:pt x="3302" y="624"/>
                      <a:pt x="3312" y="631"/>
                      <a:pt x="3332" y="631"/>
                    </a:cubicBezTo>
                    <a:cubicBezTo>
                      <a:pt x="3352" y="631"/>
                      <a:pt x="3385" y="616"/>
                      <a:pt x="3403" y="617"/>
                    </a:cubicBezTo>
                    <a:cubicBezTo>
                      <a:pt x="3421" y="618"/>
                      <a:pt x="3423" y="634"/>
                      <a:pt x="3438" y="638"/>
                    </a:cubicBezTo>
                    <a:cubicBezTo>
                      <a:pt x="3453" y="642"/>
                      <a:pt x="3475" y="642"/>
                      <a:pt x="3495" y="638"/>
                    </a:cubicBezTo>
                    <a:cubicBezTo>
                      <a:pt x="3515" y="634"/>
                      <a:pt x="3536" y="622"/>
                      <a:pt x="3558" y="617"/>
                    </a:cubicBezTo>
                    <a:cubicBezTo>
                      <a:pt x="3580" y="612"/>
                      <a:pt x="3608" y="613"/>
                      <a:pt x="3629" y="610"/>
                    </a:cubicBezTo>
                    <a:cubicBezTo>
                      <a:pt x="3650" y="607"/>
                      <a:pt x="3667" y="602"/>
                      <a:pt x="3685" y="596"/>
                    </a:cubicBezTo>
                    <a:cubicBezTo>
                      <a:pt x="3703" y="590"/>
                      <a:pt x="3716" y="582"/>
                      <a:pt x="3735" y="574"/>
                    </a:cubicBezTo>
                    <a:cubicBezTo>
                      <a:pt x="3754" y="566"/>
                      <a:pt x="3773" y="555"/>
                      <a:pt x="3798" y="546"/>
                    </a:cubicBezTo>
                    <a:cubicBezTo>
                      <a:pt x="3823" y="537"/>
                      <a:pt x="3862" y="524"/>
                      <a:pt x="3883" y="518"/>
                    </a:cubicBezTo>
                    <a:cubicBezTo>
                      <a:pt x="3904" y="512"/>
                      <a:pt x="3910" y="516"/>
                      <a:pt x="3925" y="511"/>
                    </a:cubicBezTo>
                    <a:cubicBezTo>
                      <a:pt x="3940" y="506"/>
                      <a:pt x="3956" y="500"/>
                      <a:pt x="3975" y="490"/>
                    </a:cubicBezTo>
                    <a:cubicBezTo>
                      <a:pt x="3994" y="480"/>
                      <a:pt x="4021" y="460"/>
                      <a:pt x="4038" y="454"/>
                    </a:cubicBezTo>
                    <a:cubicBezTo>
                      <a:pt x="4055" y="448"/>
                      <a:pt x="4061" y="453"/>
                      <a:pt x="4080" y="454"/>
                    </a:cubicBezTo>
                    <a:cubicBezTo>
                      <a:pt x="4099" y="455"/>
                      <a:pt x="4137" y="468"/>
                      <a:pt x="4151" y="462"/>
                    </a:cubicBezTo>
                    <a:cubicBezTo>
                      <a:pt x="4165" y="456"/>
                      <a:pt x="4156" y="428"/>
                      <a:pt x="4165" y="419"/>
                    </a:cubicBezTo>
                    <a:cubicBezTo>
                      <a:pt x="4174" y="410"/>
                      <a:pt x="4200" y="417"/>
                      <a:pt x="4208" y="405"/>
                    </a:cubicBezTo>
                    <a:cubicBezTo>
                      <a:pt x="4216" y="393"/>
                      <a:pt x="4214" y="365"/>
                      <a:pt x="4215" y="349"/>
                    </a:cubicBezTo>
                    <a:cubicBezTo>
                      <a:pt x="4216" y="333"/>
                      <a:pt x="4212" y="320"/>
                      <a:pt x="4215" y="306"/>
                    </a:cubicBezTo>
                    <a:cubicBezTo>
                      <a:pt x="4218" y="292"/>
                      <a:pt x="4227" y="276"/>
                      <a:pt x="4236" y="264"/>
                    </a:cubicBezTo>
                    <a:cubicBezTo>
                      <a:pt x="4245" y="252"/>
                      <a:pt x="4258" y="238"/>
                      <a:pt x="4271" y="236"/>
                    </a:cubicBezTo>
                    <a:cubicBezTo>
                      <a:pt x="4284" y="234"/>
                      <a:pt x="4298" y="251"/>
                      <a:pt x="4313" y="250"/>
                    </a:cubicBezTo>
                    <a:cubicBezTo>
                      <a:pt x="4328" y="249"/>
                      <a:pt x="4347" y="235"/>
                      <a:pt x="4363" y="229"/>
                    </a:cubicBezTo>
                    <a:cubicBezTo>
                      <a:pt x="4379" y="223"/>
                      <a:pt x="4394" y="210"/>
                      <a:pt x="4412" y="214"/>
                    </a:cubicBezTo>
                    <a:cubicBezTo>
                      <a:pt x="4430" y="218"/>
                      <a:pt x="4451" y="244"/>
                      <a:pt x="4469" y="250"/>
                    </a:cubicBezTo>
                    <a:cubicBezTo>
                      <a:pt x="4487" y="256"/>
                      <a:pt x="4503" y="253"/>
                      <a:pt x="4518" y="250"/>
                    </a:cubicBezTo>
                    <a:cubicBezTo>
                      <a:pt x="4533" y="247"/>
                      <a:pt x="4545" y="233"/>
                      <a:pt x="4560" y="229"/>
                    </a:cubicBezTo>
                    <a:cubicBezTo>
                      <a:pt x="4575" y="225"/>
                      <a:pt x="4598" y="220"/>
                      <a:pt x="4610" y="229"/>
                    </a:cubicBezTo>
                    <a:cubicBezTo>
                      <a:pt x="4622" y="238"/>
                      <a:pt x="4628" y="268"/>
                      <a:pt x="4631" y="285"/>
                    </a:cubicBezTo>
                    <a:cubicBezTo>
                      <a:pt x="4634" y="302"/>
                      <a:pt x="4629" y="316"/>
                      <a:pt x="4631" y="334"/>
                    </a:cubicBezTo>
                    <a:cubicBezTo>
                      <a:pt x="4633" y="352"/>
                      <a:pt x="4638" y="373"/>
                      <a:pt x="4645" y="391"/>
                    </a:cubicBezTo>
                    <a:cubicBezTo>
                      <a:pt x="4652" y="409"/>
                      <a:pt x="4662" y="424"/>
                      <a:pt x="4673" y="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214200" y="907920"/>
            <a:ext cx="8795880" cy="5897520"/>
            <a:chOff x="214200" y="907920"/>
            <a:chExt cx="8795880" cy="5897520"/>
          </a:xfrm>
        </p:grpSpPr>
        <p:sp>
          <p:nvSpPr>
            <p:cNvPr id="161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3e1f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52160" y="49849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0720" y="90792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197800">
              <a:off x="653220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8480" y="9176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297000">
              <a:off x="7231680" y="36637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439200">
              <a:off x="1988280" y="1562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52080" y="44514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1232200">
              <a:off x="6781680" y="51861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138600">
              <a:off x="6846480" y="55497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42200">
              <a:off x="6643800" y="47520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771200">
              <a:off x="523224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4240" y="24004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154800">
              <a:off x="2109240" y="596268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57200">
              <a:off x="1344240" y="478116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3381600">
              <a:off x="2000880" y="39103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975000">
              <a:off x="3015720" y="30412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652800">
              <a:off x="5369400" y="196056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72160" y="-13680"/>
            <a:ext cx="1065960" cy="1857960"/>
            <a:chOff x="272160" y="-13680"/>
            <a:chExt cx="1065960" cy="1857960"/>
          </a:xfrm>
        </p:grpSpPr>
        <p:grpSp>
          <p:nvGrpSpPr>
            <p:cNvPr id="221" name=""/>
            <p:cNvGrpSpPr/>
            <p:nvPr/>
          </p:nvGrpSpPr>
          <p:grpSpPr>
            <a:xfrm>
              <a:off x="633240" y="466920"/>
              <a:ext cx="348840" cy="1064880"/>
              <a:chOff x="633240" y="466920"/>
              <a:chExt cx="348840" cy="106488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708840" y="466920"/>
                <a:ext cx="154080" cy="10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240" y="856800"/>
                <a:ext cx="3488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72160" y="650160"/>
              <a:ext cx="1065960" cy="483120"/>
              <a:chOff x="272160" y="650160"/>
              <a:chExt cx="1065960" cy="483120"/>
            </a:xfrm>
          </p:grpSpPr>
          <p:sp>
            <p:nvSpPr>
              <p:cNvPr id="225" name=""/>
              <p:cNvSpPr/>
              <p:nvPr/>
            </p:nvSpPr>
            <p:spPr>
              <a:xfrm rot="494400">
                <a:off x="294120" y="6750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94400">
                <a:off x="999000" y="77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rot="494400">
              <a:off x="690840" y="1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494400">
              <a:off x="529920" y="1486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91200" y="154620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32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330280" y="3316320"/>
              <a:ext cx="282960" cy="246240"/>
              <a:chOff x="2330280" y="331632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33028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982400" y="5273640"/>
              <a:ext cx="282960" cy="246240"/>
              <a:chOff x="4982400" y="52736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5073480" y="53276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9824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33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42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059680" y="4730760"/>
              <a:ext cx="282960" cy="246240"/>
              <a:chOff x="8059680" y="4730760"/>
              <a:chExt cx="282960" cy="246240"/>
            </a:xfrm>
          </p:grpSpPr>
          <p:sp>
            <p:nvSpPr>
              <p:cNvPr id="345" name=""/>
              <p:cNvSpPr/>
              <p:nvPr/>
            </p:nvSpPr>
            <p:spPr>
              <a:xfrm>
                <a:off x="815040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805968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63640" y="2316240"/>
              <a:ext cx="282960" cy="246240"/>
              <a:chOff x="7163640" y="2316240"/>
              <a:chExt cx="282960" cy="246240"/>
            </a:xfrm>
          </p:grpSpPr>
          <p:sp>
            <p:nvSpPr>
              <p:cNvPr id="348" name=""/>
              <p:cNvSpPr/>
              <p:nvPr/>
            </p:nvSpPr>
            <p:spPr>
              <a:xfrm>
                <a:off x="7254720" y="23702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1636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844960" y="4254480"/>
              <a:ext cx="282960" cy="246240"/>
              <a:chOff x="5844960" y="4254480"/>
              <a:chExt cx="282960" cy="246240"/>
            </a:xfrm>
          </p:grpSpPr>
          <p:sp>
            <p:nvSpPr>
              <p:cNvPr id="351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84496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912000" y="5465880"/>
            <a:ext cx="10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EA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96040" y="37242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67240" y="364968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inga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452720" y="2112840"/>
            <a:ext cx="640800" cy="215640"/>
            <a:chOff x="7452720" y="2112840"/>
            <a:chExt cx="640800" cy="215640"/>
          </a:xfrm>
        </p:grpSpPr>
        <p:sp>
          <p:nvSpPr>
            <p:cNvPr id="357" name=""/>
            <p:cNvSpPr/>
            <p:nvPr/>
          </p:nvSpPr>
          <p:spPr>
            <a:xfrm>
              <a:off x="7464600" y="219384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52720" y="21128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8372880" y="4545000"/>
            <a:ext cx="770400" cy="337320"/>
            <a:chOff x="8372880" y="4545000"/>
            <a:chExt cx="770400" cy="337320"/>
          </a:xfrm>
        </p:grpSpPr>
        <p:sp>
          <p:nvSpPr>
            <p:cNvPr id="360" name=""/>
            <p:cNvSpPr/>
            <p:nvPr/>
          </p:nvSpPr>
          <p:spPr>
            <a:xfrm>
              <a:off x="8385480" y="462600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72880" y="4545000"/>
              <a:ext cx="7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OSTA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125760" y="4354560"/>
            <a:ext cx="418320" cy="215640"/>
            <a:chOff x="6125760" y="4354560"/>
            <a:chExt cx="418320" cy="215640"/>
          </a:xfrm>
        </p:grpSpPr>
        <p:sp>
          <p:nvSpPr>
            <p:cNvPr id="363" name=""/>
            <p:cNvSpPr/>
            <p:nvPr/>
          </p:nvSpPr>
          <p:spPr>
            <a:xfrm>
              <a:off x="6137280" y="4435200"/>
              <a:ext cx="5508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25760" y="43545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K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61080" y="2386080"/>
            <a:ext cx="619560" cy="215640"/>
            <a:chOff x="7561080" y="2386080"/>
            <a:chExt cx="619560" cy="215640"/>
          </a:xfrm>
        </p:grpSpPr>
        <p:sp>
          <p:nvSpPr>
            <p:cNvPr id="366" name=""/>
            <p:cNvSpPr/>
            <p:nvPr/>
          </p:nvSpPr>
          <p:spPr>
            <a:xfrm>
              <a:off x="7572600" y="246672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1080" y="2386080"/>
              <a:ext cx="61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740680" y="3230640"/>
            <a:ext cx="637920" cy="215640"/>
            <a:chOff x="2740680" y="3230640"/>
            <a:chExt cx="637920" cy="215640"/>
          </a:xfrm>
        </p:grpSpPr>
        <p:sp>
          <p:nvSpPr>
            <p:cNvPr id="369" name=""/>
            <p:cNvSpPr/>
            <p:nvPr/>
          </p:nvSpPr>
          <p:spPr>
            <a:xfrm>
              <a:off x="2752920" y="331128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0680" y="32306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GWU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122840" y="490680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PPER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90760" y="34527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WE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17080" y="245592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4000" y="2468520"/>
            <a:ext cx="11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RTH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7720" y="1446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59880" y="3643200"/>
            <a:ext cx="10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ASHANTI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40800" y="400536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ENTRAL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481520" y="267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AN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259560" y="47689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AGAD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07760" y="36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75520" y="3567240"/>
            <a:ext cx="645480" cy="200520"/>
            <a:chOff x="875520" y="3567240"/>
            <a:chExt cx="645480" cy="200520"/>
          </a:xfrm>
        </p:grpSpPr>
        <p:sp>
          <p:nvSpPr>
            <p:cNvPr id="382" name=""/>
            <p:cNvSpPr/>
            <p:nvPr/>
          </p:nvSpPr>
          <p:spPr>
            <a:xfrm>
              <a:off x="90504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5520" y="3567240"/>
              <a:ext cx="64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wanabour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5640" y="2697120"/>
            <a:ext cx="566280" cy="200520"/>
            <a:chOff x="845640" y="2697120"/>
            <a:chExt cx="566280" cy="200520"/>
          </a:xfrm>
        </p:grpSpPr>
        <p:sp>
          <p:nvSpPr>
            <p:cNvPr id="385" name=""/>
            <p:cNvSpPr/>
            <p:nvPr/>
          </p:nvSpPr>
          <p:spPr>
            <a:xfrm flipH="1">
              <a:off x="1348200" y="2771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45280" y="269712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501280" y="2620800"/>
            <a:ext cx="326880" cy="200520"/>
            <a:chOff x="2501280" y="2620800"/>
            <a:chExt cx="326880" cy="200520"/>
          </a:xfrm>
        </p:grpSpPr>
        <p:sp>
          <p:nvSpPr>
            <p:cNvPr id="388" name=""/>
            <p:cNvSpPr/>
            <p:nvPr/>
          </p:nvSpPr>
          <p:spPr>
            <a:xfrm>
              <a:off x="2530440" y="27097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1280" y="26208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711880" y="2119320"/>
            <a:ext cx="537480" cy="200520"/>
            <a:chOff x="2711880" y="2119320"/>
            <a:chExt cx="537480" cy="200520"/>
          </a:xfrm>
        </p:grpSpPr>
        <p:sp>
          <p:nvSpPr>
            <p:cNvPr id="391" name=""/>
            <p:cNvSpPr/>
            <p:nvPr/>
          </p:nvSpPr>
          <p:spPr>
            <a:xfrm>
              <a:off x="2740320" y="2193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11880" y="21193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semb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 rot="15639000">
            <a:off x="968760" y="2437200"/>
            <a:ext cx="988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Gambaga Escar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26480" y="2004840"/>
            <a:ext cx="514440" cy="200520"/>
            <a:chOff x="3426480" y="2004840"/>
            <a:chExt cx="514440" cy="200520"/>
          </a:xfrm>
        </p:grpSpPr>
        <p:sp>
          <p:nvSpPr>
            <p:cNvPr id="395" name=""/>
            <p:cNvSpPr/>
            <p:nvPr/>
          </p:nvSpPr>
          <p:spPr>
            <a:xfrm>
              <a:off x="3457440" y="2079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26480" y="20048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gg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958480" y="1414440"/>
            <a:ext cx="375840" cy="200520"/>
            <a:chOff x="2958480" y="1414440"/>
            <a:chExt cx="375840" cy="200520"/>
          </a:xfrm>
        </p:grpSpPr>
        <p:sp>
          <p:nvSpPr>
            <p:cNvPr id="398" name=""/>
            <p:cNvSpPr/>
            <p:nvPr/>
          </p:nvSpPr>
          <p:spPr>
            <a:xfrm>
              <a:off x="2987640" y="1488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58480" y="1414440"/>
              <a:ext cx="37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b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89000" y="1611360"/>
            <a:ext cx="356040" cy="200520"/>
            <a:chOff x="2889000" y="1611360"/>
            <a:chExt cx="356040" cy="200520"/>
          </a:xfrm>
        </p:grpSpPr>
        <p:sp>
          <p:nvSpPr>
            <p:cNvPr id="401" name=""/>
            <p:cNvSpPr/>
            <p:nvPr/>
          </p:nvSpPr>
          <p:spPr>
            <a:xfrm>
              <a:off x="2917800" y="168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89000" y="1611360"/>
              <a:ext cx="356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t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 rot="16200000">
            <a:off x="2104920" y="122184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unme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7291400">
            <a:off x="2807640" y="954720"/>
            <a:ext cx="42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Tifil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367520" y="1839960"/>
            <a:ext cx="410760" cy="200520"/>
            <a:chOff x="4367520" y="1839960"/>
            <a:chExt cx="410760" cy="200520"/>
          </a:xfrm>
        </p:grpSpPr>
        <p:sp>
          <p:nvSpPr>
            <p:cNvPr id="406" name=""/>
            <p:cNvSpPr/>
            <p:nvPr/>
          </p:nvSpPr>
          <p:spPr>
            <a:xfrm>
              <a:off x="4397760" y="1914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67520" y="1839960"/>
              <a:ext cx="4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138560" y="1407960"/>
            <a:ext cx="406440" cy="200520"/>
            <a:chOff x="4138560" y="1407960"/>
            <a:chExt cx="406440" cy="200520"/>
          </a:xfrm>
        </p:grpSpPr>
        <p:sp>
          <p:nvSpPr>
            <p:cNvPr id="409" name=""/>
            <p:cNvSpPr/>
            <p:nvPr/>
          </p:nvSpPr>
          <p:spPr>
            <a:xfrm>
              <a:off x="4168800" y="1482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8560" y="140796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955480" y="1496880"/>
            <a:ext cx="326880" cy="200520"/>
            <a:chOff x="5955480" y="1496880"/>
            <a:chExt cx="326880" cy="200520"/>
          </a:xfrm>
        </p:grpSpPr>
        <p:sp>
          <p:nvSpPr>
            <p:cNvPr id="412" name=""/>
            <p:cNvSpPr/>
            <p:nvPr/>
          </p:nvSpPr>
          <p:spPr>
            <a:xfrm>
              <a:off x="5984640" y="15858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55480" y="14968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7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01080" y="2233440"/>
            <a:ext cx="326880" cy="200520"/>
            <a:chOff x="901080" y="2233440"/>
            <a:chExt cx="326880" cy="200520"/>
          </a:xfrm>
        </p:grpSpPr>
        <p:sp>
          <p:nvSpPr>
            <p:cNvPr id="415" name=""/>
            <p:cNvSpPr/>
            <p:nvPr/>
          </p:nvSpPr>
          <p:spPr>
            <a:xfrm flipH="1">
              <a:off x="1179360" y="23223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01080" y="22334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205640" y="4672080"/>
            <a:ext cx="326880" cy="200520"/>
            <a:chOff x="1205640" y="4672080"/>
            <a:chExt cx="326880" cy="200520"/>
          </a:xfrm>
        </p:grpSpPr>
        <p:sp>
          <p:nvSpPr>
            <p:cNvPr id="418" name=""/>
            <p:cNvSpPr/>
            <p:nvPr/>
          </p:nvSpPr>
          <p:spPr>
            <a:xfrm>
              <a:off x="1234800" y="476100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05640" y="46720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7720" y="4437000"/>
            <a:ext cx="326880" cy="200520"/>
            <a:chOff x="2367720" y="4437000"/>
            <a:chExt cx="326880" cy="200520"/>
          </a:xfrm>
        </p:grpSpPr>
        <p:sp>
          <p:nvSpPr>
            <p:cNvPr id="421" name=""/>
            <p:cNvSpPr/>
            <p:nvPr/>
          </p:nvSpPr>
          <p:spPr>
            <a:xfrm>
              <a:off x="2396880" y="45259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67720" y="44370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364400" y="5510160"/>
            <a:ext cx="326880" cy="200520"/>
            <a:chOff x="1364400" y="5510160"/>
            <a:chExt cx="326880" cy="200520"/>
          </a:xfrm>
        </p:grpSpPr>
        <p:sp>
          <p:nvSpPr>
            <p:cNvPr id="424" name=""/>
            <p:cNvSpPr/>
            <p:nvPr/>
          </p:nvSpPr>
          <p:spPr>
            <a:xfrm flipH="1">
              <a:off x="1643400" y="559908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364400" y="551016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6360" y="5300640"/>
            <a:ext cx="326880" cy="200520"/>
            <a:chOff x="4266360" y="5300640"/>
            <a:chExt cx="326880" cy="200520"/>
          </a:xfrm>
        </p:grpSpPr>
        <p:sp>
          <p:nvSpPr>
            <p:cNvPr id="427" name=""/>
            <p:cNvSpPr/>
            <p:nvPr/>
          </p:nvSpPr>
          <p:spPr>
            <a:xfrm>
              <a:off x="4295520" y="538956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6360" y="53006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974560" y="4964040"/>
            <a:ext cx="326880" cy="200520"/>
            <a:chOff x="5974560" y="4964040"/>
            <a:chExt cx="326880" cy="200520"/>
          </a:xfrm>
        </p:grpSpPr>
        <p:sp>
          <p:nvSpPr>
            <p:cNvPr id="430" name=""/>
            <p:cNvSpPr/>
            <p:nvPr/>
          </p:nvSpPr>
          <p:spPr>
            <a:xfrm>
              <a:off x="6003720" y="505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74560" y="496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179760" y="6043680"/>
            <a:ext cx="326880" cy="200520"/>
            <a:chOff x="6179760" y="6043680"/>
            <a:chExt cx="326880" cy="200520"/>
          </a:xfrm>
        </p:grpSpPr>
        <p:sp>
          <p:nvSpPr>
            <p:cNvPr id="433" name=""/>
            <p:cNvSpPr/>
            <p:nvPr/>
          </p:nvSpPr>
          <p:spPr>
            <a:xfrm flipH="1">
              <a:off x="6459480" y="61326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79760" y="60436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571440" y="4081320"/>
            <a:ext cx="326880" cy="200520"/>
            <a:chOff x="6571440" y="4081320"/>
            <a:chExt cx="326880" cy="200520"/>
          </a:xfrm>
        </p:grpSpPr>
        <p:sp>
          <p:nvSpPr>
            <p:cNvPr id="436" name=""/>
            <p:cNvSpPr/>
            <p:nvPr/>
          </p:nvSpPr>
          <p:spPr>
            <a:xfrm>
              <a:off x="6600600" y="41702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71440" y="40813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447680" y="3274920"/>
            <a:ext cx="326880" cy="200520"/>
            <a:chOff x="7447680" y="3274920"/>
            <a:chExt cx="326880" cy="200520"/>
          </a:xfrm>
        </p:grpSpPr>
        <p:sp>
          <p:nvSpPr>
            <p:cNvPr id="439" name=""/>
            <p:cNvSpPr/>
            <p:nvPr/>
          </p:nvSpPr>
          <p:spPr>
            <a:xfrm>
              <a:off x="7476840" y="3363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47680" y="3274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457320" y="2678040"/>
            <a:ext cx="326880" cy="200520"/>
            <a:chOff x="6457320" y="2678040"/>
            <a:chExt cx="326880" cy="200520"/>
          </a:xfrm>
        </p:grpSpPr>
        <p:sp>
          <p:nvSpPr>
            <p:cNvPr id="442" name=""/>
            <p:cNvSpPr/>
            <p:nvPr/>
          </p:nvSpPr>
          <p:spPr>
            <a:xfrm>
              <a:off x="6486480" y="2766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57320" y="2678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765040" y="3929040"/>
            <a:ext cx="326880" cy="200520"/>
            <a:chOff x="5765040" y="3929040"/>
            <a:chExt cx="326880" cy="200520"/>
          </a:xfrm>
        </p:grpSpPr>
        <p:sp>
          <p:nvSpPr>
            <p:cNvPr id="445" name=""/>
            <p:cNvSpPr/>
            <p:nvPr/>
          </p:nvSpPr>
          <p:spPr>
            <a:xfrm>
              <a:off x="5794200" y="4017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5040" y="3929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247280" y="3382920"/>
            <a:ext cx="326880" cy="200520"/>
            <a:chOff x="4247280" y="3382920"/>
            <a:chExt cx="326880" cy="200520"/>
          </a:xfrm>
        </p:grpSpPr>
        <p:sp>
          <p:nvSpPr>
            <p:cNvPr id="448" name=""/>
            <p:cNvSpPr/>
            <p:nvPr/>
          </p:nvSpPr>
          <p:spPr>
            <a:xfrm>
              <a:off x="4276440" y="3471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47280" y="3382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587200" y="6138720"/>
            <a:ext cx="326880" cy="200520"/>
            <a:chOff x="5587200" y="6138720"/>
            <a:chExt cx="326880" cy="200520"/>
          </a:xfrm>
        </p:grpSpPr>
        <p:sp>
          <p:nvSpPr>
            <p:cNvPr id="451" name=""/>
            <p:cNvSpPr/>
            <p:nvPr/>
          </p:nvSpPr>
          <p:spPr>
            <a:xfrm>
              <a:off x="5616360" y="62276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87200" y="61387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 rot="11361000">
            <a:off x="4877640" y="1310040"/>
            <a:ext cx="94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kwapim-Gao Ran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 rot="6891000">
            <a:off x="5972760" y="3028320"/>
            <a:ext cx="72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Kwahu Platea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rot="15109200">
            <a:off x="5331600" y="871920"/>
            <a:ext cx="48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amp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7291400">
            <a:off x="5781600" y="780840"/>
            <a:ext cx="54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Segumb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2760" y="2919240"/>
            <a:ext cx="557280" cy="200520"/>
            <a:chOff x="4082760" y="2919240"/>
            <a:chExt cx="557280" cy="200520"/>
          </a:xfrm>
        </p:grpSpPr>
        <p:sp>
          <p:nvSpPr>
            <p:cNvPr id="458" name=""/>
            <p:cNvSpPr/>
            <p:nvPr/>
          </p:nvSpPr>
          <p:spPr>
            <a:xfrm>
              <a:off x="4111560" y="29937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82760" y="291924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m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782880" y="2811600"/>
            <a:ext cx="362160" cy="200520"/>
            <a:chOff x="3782880" y="2811600"/>
            <a:chExt cx="362160" cy="200520"/>
          </a:xfrm>
        </p:grpSpPr>
        <p:sp>
          <p:nvSpPr>
            <p:cNvPr id="461" name=""/>
            <p:cNvSpPr/>
            <p:nvPr/>
          </p:nvSpPr>
          <p:spPr>
            <a:xfrm>
              <a:off x="3813120" y="288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82880" y="2811600"/>
              <a:ext cx="362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in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705200" y="2163600"/>
            <a:ext cx="464040" cy="200520"/>
            <a:chOff x="4705200" y="2163600"/>
            <a:chExt cx="464040" cy="200520"/>
          </a:xfrm>
        </p:grpSpPr>
        <p:sp>
          <p:nvSpPr>
            <p:cNvPr id="464" name=""/>
            <p:cNvSpPr/>
            <p:nvPr/>
          </p:nvSpPr>
          <p:spPr>
            <a:xfrm>
              <a:off x="4734000" y="2238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05200" y="216360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225040" y="1477800"/>
            <a:ext cx="390960" cy="200520"/>
            <a:chOff x="5225040" y="1477800"/>
            <a:chExt cx="390960" cy="200520"/>
          </a:xfrm>
        </p:grpSpPr>
        <p:sp>
          <p:nvSpPr>
            <p:cNvPr id="467" name=""/>
            <p:cNvSpPr/>
            <p:nvPr/>
          </p:nvSpPr>
          <p:spPr>
            <a:xfrm>
              <a:off x="5254560" y="1552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25040" y="147780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v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804920" y="1465200"/>
            <a:ext cx="377280" cy="200520"/>
            <a:chOff x="4804920" y="1465200"/>
            <a:chExt cx="377280" cy="200520"/>
          </a:xfrm>
        </p:grpSpPr>
        <p:sp>
          <p:nvSpPr>
            <p:cNvPr id="470" name=""/>
            <p:cNvSpPr/>
            <p:nvPr/>
          </p:nvSpPr>
          <p:spPr>
            <a:xfrm flipH="1">
              <a:off x="5114520" y="1539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804920" y="146520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lo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14880" y="3033720"/>
            <a:ext cx="455040" cy="200520"/>
            <a:chOff x="4214880" y="3033720"/>
            <a:chExt cx="455040" cy="200520"/>
          </a:xfrm>
        </p:grpSpPr>
        <p:sp>
          <p:nvSpPr>
            <p:cNvPr id="473" name=""/>
            <p:cNvSpPr/>
            <p:nvPr/>
          </p:nvSpPr>
          <p:spPr>
            <a:xfrm>
              <a:off x="4245120" y="31082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4880" y="3033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234480" y="1452600"/>
            <a:ext cx="381960" cy="200520"/>
            <a:chOff x="6234480" y="1452600"/>
            <a:chExt cx="381960" cy="200520"/>
          </a:xfrm>
        </p:grpSpPr>
        <p:sp>
          <p:nvSpPr>
            <p:cNvPr id="476" name=""/>
            <p:cNvSpPr/>
            <p:nvPr/>
          </p:nvSpPr>
          <p:spPr>
            <a:xfrm>
              <a:off x="6264360" y="1527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34480" y="14526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785200" y="1401840"/>
            <a:ext cx="468720" cy="200520"/>
            <a:chOff x="5785200" y="1401840"/>
            <a:chExt cx="468720" cy="200520"/>
          </a:xfrm>
        </p:grpSpPr>
        <p:sp>
          <p:nvSpPr>
            <p:cNvPr id="479" name=""/>
            <p:cNvSpPr/>
            <p:nvPr/>
          </p:nvSpPr>
          <p:spPr>
            <a:xfrm>
              <a:off x="5813640" y="147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85200" y="140184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757480" y="1522440"/>
            <a:ext cx="377280" cy="200520"/>
            <a:chOff x="5757480" y="1522440"/>
            <a:chExt cx="377280" cy="200520"/>
          </a:xfrm>
        </p:grpSpPr>
        <p:sp>
          <p:nvSpPr>
            <p:cNvPr id="482" name=""/>
            <p:cNvSpPr/>
            <p:nvPr/>
          </p:nvSpPr>
          <p:spPr>
            <a:xfrm>
              <a:off x="5788440" y="1596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57480" y="152244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6000" y="544680"/>
            <a:ext cx="406440" cy="200520"/>
            <a:chOff x="6876000" y="544680"/>
            <a:chExt cx="406440" cy="200520"/>
          </a:xfrm>
        </p:grpSpPr>
        <p:sp>
          <p:nvSpPr>
            <p:cNvPr id="485" name=""/>
            <p:cNvSpPr/>
            <p:nvPr/>
          </p:nvSpPr>
          <p:spPr>
            <a:xfrm>
              <a:off x="6905520" y="619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6000" y="54468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o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851160" y="423720"/>
            <a:ext cx="577080" cy="200520"/>
            <a:chOff x="6851160" y="423720"/>
            <a:chExt cx="577080" cy="200520"/>
          </a:xfrm>
        </p:grpSpPr>
        <p:sp>
          <p:nvSpPr>
            <p:cNvPr id="488" name=""/>
            <p:cNvSpPr/>
            <p:nvPr/>
          </p:nvSpPr>
          <p:spPr>
            <a:xfrm>
              <a:off x="6880320" y="4982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1160" y="4237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049800" y="1623960"/>
            <a:ext cx="470160" cy="200520"/>
            <a:chOff x="6049800" y="1623960"/>
            <a:chExt cx="470160" cy="200520"/>
          </a:xfrm>
        </p:grpSpPr>
        <p:sp>
          <p:nvSpPr>
            <p:cNvPr id="491" name=""/>
            <p:cNvSpPr/>
            <p:nvPr/>
          </p:nvSpPr>
          <p:spPr>
            <a:xfrm>
              <a:off x="6080040" y="1698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49800" y="1623960"/>
              <a:ext cx="47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kkal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 flipH="1" flipV="1" rot="11890800">
            <a:off x="6389640" y="143280"/>
            <a:ext cx="414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eci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69840" y="1262160"/>
            <a:ext cx="390960" cy="200520"/>
            <a:chOff x="7269840" y="1262160"/>
            <a:chExt cx="390960" cy="200520"/>
          </a:xfrm>
        </p:grpSpPr>
        <p:sp>
          <p:nvSpPr>
            <p:cNvPr id="495" name=""/>
            <p:cNvSpPr/>
            <p:nvPr/>
          </p:nvSpPr>
          <p:spPr>
            <a:xfrm>
              <a:off x="7299360" y="1336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69840" y="126216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984360" y="1344600"/>
            <a:ext cx="420120" cy="200520"/>
            <a:chOff x="6984360" y="1344600"/>
            <a:chExt cx="420120" cy="200520"/>
          </a:xfrm>
        </p:grpSpPr>
        <p:sp>
          <p:nvSpPr>
            <p:cNvPr id="498" name=""/>
            <p:cNvSpPr/>
            <p:nvPr/>
          </p:nvSpPr>
          <p:spPr>
            <a:xfrm>
              <a:off x="7013880" y="14191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84360" y="1344600"/>
              <a:ext cx="42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123320" y="754200"/>
            <a:ext cx="381960" cy="200520"/>
            <a:chOff x="7123320" y="754200"/>
            <a:chExt cx="381960" cy="200520"/>
          </a:xfrm>
        </p:grpSpPr>
        <p:sp>
          <p:nvSpPr>
            <p:cNvPr id="501" name=""/>
            <p:cNvSpPr/>
            <p:nvPr/>
          </p:nvSpPr>
          <p:spPr>
            <a:xfrm>
              <a:off x="7153560" y="828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3320" y="7542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729840" y="1967040"/>
            <a:ext cx="439920" cy="200520"/>
            <a:chOff x="6729840" y="1967040"/>
            <a:chExt cx="439920" cy="200520"/>
          </a:xfrm>
        </p:grpSpPr>
        <p:sp>
          <p:nvSpPr>
            <p:cNvPr id="504" name=""/>
            <p:cNvSpPr/>
            <p:nvPr/>
          </p:nvSpPr>
          <p:spPr>
            <a:xfrm>
              <a:off x="6759720" y="2041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29840" y="196704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6640" y="2011320"/>
            <a:ext cx="596880" cy="200520"/>
            <a:chOff x="6146640" y="2011320"/>
            <a:chExt cx="596880" cy="200520"/>
          </a:xfrm>
        </p:grpSpPr>
        <p:sp>
          <p:nvSpPr>
            <p:cNvPr id="507" name=""/>
            <p:cNvSpPr/>
            <p:nvPr/>
          </p:nvSpPr>
          <p:spPr>
            <a:xfrm flipH="1">
              <a:off x="6678720" y="2085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146640" y="2011320"/>
              <a:ext cx="59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ca D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678720" y="2055960"/>
            <a:ext cx="426240" cy="200520"/>
            <a:chOff x="6678720" y="2055960"/>
            <a:chExt cx="426240" cy="200520"/>
          </a:xfrm>
        </p:grpSpPr>
        <p:sp>
          <p:nvSpPr>
            <p:cNvPr id="510" name=""/>
            <p:cNvSpPr/>
            <p:nvPr/>
          </p:nvSpPr>
          <p:spPr>
            <a:xfrm>
              <a:off x="6708600" y="2130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78720" y="20559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uk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869880" y="2468520"/>
            <a:ext cx="567720" cy="200520"/>
            <a:chOff x="6869880" y="2468520"/>
            <a:chExt cx="567720" cy="200520"/>
          </a:xfrm>
        </p:grpSpPr>
        <p:sp>
          <p:nvSpPr>
            <p:cNvPr id="513" name=""/>
            <p:cNvSpPr/>
            <p:nvPr/>
          </p:nvSpPr>
          <p:spPr>
            <a:xfrm>
              <a:off x="6899400" y="25430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69880" y="24685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m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029360" y="2093760"/>
            <a:ext cx="522000" cy="200520"/>
            <a:chOff x="7029360" y="2093760"/>
            <a:chExt cx="522000" cy="200520"/>
          </a:xfrm>
        </p:grpSpPr>
        <p:sp>
          <p:nvSpPr>
            <p:cNvPr id="516" name=""/>
            <p:cNvSpPr/>
            <p:nvPr/>
          </p:nvSpPr>
          <p:spPr>
            <a:xfrm>
              <a:off x="7058160" y="2168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29360" y="2093760"/>
              <a:ext cx="52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p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30600" y="3147840"/>
            <a:ext cx="429120" cy="200520"/>
            <a:chOff x="6330600" y="3147840"/>
            <a:chExt cx="429120" cy="200520"/>
          </a:xfrm>
        </p:grpSpPr>
        <p:sp>
          <p:nvSpPr>
            <p:cNvPr id="519" name=""/>
            <p:cNvSpPr/>
            <p:nvPr/>
          </p:nvSpPr>
          <p:spPr>
            <a:xfrm>
              <a:off x="6359400" y="3222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30600" y="3147840"/>
              <a:ext cx="42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rib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660720" y="2766960"/>
            <a:ext cx="513000" cy="200520"/>
            <a:chOff x="6660720" y="2766960"/>
            <a:chExt cx="513000" cy="200520"/>
          </a:xfrm>
        </p:grpSpPr>
        <p:sp>
          <p:nvSpPr>
            <p:cNvPr id="522" name=""/>
            <p:cNvSpPr/>
            <p:nvPr/>
          </p:nvSpPr>
          <p:spPr>
            <a:xfrm>
              <a:off x="6689880" y="2841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60720" y="27669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nro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238880" y="2589120"/>
            <a:ext cx="424440" cy="200520"/>
            <a:chOff x="7238880" y="2589120"/>
            <a:chExt cx="424440" cy="200520"/>
          </a:xfrm>
        </p:grpSpPr>
        <p:sp>
          <p:nvSpPr>
            <p:cNvPr id="525" name=""/>
            <p:cNvSpPr/>
            <p:nvPr/>
          </p:nvSpPr>
          <p:spPr>
            <a:xfrm>
              <a:off x="7267680" y="266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38880" y="2589120"/>
              <a:ext cx="42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666840" y="2894040"/>
            <a:ext cx="326880" cy="200520"/>
            <a:chOff x="6666840" y="2894040"/>
            <a:chExt cx="326880" cy="200520"/>
          </a:xfrm>
        </p:grpSpPr>
        <p:sp>
          <p:nvSpPr>
            <p:cNvPr id="528" name=""/>
            <p:cNvSpPr/>
            <p:nvPr/>
          </p:nvSpPr>
          <p:spPr>
            <a:xfrm>
              <a:off x="6696000" y="298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66840" y="289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 rot="1491000">
            <a:off x="6793560" y="2971440"/>
            <a:ext cx="41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te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Rang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000280" y="3567240"/>
            <a:ext cx="528120" cy="200520"/>
            <a:chOff x="8000280" y="3567240"/>
            <a:chExt cx="528120" cy="200520"/>
          </a:xfrm>
        </p:grpSpPr>
        <p:sp>
          <p:nvSpPr>
            <p:cNvPr id="532" name=""/>
            <p:cNvSpPr/>
            <p:nvPr/>
          </p:nvSpPr>
          <p:spPr>
            <a:xfrm>
              <a:off x="802980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0280" y="35672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tpo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123680" y="3497400"/>
            <a:ext cx="479520" cy="200520"/>
            <a:chOff x="7123680" y="3497400"/>
            <a:chExt cx="479520" cy="200520"/>
          </a:xfrm>
        </p:grpSpPr>
        <p:sp>
          <p:nvSpPr>
            <p:cNvPr id="535" name=""/>
            <p:cNvSpPr/>
            <p:nvPr/>
          </p:nvSpPr>
          <p:spPr>
            <a:xfrm>
              <a:off x="7153560" y="3571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3680" y="349740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h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888240" y="3268800"/>
            <a:ext cx="455040" cy="200520"/>
            <a:chOff x="6888240" y="3268800"/>
            <a:chExt cx="455040" cy="200520"/>
          </a:xfrm>
        </p:grpSpPr>
        <p:sp>
          <p:nvSpPr>
            <p:cNvPr id="538" name=""/>
            <p:cNvSpPr/>
            <p:nvPr/>
          </p:nvSpPr>
          <p:spPr>
            <a:xfrm>
              <a:off x="6918480" y="3343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88240" y="32688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ai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101440" y="3840120"/>
            <a:ext cx="552600" cy="200520"/>
            <a:chOff x="8101440" y="3840120"/>
            <a:chExt cx="552600" cy="200520"/>
          </a:xfrm>
        </p:grpSpPr>
        <p:sp>
          <p:nvSpPr>
            <p:cNvPr id="541" name=""/>
            <p:cNvSpPr/>
            <p:nvPr/>
          </p:nvSpPr>
          <p:spPr>
            <a:xfrm>
              <a:off x="8131320" y="3914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01440" y="38401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plo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139240" y="3954600"/>
            <a:ext cx="450360" cy="200520"/>
            <a:chOff x="8139240" y="3954600"/>
            <a:chExt cx="450360" cy="200520"/>
          </a:xfrm>
        </p:grpSpPr>
        <p:sp>
          <p:nvSpPr>
            <p:cNvPr id="544" name=""/>
            <p:cNvSpPr/>
            <p:nvPr/>
          </p:nvSpPr>
          <p:spPr>
            <a:xfrm>
              <a:off x="8169120" y="4029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39240" y="3954600"/>
              <a:ext cx="45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lmi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824240" y="2989440"/>
            <a:ext cx="455040" cy="200520"/>
            <a:chOff x="7824240" y="2989440"/>
            <a:chExt cx="455040" cy="200520"/>
          </a:xfrm>
        </p:grpSpPr>
        <p:sp>
          <p:nvSpPr>
            <p:cNvPr id="547" name=""/>
            <p:cNvSpPr/>
            <p:nvPr/>
          </p:nvSpPr>
          <p:spPr>
            <a:xfrm>
              <a:off x="7853760" y="3063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24240" y="298944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8151480" y="6049800"/>
            <a:ext cx="543600" cy="200520"/>
            <a:chOff x="8151480" y="6049800"/>
            <a:chExt cx="543600" cy="200520"/>
          </a:xfrm>
        </p:grpSpPr>
        <p:sp>
          <p:nvSpPr>
            <p:cNvPr id="550" name=""/>
            <p:cNvSpPr/>
            <p:nvPr/>
          </p:nvSpPr>
          <p:spPr>
            <a:xfrm>
              <a:off x="8182080" y="6124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51480" y="604980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an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394480" y="5199120"/>
            <a:ext cx="464040" cy="200520"/>
            <a:chOff x="8394480" y="5199120"/>
            <a:chExt cx="464040" cy="200520"/>
          </a:xfrm>
        </p:grpSpPr>
        <p:sp>
          <p:nvSpPr>
            <p:cNvPr id="553" name=""/>
            <p:cNvSpPr/>
            <p:nvPr/>
          </p:nvSpPr>
          <p:spPr>
            <a:xfrm>
              <a:off x="8423280" y="527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94480" y="519912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ona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280360" y="4443480"/>
            <a:ext cx="552600" cy="200520"/>
            <a:chOff x="8280360" y="4443480"/>
            <a:chExt cx="552600" cy="200520"/>
          </a:xfrm>
        </p:grpSpPr>
        <p:sp>
          <p:nvSpPr>
            <p:cNvPr id="556" name=""/>
            <p:cNvSpPr/>
            <p:nvPr/>
          </p:nvSpPr>
          <p:spPr>
            <a:xfrm>
              <a:off x="8309160" y="4518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80360" y="444348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ndo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167680" y="4164120"/>
            <a:ext cx="557280" cy="200520"/>
            <a:chOff x="8167680" y="4164120"/>
            <a:chExt cx="557280" cy="200520"/>
          </a:xfrm>
        </p:grpSpPr>
        <p:sp>
          <p:nvSpPr>
            <p:cNvPr id="559" name=""/>
            <p:cNvSpPr/>
            <p:nvPr/>
          </p:nvSpPr>
          <p:spPr>
            <a:xfrm>
              <a:off x="8196480" y="4238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67680" y="416412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men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988240" y="3554280"/>
            <a:ext cx="493200" cy="200520"/>
            <a:chOff x="5988240" y="3554280"/>
            <a:chExt cx="493200" cy="200520"/>
          </a:xfrm>
        </p:grpSpPr>
        <p:sp>
          <p:nvSpPr>
            <p:cNvPr id="562" name=""/>
            <p:cNvSpPr/>
            <p:nvPr/>
          </p:nvSpPr>
          <p:spPr>
            <a:xfrm>
              <a:off x="6016680" y="36288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88240" y="3554280"/>
              <a:ext cx="49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on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453000" y="3560760"/>
            <a:ext cx="659160" cy="200520"/>
            <a:chOff x="6453000" y="3560760"/>
            <a:chExt cx="659160" cy="200520"/>
          </a:xfrm>
        </p:grpSpPr>
        <p:sp>
          <p:nvSpPr>
            <p:cNvPr id="565" name=""/>
            <p:cNvSpPr/>
            <p:nvPr/>
          </p:nvSpPr>
          <p:spPr>
            <a:xfrm>
              <a:off x="6480360" y="3635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3000" y="3560760"/>
              <a:ext cx="65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ach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33680" y="4576680"/>
            <a:ext cx="377280" cy="200520"/>
            <a:chOff x="7033680" y="4576680"/>
            <a:chExt cx="377280" cy="200520"/>
          </a:xfrm>
        </p:grpSpPr>
        <p:sp>
          <p:nvSpPr>
            <p:cNvPr id="568" name=""/>
            <p:cNvSpPr/>
            <p:nvPr/>
          </p:nvSpPr>
          <p:spPr>
            <a:xfrm>
              <a:off x="7064640" y="4651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33680" y="457668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487280" y="4253040"/>
            <a:ext cx="625680" cy="200520"/>
            <a:chOff x="7487280" y="4253040"/>
            <a:chExt cx="625680" cy="200520"/>
          </a:xfrm>
        </p:grpSpPr>
        <p:sp>
          <p:nvSpPr>
            <p:cNvPr id="571" name=""/>
            <p:cNvSpPr/>
            <p:nvPr/>
          </p:nvSpPr>
          <p:spPr>
            <a:xfrm>
              <a:off x="7515360" y="4327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87280" y="42530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mes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821360" y="4830840"/>
            <a:ext cx="406440" cy="200520"/>
            <a:chOff x="7821360" y="4830840"/>
            <a:chExt cx="406440" cy="200520"/>
          </a:xfrm>
        </p:grpSpPr>
        <p:sp>
          <p:nvSpPr>
            <p:cNvPr id="574" name=""/>
            <p:cNvSpPr/>
            <p:nvPr/>
          </p:nvSpPr>
          <p:spPr>
            <a:xfrm>
              <a:off x="7851960" y="4905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21360" y="483084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61880" y="4405320"/>
            <a:ext cx="439920" cy="200520"/>
            <a:chOff x="6761880" y="4405320"/>
            <a:chExt cx="439920" cy="200520"/>
          </a:xfrm>
        </p:grpSpPr>
        <p:sp>
          <p:nvSpPr>
            <p:cNvPr id="577" name=""/>
            <p:cNvSpPr/>
            <p:nvPr/>
          </p:nvSpPr>
          <p:spPr>
            <a:xfrm>
              <a:off x="6791400" y="4479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61880" y="440532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590160" y="5992920"/>
            <a:ext cx="503640" cy="200520"/>
            <a:chOff x="6590160" y="5992920"/>
            <a:chExt cx="503640" cy="200520"/>
          </a:xfrm>
        </p:grpSpPr>
        <p:sp>
          <p:nvSpPr>
            <p:cNvPr id="580" name=""/>
            <p:cNvSpPr/>
            <p:nvPr/>
          </p:nvSpPr>
          <p:spPr>
            <a:xfrm>
              <a:off x="6619680" y="60674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90160" y="599292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gu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193160" y="5954760"/>
            <a:ext cx="426240" cy="200520"/>
            <a:chOff x="7193160" y="5954760"/>
            <a:chExt cx="426240" cy="200520"/>
          </a:xfrm>
        </p:grpSpPr>
        <p:sp>
          <p:nvSpPr>
            <p:cNvPr id="583" name=""/>
            <p:cNvSpPr/>
            <p:nvPr/>
          </p:nvSpPr>
          <p:spPr>
            <a:xfrm>
              <a:off x="7223040" y="6029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93160" y="5954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utch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580880" y="5846760"/>
            <a:ext cx="474840" cy="200520"/>
            <a:chOff x="7580880" y="5846760"/>
            <a:chExt cx="474840" cy="200520"/>
          </a:xfrm>
        </p:grpSpPr>
        <p:sp>
          <p:nvSpPr>
            <p:cNvPr id="586" name=""/>
            <p:cNvSpPr/>
            <p:nvPr/>
          </p:nvSpPr>
          <p:spPr>
            <a:xfrm>
              <a:off x="7610760" y="5921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80880" y="58467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ki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536960" y="4881600"/>
            <a:ext cx="415440" cy="307080"/>
            <a:chOff x="7536960" y="4881600"/>
            <a:chExt cx="415440" cy="307080"/>
          </a:xfrm>
        </p:grpSpPr>
        <p:sp>
          <p:nvSpPr>
            <p:cNvPr id="589" name=""/>
            <p:cNvSpPr/>
            <p:nvPr/>
          </p:nvSpPr>
          <p:spPr>
            <a:xfrm>
              <a:off x="7566120" y="495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36960" y="488160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o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998680" y="5541840"/>
            <a:ext cx="465840" cy="200520"/>
            <a:chOff x="5998680" y="5541840"/>
            <a:chExt cx="465840" cy="200520"/>
          </a:xfrm>
        </p:grpSpPr>
        <p:sp>
          <p:nvSpPr>
            <p:cNvPr id="592" name=""/>
            <p:cNvSpPr/>
            <p:nvPr/>
          </p:nvSpPr>
          <p:spPr>
            <a:xfrm>
              <a:off x="6029640" y="561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8680" y="5541840"/>
              <a:ext cx="46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zi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414120" y="5275440"/>
            <a:ext cx="625680" cy="200520"/>
            <a:chOff x="6414120" y="5275440"/>
            <a:chExt cx="625680" cy="200520"/>
          </a:xfrm>
        </p:grpSpPr>
        <p:sp>
          <p:nvSpPr>
            <p:cNvPr id="595" name=""/>
            <p:cNvSpPr/>
            <p:nvPr/>
          </p:nvSpPr>
          <p:spPr>
            <a:xfrm>
              <a:off x="6442200" y="5349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14120" y="5275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ther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51320" y="6310440"/>
            <a:ext cx="352800" cy="200520"/>
            <a:chOff x="6151320" y="6310440"/>
            <a:chExt cx="352800" cy="200520"/>
          </a:xfrm>
        </p:grpSpPr>
        <p:sp>
          <p:nvSpPr>
            <p:cNvPr id="598" name=""/>
            <p:cNvSpPr/>
            <p:nvPr/>
          </p:nvSpPr>
          <p:spPr>
            <a:xfrm>
              <a:off x="6181920" y="6384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1320" y="6310440"/>
              <a:ext cx="35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540680" y="5770440"/>
            <a:ext cx="625680" cy="200520"/>
            <a:chOff x="4540680" y="5770440"/>
            <a:chExt cx="625680" cy="200520"/>
          </a:xfrm>
        </p:grpSpPr>
        <p:sp>
          <p:nvSpPr>
            <p:cNvPr id="601" name=""/>
            <p:cNvSpPr/>
            <p:nvPr/>
          </p:nvSpPr>
          <p:spPr>
            <a:xfrm>
              <a:off x="4568760" y="5844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40680" y="5770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mpi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174280" y="5618160"/>
            <a:ext cx="479520" cy="200520"/>
            <a:chOff x="5174280" y="5618160"/>
            <a:chExt cx="479520" cy="200520"/>
          </a:xfrm>
        </p:grpSpPr>
        <p:sp>
          <p:nvSpPr>
            <p:cNvPr id="604" name=""/>
            <p:cNvSpPr/>
            <p:nvPr/>
          </p:nvSpPr>
          <p:spPr>
            <a:xfrm>
              <a:off x="5204160" y="56926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4280" y="56181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luc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294520" y="5294160"/>
            <a:ext cx="543600" cy="200520"/>
            <a:chOff x="5294520" y="5294160"/>
            <a:chExt cx="543600" cy="200520"/>
          </a:xfrm>
        </p:grpSpPr>
        <p:sp>
          <p:nvSpPr>
            <p:cNvPr id="607" name=""/>
            <p:cNvSpPr/>
            <p:nvPr/>
          </p:nvSpPr>
          <p:spPr>
            <a:xfrm>
              <a:off x="5324400" y="5368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94520" y="529416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isbu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173400" y="5472000"/>
            <a:ext cx="401760" cy="200520"/>
            <a:chOff x="3173400" y="5472000"/>
            <a:chExt cx="401760" cy="200520"/>
          </a:xfrm>
        </p:grpSpPr>
        <p:sp>
          <p:nvSpPr>
            <p:cNvPr id="610" name=""/>
            <p:cNvSpPr/>
            <p:nvPr/>
          </p:nvSpPr>
          <p:spPr>
            <a:xfrm>
              <a:off x="3203640" y="55465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73400" y="5472000"/>
              <a:ext cx="40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h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400640" y="4468680"/>
            <a:ext cx="631800" cy="200520"/>
            <a:chOff x="4400640" y="4468680"/>
            <a:chExt cx="631800" cy="200520"/>
          </a:xfrm>
        </p:grpSpPr>
        <p:sp>
          <p:nvSpPr>
            <p:cNvPr id="613" name=""/>
            <p:cNvSpPr/>
            <p:nvPr/>
          </p:nvSpPr>
          <p:spPr>
            <a:xfrm>
              <a:off x="4429440" y="4543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00640" y="446868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 Andrew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806360" y="4970520"/>
            <a:ext cx="577080" cy="200520"/>
            <a:chOff x="4806360" y="4970520"/>
            <a:chExt cx="577080" cy="200520"/>
          </a:xfrm>
        </p:grpSpPr>
        <p:sp>
          <p:nvSpPr>
            <p:cNvPr id="616" name=""/>
            <p:cNvSpPr/>
            <p:nvPr/>
          </p:nvSpPr>
          <p:spPr>
            <a:xfrm>
              <a:off x="4835520" y="504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6360" y="49705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lerh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009040" y="4741920"/>
            <a:ext cx="543600" cy="200520"/>
            <a:chOff x="5009040" y="4741920"/>
            <a:chExt cx="543600" cy="200520"/>
          </a:xfrm>
        </p:grpSpPr>
        <p:sp>
          <p:nvSpPr>
            <p:cNvPr id="619" name=""/>
            <p:cNvSpPr/>
            <p:nvPr/>
          </p:nvSpPr>
          <p:spPr>
            <a:xfrm>
              <a:off x="5038920" y="48164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09040" y="474192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ing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 flipH="1" rot="5400000">
            <a:off x="7473240" y="6427800"/>
            <a:ext cx="564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etit Par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rot="4138200">
            <a:off x="7332480" y="649872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Escallop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903680" y="5478480"/>
            <a:ext cx="386640" cy="200520"/>
            <a:chOff x="1903680" y="5478480"/>
            <a:chExt cx="386640" cy="200520"/>
          </a:xfrm>
        </p:grpSpPr>
        <p:sp>
          <p:nvSpPr>
            <p:cNvPr id="624" name=""/>
            <p:cNvSpPr/>
            <p:nvPr/>
          </p:nvSpPr>
          <p:spPr>
            <a:xfrm>
              <a:off x="1933920" y="5553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03680" y="5478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997720" y="3751200"/>
            <a:ext cx="473400" cy="200520"/>
            <a:chOff x="2997720" y="3751200"/>
            <a:chExt cx="473400" cy="200520"/>
          </a:xfrm>
        </p:grpSpPr>
        <p:sp>
          <p:nvSpPr>
            <p:cNvPr id="627" name=""/>
            <p:cNvSpPr/>
            <p:nvPr/>
          </p:nvSpPr>
          <p:spPr>
            <a:xfrm>
              <a:off x="3025800" y="38257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97720" y="3751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ibret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123000" y="4589640"/>
            <a:ext cx="426240" cy="200520"/>
            <a:chOff x="3123000" y="4589640"/>
            <a:chExt cx="426240" cy="200520"/>
          </a:xfrm>
        </p:grpSpPr>
        <p:sp>
          <p:nvSpPr>
            <p:cNvPr id="630" name=""/>
            <p:cNvSpPr/>
            <p:nvPr/>
          </p:nvSpPr>
          <p:spPr>
            <a:xfrm>
              <a:off x="3152880" y="46641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23000" y="4589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fi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77480" y="5376960"/>
            <a:ext cx="526680" cy="200520"/>
            <a:chOff x="2877480" y="5376960"/>
            <a:chExt cx="526680" cy="200520"/>
          </a:xfrm>
        </p:grpSpPr>
        <p:sp>
          <p:nvSpPr>
            <p:cNvPr id="633" name=""/>
            <p:cNvSpPr/>
            <p:nvPr/>
          </p:nvSpPr>
          <p:spPr>
            <a:xfrm>
              <a:off x="2905200" y="5451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77480" y="5376960"/>
              <a:ext cx="52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ngfo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rot="17461800">
            <a:off x="2727720" y="615024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Fa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4793400" y="2360520"/>
            <a:ext cx="430560" cy="200520"/>
            <a:chOff x="4793400" y="2360520"/>
            <a:chExt cx="430560" cy="200520"/>
          </a:xfrm>
        </p:grpSpPr>
        <p:sp>
          <p:nvSpPr>
            <p:cNvPr id="637" name=""/>
            <p:cNvSpPr/>
            <p:nvPr/>
          </p:nvSpPr>
          <p:spPr>
            <a:xfrm>
              <a:off x="4822920" y="243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93400" y="236052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o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662440" y="4030560"/>
            <a:ext cx="479520" cy="200520"/>
            <a:chOff x="5662440" y="4030560"/>
            <a:chExt cx="479520" cy="200520"/>
          </a:xfrm>
        </p:grpSpPr>
        <p:sp>
          <p:nvSpPr>
            <p:cNvPr id="640" name=""/>
            <p:cNvSpPr/>
            <p:nvPr/>
          </p:nvSpPr>
          <p:spPr>
            <a:xfrm>
              <a:off x="5693040" y="4105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62440" y="4030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da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30760" y="3973680"/>
            <a:ext cx="630360" cy="200520"/>
            <a:chOff x="4730760" y="3973680"/>
            <a:chExt cx="630360" cy="200520"/>
          </a:xfrm>
        </p:grpSpPr>
        <p:sp>
          <p:nvSpPr>
            <p:cNvPr id="643" name=""/>
            <p:cNvSpPr/>
            <p:nvPr/>
          </p:nvSpPr>
          <p:spPr>
            <a:xfrm flipH="1">
              <a:off x="5296320" y="4048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730400" y="397368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pidura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786200" y="3452760"/>
            <a:ext cx="357480" cy="200520"/>
            <a:chOff x="4786200" y="3452760"/>
            <a:chExt cx="357480" cy="200520"/>
          </a:xfrm>
        </p:grpSpPr>
        <p:sp>
          <p:nvSpPr>
            <p:cNvPr id="646" name=""/>
            <p:cNvSpPr/>
            <p:nvPr/>
          </p:nvSpPr>
          <p:spPr>
            <a:xfrm>
              <a:off x="4816440" y="3527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86200" y="3452760"/>
              <a:ext cx="35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 rot="4531800">
            <a:off x="5221800" y="639828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Har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32760" y="46274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Laki Saf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9363800">
            <a:off x="3368160" y="535284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Caca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2122800">
            <a:off x="4898520" y="3901680"/>
            <a:ext cx="1417680" cy="2770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859400">
            <a:off x="1546200" y="2028600"/>
            <a:ext cx="1355760" cy="26762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704960" y="29653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008680" y="478296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2152200">
            <a:off x="2560680" y="3925800"/>
            <a:ext cx="1423800" cy="635040"/>
          </a:xfrm>
          <a:prstGeom prst="rightArrow">
            <a:avLst>
              <a:gd name="adj1" fmla="val 50000"/>
              <a:gd name="adj2" fmla="val 56052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3042000">
            <a:off x="3935160" y="5159520"/>
            <a:ext cx="765000" cy="679320"/>
          </a:xfrm>
          <a:prstGeom prst="leftArrow">
            <a:avLst>
              <a:gd name="adj1" fmla="val 50000"/>
              <a:gd name="adj2" fmla="val 28153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21396000">
            <a:off x="4430880" y="4216320"/>
            <a:ext cx="765000" cy="679680"/>
          </a:xfrm>
          <a:prstGeom prst="leftArrow">
            <a:avLst>
              <a:gd name="adj1" fmla="val 50000"/>
              <a:gd name="adj2" fmla="val 2813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88560" y="270828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77880" y="6159600"/>
            <a:ext cx="146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22320" y="2914560"/>
            <a:ext cx="8126280" cy="3957840"/>
          </a:xfrm>
          <a:custGeom>
            <a:avLst/>
            <a:gdLst/>
            <a:ahLst/>
            <a:rect l="l" t="t" r="r" b="b"/>
            <a:pathLst>
              <a:path w="5119" h="2493">
                <a:moveTo>
                  <a:pt x="2630" y="3"/>
                </a:moveTo>
                <a:cubicBezTo>
                  <a:pt x="2350" y="3"/>
                  <a:pt x="2045" y="0"/>
                  <a:pt x="1858" y="27"/>
                </a:cubicBezTo>
                <a:cubicBezTo>
                  <a:pt x="1671" y="54"/>
                  <a:pt x="1608" y="117"/>
                  <a:pt x="1507" y="167"/>
                </a:cubicBezTo>
                <a:cubicBezTo>
                  <a:pt x="1406" y="217"/>
                  <a:pt x="1347" y="255"/>
                  <a:pt x="1250" y="330"/>
                </a:cubicBezTo>
                <a:cubicBezTo>
                  <a:pt x="1153" y="405"/>
                  <a:pt x="1062" y="560"/>
                  <a:pt x="923" y="619"/>
                </a:cubicBezTo>
                <a:cubicBezTo>
                  <a:pt x="784" y="678"/>
                  <a:pt x="559" y="580"/>
                  <a:pt x="416" y="681"/>
                </a:cubicBezTo>
                <a:cubicBezTo>
                  <a:pt x="273" y="782"/>
                  <a:pt x="122" y="991"/>
                  <a:pt x="66" y="1227"/>
                </a:cubicBezTo>
                <a:cubicBezTo>
                  <a:pt x="10" y="1463"/>
                  <a:pt x="0" y="1905"/>
                  <a:pt x="81" y="2100"/>
                </a:cubicBezTo>
                <a:cubicBezTo>
                  <a:pt x="162" y="2295"/>
                  <a:pt x="176" y="2349"/>
                  <a:pt x="549" y="2396"/>
                </a:cubicBezTo>
                <a:cubicBezTo>
                  <a:pt x="922" y="2443"/>
                  <a:pt x="1740" y="2383"/>
                  <a:pt x="2320" y="2385"/>
                </a:cubicBezTo>
                <a:cubicBezTo>
                  <a:pt x="2900" y="2387"/>
                  <a:pt x="3619" y="2425"/>
                  <a:pt x="4032" y="2411"/>
                </a:cubicBezTo>
                <a:cubicBezTo>
                  <a:pt x="4445" y="2397"/>
                  <a:pt x="4660" y="2493"/>
                  <a:pt x="4800" y="2303"/>
                </a:cubicBezTo>
                <a:cubicBezTo>
                  <a:pt x="4940" y="2113"/>
                  <a:pt x="4828" y="1539"/>
                  <a:pt x="4874" y="1273"/>
                </a:cubicBezTo>
                <a:cubicBezTo>
                  <a:pt x="4920" y="1007"/>
                  <a:pt x="5042" y="868"/>
                  <a:pt x="5076" y="705"/>
                </a:cubicBezTo>
                <a:cubicBezTo>
                  <a:pt x="5110" y="542"/>
                  <a:pt x="5119" y="400"/>
                  <a:pt x="5076" y="292"/>
                </a:cubicBezTo>
                <a:cubicBezTo>
                  <a:pt x="5033" y="184"/>
                  <a:pt x="4967" y="102"/>
                  <a:pt x="4819" y="58"/>
                </a:cubicBezTo>
                <a:cubicBezTo>
                  <a:pt x="4671" y="14"/>
                  <a:pt x="4401" y="32"/>
                  <a:pt x="4188" y="27"/>
                </a:cubicBezTo>
                <a:cubicBezTo>
                  <a:pt x="3975" y="22"/>
                  <a:pt x="3801" y="31"/>
                  <a:pt x="3541" y="27"/>
                </a:cubicBezTo>
                <a:cubicBezTo>
                  <a:pt x="3281" y="23"/>
                  <a:pt x="2910" y="3"/>
                  <a:pt x="2630" y="3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898880" y="3048120"/>
            <a:ext cx="838440" cy="837720"/>
            <a:chOff x="4898880" y="3048120"/>
            <a:chExt cx="838440" cy="837720"/>
          </a:xfrm>
        </p:grpSpPr>
        <p:sp>
          <p:nvSpPr>
            <p:cNvPr id="662" name=""/>
            <p:cNvSpPr/>
            <p:nvPr/>
          </p:nvSpPr>
          <p:spPr>
            <a:xfrm>
              <a:off x="4975200" y="3048120"/>
              <a:ext cx="7621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98880" y="3124080"/>
              <a:ext cx="762120" cy="76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7108920" y="4419720"/>
            <a:ext cx="837720" cy="837720"/>
            <a:chOff x="7108920" y="4419720"/>
            <a:chExt cx="837720" cy="837720"/>
          </a:xfrm>
        </p:grpSpPr>
        <p:sp>
          <p:nvSpPr>
            <p:cNvPr id="665" name=""/>
            <p:cNvSpPr/>
            <p:nvPr/>
          </p:nvSpPr>
          <p:spPr>
            <a:xfrm>
              <a:off x="7184880" y="4419720"/>
              <a:ext cx="76176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08920" y="4495680"/>
              <a:ext cx="76176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898880" y="4419720"/>
            <a:ext cx="838440" cy="837720"/>
            <a:chOff x="4898880" y="4419720"/>
            <a:chExt cx="838440" cy="837720"/>
          </a:xfrm>
        </p:grpSpPr>
        <p:sp>
          <p:nvSpPr>
            <p:cNvPr id="668" name=""/>
            <p:cNvSpPr/>
            <p:nvPr/>
          </p:nvSpPr>
          <p:spPr>
            <a:xfrm>
              <a:off x="4975200" y="4419720"/>
              <a:ext cx="762120" cy="76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98880" y="4495680"/>
              <a:ext cx="762120" cy="761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612880" y="4419720"/>
            <a:ext cx="838440" cy="837720"/>
            <a:chOff x="2612880" y="4419720"/>
            <a:chExt cx="838440" cy="837720"/>
          </a:xfrm>
        </p:grpSpPr>
        <p:sp>
          <p:nvSpPr>
            <p:cNvPr id="671" name=""/>
            <p:cNvSpPr/>
            <p:nvPr/>
          </p:nvSpPr>
          <p:spPr>
            <a:xfrm>
              <a:off x="2689200" y="4419720"/>
              <a:ext cx="762120" cy="761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2880" y="4495680"/>
              <a:ext cx="762120" cy="761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108920" y="5638680"/>
            <a:ext cx="837720" cy="838440"/>
            <a:chOff x="7108920" y="5638680"/>
            <a:chExt cx="837720" cy="838440"/>
          </a:xfrm>
        </p:grpSpPr>
        <p:sp>
          <p:nvSpPr>
            <p:cNvPr id="674" name=""/>
            <p:cNvSpPr/>
            <p:nvPr/>
          </p:nvSpPr>
          <p:spPr>
            <a:xfrm>
              <a:off x="7184880" y="5638680"/>
              <a:ext cx="761760" cy="76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108920" y="5715000"/>
              <a:ext cx="761760" cy="762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898880" y="5638680"/>
            <a:ext cx="838440" cy="838440"/>
            <a:chOff x="4898880" y="5638680"/>
            <a:chExt cx="838440" cy="838440"/>
          </a:xfrm>
        </p:grpSpPr>
        <p:sp>
          <p:nvSpPr>
            <p:cNvPr id="677" name=""/>
            <p:cNvSpPr/>
            <p:nvPr/>
          </p:nvSpPr>
          <p:spPr>
            <a:xfrm>
              <a:off x="4975200" y="5638680"/>
              <a:ext cx="762120" cy="76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98880" y="5715000"/>
              <a:ext cx="762120" cy="762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612880" y="5638680"/>
            <a:ext cx="838440" cy="838440"/>
            <a:chOff x="2612880" y="5638680"/>
            <a:chExt cx="838440" cy="838440"/>
          </a:xfrm>
        </p:grpSpPr>
        <p:sp>
          <p:nvSpPr>
            <p:cNvPr id="680" name=""/>
            <p:cNvSpPr/>
            <p:nvPr/>
          </p:nvSpPr>
          <p:spPr>
            <a:xfrm>
              <a:off x="2689200" y="5638680"/>
              <a:ext cx="762120" cy="762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12880" y="5715000"/>
              <a:ext cx="762120" cy="762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993760" y="1218960"/>
            <a:ext cx="4496400" cy="4496400"/>
            <a:chOff x="2993760" y="1218960"/>
            <a:chExt cx="4496400" cy="4496400"/>
          </a:xfrm>
        </p:grpSpPr>
        <p:cxnSp>
          <p:nvCxnSpPr>
            <p:cNvPr id="683" name=""/>
            <p:cNvCxnSpPr>
              <a:stCxn id="663" idx="2"/>
              <a:endCxn id="669" idx="0"/>
            </p:cNvCxnSpPr>
            <p:nvPr/>
          </p:nvCxnSpPr>
          <p:spPr>
            <a:xfrm>
              <a:off x="5279760" y="3885840"/>
              <a:ext cx="1080" cy="61020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4" name=""/>
            <p:cNvCxnSpPr>
              <a:stCxn id="669" idx="2"/>
              <a:endCxn id="678" idx="0"/>
            </p:cNvCxnSpPr>
            <p:nvPr/>
          </p:nvCxnSpPr>
          <p:spPr>
            <a:xfrm>
              <a:off x="5279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5" name=""/>
            <p:cNvCxnSpPr>
              <a:stCxn id="672" idx="2"/>
              <a:endCxn id="681" idx="0"/>
            </p:cNvCxnSpPr>
            <p:nvPr/>
          </p:nvCxnSpPr>
          <p:spPr>
            <a:xfrm>
              <a:off x="2993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6" name=""/>
            <p:cNvCxnSpPr>
              <a:stCxn id="666" idx="2"/>
              <a:endCxn id="675" idx="0"/>
            </p:cNvCxnSpPr>
            <p:nvPr/>
          </p:nvCxnSpPr>
          <p:spPr>
            <a:xfrm>
              <a:off x="748944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7" name=""/>
            <p:cNvCxnSpPr>
              <a:stCxn id="663" idx="2"/>
              <a:endCxn id="672" idx="0"/>
            </p:cNvCxnSpPr>
            <p:nvPr/>
          </p:nvCxnSpPr>
          <p:spPr>
            <a:xfrm rot="5400000">
              <a:off x="3831840" y="3047760"/>
              <a:ext cx="610200" cy="2286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8" name=""/>
            <p:cNvCxnSpPr>
              <a:stCxn id="663" idx="2"/>
              <a:endCxn id="666" idx="0"/>
            </p:cNvCxnSpPr>
            <p:nvPr/>
          </p:nvCxnSpPr>
          <p:spPr>
            <a:xfrm flipH="1" rot="16200000">
              <a:off x="6080040" y="3085560"/>
              <a:ext cx="610200" cy="221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9" name=""/>
            <p:cNvCxnSpPr>
              <a:stCxn id="663" idx="3"/>
              <a:endCxn id="690" idx="2"/>
            </p:cNvCxnSpPr>
            <p:nvPr/>
          </p:nvCxnSpPr>
          <p:spPr>
            <a:xfrm flipV="1">
              <a:off x="5661000" y="1218960"/>
              <a:ext cx="1296000" cy="2286720"/>
            </a:xfrm>
            <a:prstGeom prst="bentConnector2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</p:grpSp>
      <p:sp>
        <p:nvSpPr>
          <p:cNvPr id="691" name=""/>
          <p:cNvSpPr/>
          <p:nvPr/>
        </p:nvSpPr>
        <p:spPr>
          <a:xfrm>
            <a:off x="3832200" y="32004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C in CF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41880" y="457200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ACC in CFA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32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LCC in CFL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6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MCC in CFM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46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32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41880" y="5791320"/>
            <a:ext cx="1752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32200" y="1600200"/>
            <a:ext cx="1752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3712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37120" y="23623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"/>
          <p:cNvCxnSpPr>
            <a:stCxn id="699" idx="2"/>
            <a:endCxn id="700" idx="0"/>
          </p:cNvCxnSpPr>
          <p:nvPr/>
        </p:nvCxnSpPr>
        <p:spPr>
          <a:xfrm>
            <a:off x="4708080" y="22096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700" idx="2"/>
            <a:endCxn id="698" idx="2"/>
          </p:cNvCxnSpPr>
          <p:nvPr/>
        </p:nvCxnSpPr>
        <p:spPr>
          <a:xfrm>
            <a:off x="4708080" y="26668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3" name=""/>
          <p:cNvCxnSpPr>
            <a:stCxn id="691" idx="0"/>
            <a:endCxn id="698" idx="2"/>
          </p:cNvCxnSpPr>
          <p:nvPr/>
        </p:nvCxnSpPr>
        <p:spPr>
          <a:xfrm flipV="1">
            <a:off x="4708080" y="281916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91" idx="2"/>
            <a:endCxn id="693" idx="0"/>
          </p:cNvCxnSpPr>
          <p:nvPr/>
        </p:nvCxnSpPr>
        <p:spPr>
          <a:xfrm>
            <a:off x="4708080" y="39621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5" name=""/>
          <p:cNvCxnSpPr>
            <a:stCxn id="693" idx="2"/>
            <a:endCxn id="696" idx="0"/>
          </p:cNvCxnSpPr>
          <p:nvPr/>
        </p:nvCxnSpPr>
        <p:spPr>
          <a:xfrm>
            <a:off x="4708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2" idx="2"/>
            <a:endCxn id="697" idx="0"/>
          </p:cNvCxnSpPr>
          <p:nvPr/>
        </p:nvCxnSpPr>
        <p:spPr>
          <a:xfrm>
            <a:off x="691812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694" idx="2"/>
            <a:endCxn id="695" idx="0"/>
          </p:cNvCxnSpPr>
          <p:nvPr/>
        </p:nvCxnSpPr>
        <p:spPr>
          <a:xfrm>
            <a:off x="2422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8" name=""/>
          <p:cNvCxnSpPr>
            <a:stCxn id="691" idx="2"/>
            <a:endCxn id="694" idx="0"/>
          </p:cNvCxnSpPr>
          <p:nvPr/>
        </p:nvCxnSpPr>
        <p:spPr>
          <a:xfrm rot="5400000">
            <a:off x="3260160" y="3124080"/>
            <a:ext cx="61020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691" idx="2"/>
            <a:endCxn id="692" idx="0"/>
          </p:cNvCxnSpPr>
          <p:nvPr/>
        </p:nvCxnSpPr>
        <p:spPr>
          <a:xfrm flipH="1" rot="16200000">
            <a:off x="5507640" y="3161880"/>
            <a:ext cx="610200" cy="221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0" name=""/>
          <p:cNvCxnSpPr>
            <a:stCxn id="691" idx="2"/>
          </p:cNvCxnSpPr>
          <p:nvPr/>
        </p:nvCxnSpPr>
        <p:spPr>
          <a:xfrm flipH="1" rot="16200000">
            <a:off x="6298560" y="2372040"/>
            <a:ext cx="305280" cy="3485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11" name=""/>
          <p:cNvGrpSpPr/>
          <p:nvPr/>
        </p:nvGrpSpPr>
        <p:grpSpPr>
          <a:xfrm>
            <a:off x="379440" y="360360"/>
            <a:ext cx="784080" cy="1544760"/>
            <a:chOff x="379440" y="360360"/>
            <a:chExt cx="784080" cy="1544760"/>
          </a:xfrm>
        </p:grpSpPr>
        <p:sp>
          <p:nvSpPr>
            <p:cNvPr id="712" name=""/>
            <p:cNvSpPr/>
            <p:nvPr/>
          </p:nvSpPr>
          <p:spPr>
            <a:xfrm>
              <a:off x="771120" y="36036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9440" y="81756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8400" y="1536840"/>
            <a:ext cx="784080" cy="1930320"/>
            <a:chOff x="68400" y="1536840"/>
            <a:chExt cx="784080" cy="1930320"/>
          </a:xfrm>
        </p:grpSpPr>
        <p:sp>
          <p:nvSpPr>
            <p:cNvPr id="715" name=""/>
            <p:cNvSpPr/>
            <p:nvPr/>
          </p:nvSpPr>
          <p:spPr>
            <a:xfrm>
              <a:off x="460440" y="1536840"/>
              <a:ext cx="0" cy="19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400" y="214632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85840" y="3276720"/>
            <a:ext cx="971640" cy="1776240"/>
            <a:chOff x="285840" y="3276720"/>
            <a:chExt cx="971640" cy="1776240"/>
          </a:xfrm>
        </p:grpSpPr>
        <p:sp>
          <p:nvSpPr>
            <p:cNvPr id="718" name=""/>
            <p:cNvSpPr/>
            <p:nvPr/>
          </p:nvSpPr>
          <p:spPr>
            <a:xfrm>
              <a:off x="771480" y="3276720"/>
              <a:ext cx="0" cy="17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5840" y="3992400"/>
              <a:ext cx="97164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06920" y="4856040"/>
            <a:ext cx="706680" cy="1544760"/>
            <a:chOff x="106920" y="4856040"/>
            <a:chExt cx="706680" cy="1544760"/>
          </a:xfrm>
        </p:grpSpPr>
        <p:sp>
          <p:nvSpPr>
            <p:cNvPr id="721" name=""/>
            <p:cNvSpPr/>
            <p:nvPr/>
          </p:nvSpPr>
          <p:spPr>
            <a:xfrm>
              <a:off x="460440" y="485604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920" y="5516640"/>
              <a:ext cx="70668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646040" y="26668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773840" y="2971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5880" y="304920"/>
            <a:ext cx="2057040" cy="838080"/>
            <a:chOff x="3755880" y="304920"/>
            <a:chExt cx="2057040" cy="838080"/>
          </a:xfrm>
        </p:grpSpPr>
        <p:sp>
          <p:nvSpPr>
            <p:cNvPr id="726" name=""/>
            <p:cNvSpPr/>
            <p:nvPr/>
          </p:nvSpPr>
          <p:spPr>
            <a:xfrm>
              <a:off x="3902760" y="30492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9320" y="38088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55880" y="457200"/>
              <a:ext cx="1910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9" name=""/>
          <p:cNvCxnSpPr>
            <a:stCxn id="728" idx="4"/>
            <a:endCxn id="698" idx="0"/>
          </p:cNvCxnSpPr>
          <p:nvPr/>
        </p:nvCxnSpPr>
        <p:spPr>
          <a:xfrm flipH="1">
            <a:off x="4707720" y="11430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30" name=""/>
          <p:cNvGrpSpPr/>
          <p:nvPr/>
        </p:nvGrpSpPr>
        <p:grpSpPr>
          <a:xfrm>
            <a:off x="6270480" y="228600"/>
            <a:ext cx="1524240" cy="990360"/>
            <a:chOff x="6270480" y="228600"/>
            <a:chExt cx="1524240" cy="990360"/>
          </a:xfrm>
        </p:grpSpPr>
        <p:sp>
          <p:nvSpPr>
            <p:cNvPr id="731" name=""/>
            <p:cNvSpPr/>
            <p:nvPr/>
          </p:nvSpPr>
          <p:spPr>
            <a:xfrm>
              <a:off x="6423120" y="228600"/>
              <a:ext cx="1371600" cy="825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46800" y="310680"/>
              <a:ext cx="1371600" cy="82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70480" y="393480"/>
              <a:ext cx="1371600" cy="825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 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int 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3" name=""/>
          <p:cNvCxnSpPr>
            <a:stCxn id="728" idx="6"/>
            <a:endCxn id="690" idx="1"/>
          </p:cNvCxnSpPr>
          <p:nvPr/>
        </p:nvCxnSpPr>
        <p:spPr>
          <a:xfrm>
            <a:off x="5665680" y="799920"/>
            <a:ext cx="605520" cy="6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34" name=""/>
          <p:cNvGrpSpPr/>
          <p:nvPr/>
        </p:nvGrpSpPr>
        <p:grpSpPr>
          <a:xfrm>
            <a:off x="1446120" y="1901880"/>
            <a:ext cx="1143000" cy="787320"/>
            <a:chOff x="1446120" y="1901880"/>
            <a:chExt cx="1143000" cy="787320"/>
          </a:xfrm>
        </p:grpSpPr>
        <p:sp>
          <p:nvSpPr>
            <p:cNvPr id="735" name=""/>
            <p:cNvSpPr/>
            <p:nvPr/>
          </p:nvSpPr>
          <p:spPr>
            <a:xfrm>
              <a:off x="1628640" y="190188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54120" y="1977840"/>
              <a:ext cx="958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6120" y="205416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8" name=""/>
          <p:cNvCxnSpPr>
            <a:stCxn id="735" idx="3"/>
            <a:endCxn id="698" idx="1"/>
          </p:cNvCxnSpPr>
          <p:nvPr/>
        </p:nvCxnSpPr>
        <p:spPr>
          <a:xfrm flipV="1">
            <a:off x="2588760" y="2208960"/>
            <a:ext cx="1243800" cy="10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39" name=""/>
          <p:cNvCxnSpPr>
            <a:stCxn id="737" idx="2"/>
            <a:endCxn id="691" idx="1"/>
          </p:cNvCxnSpPr>
          <p:nvPr/>
        </p:nvCxnSpPr>
        <p:spPr>
          <a:xfrm flipH="1" rot="16200000">
            <a:off x="2433600" y="2182320"/>
            <a:ext cx="892800" cy="190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40" name=""/>
          <p:cNvSpPr/>
          <p:nvPr/>
        </p:nvSpPr>
        <p:spPr>
          <a:xfrm>
            <a:off x="2544840" y="5881680"/>
            <a:ext cx="655560" cy="581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32600" y="5881680"/>
            <a:ext cx="655560" cy="581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2920" y="5881680"/>
            <a:ext cx="655560" cy="581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083440" y="3919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88080" y="336564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s, SF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1219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40480" y="838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s - 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autonomous, collaborating software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he actions of humans or other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being proactive and predi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kept under strict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changing circumstances at 'run-tim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8943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TREP 1730L 29SEP20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C Mission: Peace enforcement in Bi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my Intentions: Now hostile - threat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emy Forces: Significant troop mov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ly Forces: As brie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 Threat low, but WMD site being neu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s: N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: Freelance reporters a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MIC: N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AX-Ship-Explosion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>29 Oct 2002 - As given at CoAX Binni 2002 Demo, NWDC, Newport, R.I
22 Nov 2002 - Final distribution - v5-2 (0952EST)
</dc:description>
  <dc:language>en-US</dc:language>
  <cp:lastModifiedBy>Patrick Beautement</cp:lastModifiedBy>
  <cp:lastPrinted>2002-10-21T12:48:42Z</cp:lastPrinted>
  <dcterms:modified xsi:type="dcterms:W3CDTF">2002-11-21T14:52:07Z</dcterms:modified>
  <cp:revision>635</cp:revision>
  <dc:subject>CoAX Demo Presentation</dc:subject>
  <dc:title>CoAX - Coalition Agents eXperiment</dc:title>
</cp:coreProperties>
</file>