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7818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904680" y="4704840"/>
            <a:ext cx="4971960" cy="4457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1076040" y="8636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904680" y="4704840"/>
            <a:ext cx="4971960" cy="4457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ust open the presentation and then use &lt;File&gt;, &lt;Save As&gt; to give it the name you w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ease use a document name like CoAX_Master_12Mar02.ppt (with the date spelled out to save UK / US confusion, underscores also helps to make the document name 'Operating System version / type' resistan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imation effects, if required,  for text should be a simple “appear” effect, and select grey out earlier it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nt used is Arial. Should be 'Apple Mac' friendly... Mac users should not use Helvetica to help Windows us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ldImg"/>
          </p:nvPr>
        </p:nvSpPr>
        <p:spPr>
          <a:xfrm>
            <a:off x="1076400" y="863640"/>
            <a:ext cx="4630680" cy="347328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61840" y="298080"/>
            <a:ext cx="63738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41400" y="6458040"/>
            <a:ext cx="1659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AX/Briefing - </a:t>
            </a:r>
            <a:fld id="{217E351D-8622-415D-8B0B-2A4B1013A0E8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modified-ppt-master-slide-flag-strip" descr=""/>
          <p:cNvPicPr/>
          <p:nvPr/>
        </p:nvPicPr>
        <p:blipFill>
          <a:blip r:embed="rId2"/>
          <a:stretch/>
        </p:blipFill>
        <p:spPr>
          <a:xfrm>
            <a:off x="4921200" y="6400800"/>
            <a:ext cx="4048200" cy="287280"/>
          </a:xfrm>
          <a:prstGeom prst="rect">
            <a:avLst/>
          </a:prstGeom>
          <a:ln w="0">
            <a:noFill/>
          </a:ln>
        </p:spPr>
      </p:pic>
      <p:pic>
        <p:nvPicPr>
          <p:cNvPr id="4" name="coax-logo-globe-binni-2001-377x407" descr=""/>
          <p:cNvPicPr/>
          <p:nvPr/>
        </p:nvPicPr>
        <p:blipFill>
          <a:blip r:embed="rId3"/>
          <a:stretch/>
        </p:blipFill>
        <p:spPr>
          <a:xfrm>
            <a:off x="404640" y="241200"/>
            <a:ext cx="1292400" cy="1395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93680" y="3476520"/>
            <a:ext cx="8624880" cy="28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AX – Coalition Agents eXperi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IAI, BBN, CMU, Dartmouth, DSTO, GITI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ockheed Martin ATL, NRL, Potomac Inst., U.Maryland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.Michigan, QinetiQ, USC/ISI, UT-Austin, UWF/IHM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upport from AFRL, ARL, Boeing, DREV, DSTL, ISX, MITRE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IT Sloan, NWDC, OBJS, Schafer, Stanford, TTC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ttp://www.aiai.ed.ac.uk/project/coax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671400" y="165240"/>
            <a:ext cx="1790640" cy="811080"/>
            <a:chOff x="671400" y="165240"/>
            <a:chExt cx="1790640" cy="811080"/>
          </a:xfrm>
        </p:grpSpPr>
        <p:sp>
          <p:nvSpPr>
            <p:cNvPr id="47" name=""/>
            <p:cNvSpPr/>
            <p:nvPr/>
          </p:nvSpPr>
          <p:spPr>
            <a:xfrm>
              <a:off x="705600" y="198000"/>
              <a:ext cx="1721520" cy="745560"/>
            </a:xfrm>
            <a:prstGeom prst="ellipse">
              <a:avLst/>
            </a:prstGeom>
            <a:noFill/>
            <a:ln w="50760">
              <a:solidFill>
                <a:srgbClr val="4c8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05600" y="198000"/>
              <a:ext cx="1704960" cy="729720"/>
            </a:xfrm>
            <a:prstGeom prst="ellipse">
              <a:avLst/>
            </a:prstGeom>
            <a:noFill/>
            <a:ln w="50760">
              <a:solidFill>
                <a:srgbClr val="558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22160" y="198000"/>
              <a:ext cx="1670400" cy="729720"/>
            </a:xfrm>
            <a:prstGeom prst="ellipse">
              <a:avLst/>
            </a:prstGeom>
            <a:noFill/>
            <a:ln w="50760">
              <a:solidFill>
                <a:srgbClr val="5d8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0160" y="213480"/>
              <a:ext cx="1635840" cy="697320"/>
            </a:xfrm>
            <a:prstGeom prst="ellipse">
              <a:avLst/>
            </a:prstGeom>
            <a:noFill/>
            <a:ln w="50760">
              <a:solidFill>
                <a:srgbClr val="669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56720" y="213480"/>
              <a:ext cx="1604160" cy="697320"/>
            </a:xfrm>
            <a:prstGeom prst="ellipse">
              <a:avLst/>
            </a:prstGeom>
            <a:noFill/>
            <a:ln w="50760">
              <a:solidFill>
                <a:srgbClr val="6e9b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2200" y="230400"/>
              <a:ext cx="1570680" cy="664560"/>
            </a:xfrm>
            <a:prstGeom prst="ellipse">
              <a:avLst/>
            </a:prstGeom>
            <a:noFill/>
            <a:ln w="50760">
              <a:solidFill>
                <a:srgbClr val="77a1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0200" y="230400"/>
              <a:ext cx="1536120" cy="664560"/>
            </a:xfrm>
            <a:prstGeom prst="ellipse">
              <a:avLst/>
            </a:prstGeom>
            <a:noFill/>
            <a:ln w="50760">
              <a:solidFill>
                <a:srgbClr val="7fa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6760" y="246240"/>
              <a:ext cx="1501560" cy="631800"/>
            </a:xfrm>
            <a:prstGeom prst="ellipse">
              <a:avLst/>
            </a:prstGeom>
            <a:noFill/>
            <a:ln w="50760">
              <a:solidFill>
                <a:srgbClr val="88a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4760" y="246240"/>
              <a:ext cx="1467000" cy="631800"/>
            </a:xfrm>
            <a:prstGeom prst="ellipse">
              <a:avLst/>
            </a:prstGeom>
            <a:noFill/>
            <a:ln w="50760">
              <a:solidFill>
                <a:srgbClr val="91b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41320" y="263160"/>
              <a:ext cx="1432440" cy="599400"/>
            </a:xfrm>
            <a:prstGeom prst="ellipse">
              <a:avLst/>
            </a:prstGeom>
            <a:noFill/>
            <a:ln w="50760">
              <a:solidFill>
                <a:srgbClr val="99b8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9320" y="263160"/>
              <a:ext cx="1397880" cy="599400"/>
            </a:xfrm>
            <a:prstGeom prst="ellipse">
              <a:avLst/>
            </a:prstGeom>
            <a:noFill/>
            <a:ln w="50760">
              <a:solidFill>
                <a:srgbClr val="a2b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75880" y="279000"/>
              <a:ext cx="1364760" cy="568080"/>
            </a:xfrm>
            <a:prstGeom prst="ellipse">
              <a:avLst/>
            </a:prstGeom>
            <a:noFill/>
            <a:ln w="50760">
              <a:solidFill>
                <a:srgbClr val="aa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92440" y="279000"/>
              <a:ext cx="1330200" cy="568080"/>
            </a:xfrm>
            <a:prstGeom prst="ellipse">
              <a:avLst/>
            </a:prstGeom>
            <a:noFill/>
            <a:ln w="50760">
              <a:solidFill>
                <a:srgbClr val="b3ca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910080" y="279000"/>
              <a:ext cx="1295640" cy="551160"/>
            </a:xfrm>
            <a:prstGeom prst="ellipse">
              <a:avLst/>
            </a:prstGeom>
            <a:noFill/>
            <a:ln w="50760">
              <a:solidFill>
                <a:srgbClr val="bbd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927000" y="294480"/>
              <a:ext cx="1261080" cy="535320"/>
            </a:xfrm>
            <a:prstGeom prst="ellipse">
              <a:avLst/>
            </a:prstGeom>
            <a:noFill/>
            <a:ln w="50760">
              <a:solidFill>
                <a:srgbClr val="c4d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944640" y="294480"/>
              <a:ext cx="1226520" cy="5194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961560" y="311400"/>
              <a:ext cx="1194480" cy="5025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77040" y="311400"/>
              <a:ext cx="1161360" cy="4860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94680" y="327240"/>
              <a:ext cx="1126800" cy="4701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011600" y="327240"/>
              <a:ext cx="1092240" cy="45432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029240" y="344160"/>
              <a:ext cx="1057680" cy="4374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046160" y="344160"/>
              <a:ext cx="1024560" cy="4215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062720" y="359640"/>
              <a:ext cx="990000" cy="4060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080360" y="359640"/>
              <a:ext cx="955440" cy="3891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96920" y="375480"/>
              <a:ext cx="920880" cy="37332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096920" y="375480"/>
              <a:ext cx="904320" cy="37332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114920" y="375480"/>
              <a:ext cx="868320" cy="3574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31480" y="392400"/>
              <a:ext cx="835200" cy="34092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149480" y="392400"/>
              <a:ext cx="802080" cy="3240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166040" y="408240"/>
              <a:ext cx="767520" cy="3078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181520" y="408240"/>
              <a:ext cx="735480" cy="29232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199520" y="425160"/>
              <a:ext cx="699480" cy="2754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216080" y="425160"/>
              <a:ext cx="666360" cy="2584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34080" y="441000"/>
              <a:ext cx="631800" cy="24264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250640" y="441000"/>
              <a:ext cx="597240" cy="2271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267200" y="457920"/>
              <a:ext cx="563760" cy="21024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285200" y="457920"/>
              <a:ext cx="528480" cy="1944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301760" y="473400"/>
              <a:ext cx="494640" cy="17892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319400" y="473400"/>
              <a:ext cx="460440" cy="1620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336320" y="473400"/>
              <a:ext cx="426960" cy="1620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52880" y="489240"/>
              <a:ext cx="393840" cy="1306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369440" y="489240"/>
              <a:ext cx="359640" cy="1306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86360" y="506160"/>
              <a:ext cx="325800" cy="964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404360" y="506160"/>
              <a:ext cx="291240" cy="964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420920" y="521640"/>
              <a:ext cx="256680" cy="651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437480" y="521640"/>
              <a:ext cx="223920" cy="651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455480" y="538560"/>
              <a:ext cx="187920" cy="324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472040" y="538560"/>
              <a:ext cx="154800" cy="324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489680" y="554400"/>
              <a:ext cx="118800" cy="21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506240" y="554400"/>
              <a:ext cx="85680" cy="21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472040" y="521640"/>
              <a:ext cx="136800" cy="65160"/>
            </a:xfrm>
            <a:prstGeom prst="ellipse">
              <a:avLst/>
            </a:prstGeom>
            <a:solidFill>
              <a:srgbClr val="ccd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71400" y="165240"/>
              <a:ext cx="1790640" cy="8110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22160" y="213480"/>
              <a:ext cx="1688400" cy="714240"/>
            </a:xfrm>
            <a:prstGeom prst="ellipse">
              <a:avLst/>
            </a:prstGeom>
            <a:noFill/>
            <a:ln w="76320">
              <a:solidFill>
                <a:srgbClr val="4cd3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71400" y="198000"/>
              <a:ext cx="1774080" cy="745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9240" y="562680"/>
              <a:ext cx="1601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16280" y="266760"/>
              <a:ext cx="1143360" cy="599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910" y="21563"/>
                  </a:moveTo>
                  <a:arcTo wR="10800" hR="10800" stAng="5683478" swAng="21471393"/>
                  <a:lnTo>
                    <a:pt x="10800" y="10800"/>
                  </a:lnTo>
                  <a:close/>
                </a:path>
                <a:path fill="none" w="21600" h="21600">
                  <a:moveTo>
                    <a:pt x="9910" y="21563"/>
                  </a:moveTo>
                  <a:arcTo wR="10800" hR="10800" stAng="5683478" swAng="2147139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272240" y="266760"/>
              <a:ext cx="613440" cy="599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48" y="21549"/>
                  </a:moveTo>
                  <a:arcTo wR="10800" hR="10800" stAng="5735431" swAng="21432685"/>
                  <a:lnTo>
                    <a:pt x="10800" y="10800"/>
                  </a:lnTo>
                  <a:close/>
                </a:path>
                <a:path fill="none" w="21600" h="21600">
                  <a:moveTo>
                    <a:pt x="9748" y="21549"/>
                  </a:moveTo>
                  <a:arcTo wR="10800" hR="10800" stAng="5735431" swAng="2143268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528200" y="264240"/>
              <a:ext cx="101880" cy="600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347" y="21591"/>
                  </a:moveTo>
                  <a:arcTo wR="10800" hR="10800" stAng="5544130" swAng="214558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347" y="21591"/>
                  </a:moveTo>
                  <a:arcTo wR="10800" hR="10800" stAng="5544130" swAng="2145587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184040" y="198000"/>
              <a:ext cx="768240" cy="6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108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32040" y="327240"/>
              <a:ext cx="1295280" cy="1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108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173240" y="866160"/>
              <a:ext cx="765360" cy="6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" y="10128"/>
                  </a:moveTo>
                  <a:arcTo wR="10800" hR="10800" stAng="-10586015" swAng="1015494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" y="10128"/>
                  </a:moveTo>
                  <a:arcTo wR="10800" hR="10800" stAng="-10586015" swAng="101549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28440" y="769680"/>
              <a:ext cx="1296720" cy="30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4" y="9456"/>
                  </a:moveTo>
                  <a:arcTo wR="10800" hR="10800" stAng="-10371103" swAng="10371103"/>
                  <a:lnTo>
                    <a:pt x="10800" y="10800"/>
                  </a:lnTo>
                  <a:close/>
                </a:path>
                <a:path fill="none" w="21600" h="21600">
                  <a:moveTo>
                    <a:pt x="84" y="9456"/>
                  </a:moveTo>
                  <a:arcTo wR="10800" hR="10800" stAng="-10371103" swAng="1037110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4720" y="546120"/>
              <a:ext cx="1601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016280" y="249840"/>
              <a:ext cx="1143360" cy="600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910" y="21563"/>
                  </a:moveTo>
                  <a:arcTo wR="10800" hR="10800" stAng="5683478" swAng="21471393"/>
                  <a:lnTo>
                    <a:pt x="10800" y="10800"/>
                  </a:lnTo>
                  <a:close/>
                </a:path>
                <a:path fill="none" w="21600" h="21600">
                  <a:moveTo>
                    <a:pt x="9910" y="21563"/>
                  </a:moveTo>
                  <a:arcTo wR="10800" hR="10800" stAng="5683478" swAng="21471393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289160" y="249840"/>
              <a:ext cx="614880" cy="600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48" y="21549"/>
                  </a:moveTo>
                  <a:arcTo wR="10800" hR="10800" stAng="5735431" swAng="21432685"/>
                  <a:lnTo>
                    <a:pt x="10800" y="10800"/>
                  </a:lnTo>
                  <a:close/>
                </a:path>
                <a:path fill="none" w="21600" h="21600">
                  <a:moveTo>
                    <a:pt x="9748" y="21549"/>
                  </a:moveTo>
                  <a:arcTo wR="10800" hR="10800" stAng="5735431" swAng="21432685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28200" y="248760"/>
              <a:ext cx="101880" cy="599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347" y="21591"/>
                  </a:moveTo>
                  <a:arcTo wR="10800" hR="10800" stAng="5544130" swAng="214558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347" y="21591"/>
                  </a:moveTo>
                  <a:arcTo wR="10800" hR="10800" stAng="5544130" swAng="2145587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200600" y="181080"/>
              <a:ext cx="768600" cy="6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108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932040" y="293400"/>
              <a:ext cx="1295280" cy="5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108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189800" y="850680"/>
              <a:ext cx="765360" cy="6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" y="10128"/>
                  </a:moveTo>
                  <a:arcTo wR="10800" hR="10800" stAng="-10586015" swAng="1015494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" y="10128"/>
                  </a:moveTo>
                  <a:arcTo wR="10800" hR="10800" stAng="-10586015" swAng="10154949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929880" y="736920"/>
              <a:ext cx="1295280" cy="4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7" y="9903"/>
                  </a:moveTo>
                  <a:arcTo wR="10800" hR="10800" stAng="-10514182" swAng="10514182"/>
                  <a:lnTo>
                    <a:pt x="10800" y="10800"/>
                  </a:lnTo>
                  <a:close/>
                </a:path>
                <a:path fill="none" w="21600" h="21600">
                  <a:moveTo>
                    <a:pt x="37" y="9903"/>
                  </a:moveTo>
                  <a:arcTo wR="10800" hR="10800" stAng="-10514182" swAng="10514182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96600" y="210960"/>
              <a:ext cx="1704960" cy="716760"/>
            </a:xfrm>
            <a:prstGeom prst="ellipse">
              <a:avLst/>
            </a:prstGeom>
            <a:noFill/>
            <a:ln w="25560">
              <a:solidFill>
                <a:srgbClr val="4c8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02160" y="318600"/>
              <a:ext cx="1261800" cy="4546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54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ca6ff"/>
                  </a:solidFill>
                  <a:latin typeface="Arial"/>
                </a:rPr>
                <a:t>DARP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19" name=""/>
          <p:cNvGraphicFramePr/>
          <p:nvPr/>
        </p:nvGraphicFramePr>
        <p:xfrm>
          <a:off x="6958080" y="1482840"/>
          <a:ext cx="1120680" cy="52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58080" y="1482840"/>
                    <a:ext cx="112068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dsto-logo" descr=""/>
          <p:cNvPicPr/>
          <p:nvPr/>
        </p:nvPicPr>
        <p:blipFill>
          <a:blip r:embed="rId3"/>
          <a:stretch/>
        </p:blipFill>
        <p:spPr>
          <a:xfrm>
            <a:off x="6832440" y="2417760"/>
            <a:ext cx="1371600" cy="8920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950760" y="2359080"/>
            <a:ext cx="1117800" cy="11872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6977160" y="81000"/>
            <a:ext cx="1081080" cy="1131840"/>
          </a:xfrm>
          <a:prstGeom prst="rect">
            <a:avLst/>
          </a:prstGeom>
          <a:ln w="0">
            <a:noFill/>
          </a:ln>
        </p:spPr>
      </p:pic>
      <p:pic>
        <p:nvPicPr>
          <p:cNvPr id="124" name="CoABS%20Logo%20Final" descr=""/>
          <p:cNvPicPr/>
          <p:nvPr/>
        </p:nvPicPr>
        <p:blipFill>
          <a:blip r:embed="rId6"/>
          <a:stretch/>
        </p:blipFill>
        <p:spPr>
          <a:xfrm>
            <a:off x="736560" y="968400"/>
            <a:ext cx="1427040" cy="1335240"/>
          </a:xfrm>
          <a:prstGeom prst="rect">
            <a:avLst/>
          </a:prstGeom>
          <a:ln w="0">
            <a:noFill/>
          </a:ln>
        </p:spPr>
      </p:pic>
      <p:pic>
        <p:nvPicPr>
          <p:cNvPr id="125" name="coax-logo-globe-binni-2001-377x407" descr=""/>
          <p:cNvPicPr/>
          <p:nvPr/>
        </p:nvPicPr>
        <p:blipFill>
          <a:blip r:embed="rId7"/>
          <a:stretch/>
        </p:blipFill>
        <p:spPr>
          <a:xfrm>
            <a:off x="3043080" y="200160"/>
            <a:ext cx="3027600" cy="326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Further Detail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1280" y="2787480"/>
            <a:ext cx="6648480" cy="155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aiai.ed.ac.uk/project/coax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27T12:38:12Z</dcterms:created>
  <dc:creator>CoAX Team</dc:creator>
  <dc:description/>
  <dc:language>en-US</dc:language>
  <cp:lastModifiedBy>AIAI</cp:lastModifiedBy>
  <cp:lastPrinted>2000-06-09T23:34:42Z</cp:lastPrinted>
  <dcterms:modified xsi:type="dcterms:W3CDTF">2002-08-20T10:38:27Z</dcterms:modified>
  <cp:revision>542</cp:revision>
  <dc:subject>Briefing</dc:subject>
  <dc:title>Coalition Agents eXperiment - The Coalition TIE</dc:title>
</cp:coreProperties>
</file>