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wmf" ContentType="image/x-wmf"/>
  <Override PartName="/ppt/media/image27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8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45BF0687-728B-4A13-B96D-90F4A6E1A77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jpeg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5.png"/><Relationship Id="rId20" Type="http://schemas.openxmlformats.org/officeDocument/2006/relationships/image" Target="../media/image5.png"/><Relationship Id="rId21" Type="http://schemas.openxmlformats.org/officeDocument/2006/relationships/image" Target="../media/image26.jpe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6.png"/><Relationship Id="rId33" Type="http://schemas.openxmlformats.org/officeDocument/2006/relationships/image" Target="../media/image37.wmf"/><Relationship Id="rId34" Type="http://schemas.openxmlformats.org/officeDocument/2006/relationships/image" Target="../media/image38.wmf"/><Relationship Id="rId35" Type="http://schemas.openxmlformats.org/officeDocument/2006/relationships/image" Target="../media/image39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80" y="347652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T-Austin, UWF/IH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DC, DSTL, ISX, MIT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, USC/ISI, USPA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3900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900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CoABS%20Logo%20Final" descr=""/>
          <p:cNvPicPr/>
          <p:nvPr/>
        </p:nvPicPr>
        <p:blipFill>
          <a:blip r:embed="rId5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4" name="coax-logo-globe-binni-2002" descr=""/>
          <p:cNvPicPr/>
          <p:nvPr/>
        </p:nvPicPr>
        <p:blipFill>
          <a:blip r:embed="rId6"/>
          <a:stretch/>
        </p:blipFill>
        <p:spPr>
          <a:xfrm>
            <a:off x="3068640" y="214200"/>
            <a:ext cx="3121200" cy="337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40360" y="2266920"/>
            <a:ext cx="131796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lag Str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01240" y="1800360"/>
            <a:ext cx="747900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s in Demo/Coalition (Australia, UK,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enario Nations (Arabello, Agadez, Binni, G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g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g Strip with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ax-flag-strip-with-canada" descr=""/>
          <p:cNvPicPr/>
          <p:nvPr/>
        </p:nvPicPr>
        <p:blipFill>
          <a:blip r:embed="rId1"/>
          <a:stretch/>
        </p:blipFill>
        <p:spPr>
          <a:xfrm>
            <a:off x="1346040" y="4811760"/>
            <a:ext cx="7223400" cy="1006560"/>
          </a:xfrm>
          <a:prstGeom prst="rect">
            <a:avLst/>
          </a:prstGeom>
          <a:ln w="0">
            <a:noFill/>
          </a:ln>
        </p:spPr>
      </p:pic>
      <p:pic>
        <p:nvPicPr>
          <p:cNvPr id="129" name="coax-flag-strip-without-canada" descr=""/>
          <p:cNvPicPr/>
          <p:nvPr/>
        </p:nvPicPr>
        <p:blipFill>
          <a:blip r:embed="rId2"/>
          <a:stretch/>
        </p:blipFill>
        <p:spPr>
          <a:xfrm>
            <a:off x="1346040" y="3483000"/>
            <a:ext cx="642312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rther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1280" y="2787480"/>
            <a:ext cx="6648480" cy="15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135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214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215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220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26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233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234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237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241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242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/>
  <dc:language>en-US</dc:language>
  <cp:lastModifiedBy>AIAI</cp:lastModifiedBy>
  <cp:lastPrinted>2000-06-09T23:34:42Z</cp:lastPrinted>
  <dcterms:modified xsi:type="dcterms:W3CDTF">2002-08-20T10:37:50Z</dcterms:modified>
  <cp:revision>550</cp:revision>
  <dc:subject>Briefing</dc:subject>
  <dc:title>Coalition Agents eXperiment - The Coalition TIE</dc:title>
</cp:coreProperties>
</file>