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1202EE0B-2D7E-45BF-A44D-FE276588311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coax-logo-globe-binni-noyear-377x407" descr=""/>
          <p:cNvPicPr/>
          <p:nvPr/>
        </p:nvPicPr>
        <p:blipFill>
          <a:blip r:embed="rId3"/>
          <a:stretch/>
        </p:blipFill>
        <p:spPr>
          <a:xfrm>
            <a:off x="210960" y="176040"/>
            <a:ext cx="1292400" cy="139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SC/ISI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EV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2316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316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CoABS%20Logo%20Final" descr=""/>
          <p:cNvPicPr/>
          <p:nvPr/>
        </p:nvPicPr>
        <p:blipFill>
          <a:blip r:embed="rId5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4" name="coax-logo-globe-binni-noyear-377x407" descr=""/>
          <p:cNvPicPr/>
          <p:nvPr/>
        </p:nvPicPr>
        <p:blipFill>
          <a:blip r:embed="rId6"/>
          <a:stretch/>
        </p:blipFill>
        <p:spPr>
          <a:xfrm>
            <a:off x="3133800" y="204840"/>
            <a:ext cx="3016080" cy="325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24520" y="2266920"/>
            <a:ext cx="13176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8:47Z</dcterms:modified>
  <cp:revision>543</cp:revision>
  <dc:subject>Briefing</dc:subject>
  <dc:title>Coalition Agents eXperiment - The Coalition TIE</dc:title>
</cp:coreProperties>
</file>