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5C6-148B-42CE-ADF1-89E175E9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B65-B9AD-49F0-8264-5CDBEA20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04A-3399-4A4D-B9F5-58733B59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C48-260D-4E00-B02E-C57EF2D4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EDA-78A8-4A1C-AECE-435AE3DC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C5D-6959-4A36-AE72-E167FC87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DC1-EE36-4C75-B510-BCB66F3D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243-4720-4580-A383-C76CE681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8487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1B4-7A27-4571-972C-F9B9877F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1C9-2795-4C32-91DE-C32F64C4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FDD-68C8-4FC4-9F85-085A6FAF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2CA-E689-4F60-B402-A68E96AE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15A3-2F4A-4282-8422-FC062BBBD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inni Fla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Flag Designs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ny Rathmell, DSTL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www.flags.com for more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8-Mar-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inni Vexill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01560" y="36576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4840" y="609480"/>
            <a:ext cx="5402880" cy="459720"/>
            <a:chOff x="384840" y="609480"/>
            <a:chExt cx="5402880" cy="459720"/>
          </a:xfrm>
        </p:grpSpPr>
        <p:sp>
          <p:nvSpPr>
            <p:cNvPr id="46" name=""/>
            <p:cNvSpPr/>
            <p:nvPr/>
          </p:nvSpPr>
          <p:spPr>
            <a:xfrm>
              <a:off x="384840" y="60948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n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31000" y="6094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60440" y="36576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3520" y="2911320"/>
            <a:ext cx="372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the hopes of the Binni Founding F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Sun will rise and set in a cloudless sky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ush and prosperous landsc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00040" y="2911320"/>
            <a:ext cx="37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s the anguish of the history of Gao with 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ng between poverty and plenty divided by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son stained path of tribal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920" y="5994360"/>
            <a:ext cx="412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the union of Mountain (blue), Upland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owland (brown) peoples of Agadez each mai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independence yet united against all op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7120" y="5994360"/>
            <a:ext cx="338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the five fiefdoms of Arabello un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a sultan of wealth and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1066680"/>
            <a:ext cx="2895480" cy="1600200"/>
            <a:chOff x="457200" y="1066680"/>
            <a:chExt cx="2895480" cy="1600200"/>
          </a:xfrm>
        </p:grpSpPr>
        <p:grpSp>
          <p:nvGrpSpPr>
            <p:cNvPr id="54" name=""/>
            <p:cNvGrpSpPr/>
            <p:nvPr/>
          </p:nvGrpSpPr>
          <p:grpSpPr>
            <a:xfrm>
              <a:off x="457200" y="1066680"/>
              <a:ext cx="2895480" cy="1600200"/>
              <a:chOff x="457200" y="1066680"/>
              <a:chExt cx="2895480" cy="1600200"/>
            </a:xfrm>
          </p:grpSpPr>
          <p:sp>
            <p:nvSpPr>
              <p:cNvPr id="55" name=""/>
              <p:cNvSpPr/>
              <p:nvPr/>
            </p:nvSpPr>
            <p:spPr>
              <a:xfrm>
                <a:off x="457200" y="1066680"/>
                <a:ext cx="2895480" cy="7621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1066680"/>
                <a:ext cx="2895480" cy="1600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47920" y="1390680"/>
                <a:ext cx="914400" cy="8380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1828800"/>
                <a:ext cx="2895480" cy="8380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457200" y="1066680"/>
              <a:ext cx="2895480" cy="160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062680" y="1066680"/>
            <a:ext cx="2895480" cy="1600200"/>
            <a:chOff x="5062680" y="1066680"/>
            <a:chExt cx="2895480" cy="1600200"/>
          </a:xfrm>
        </p:grpSpPr>
        <p:grpSp>
          <p:nvGrpSpPr>
            <p:cNvPr id="61" name=""/>
            <p:cNvGrpSpPr/>
            <p:nvPr/>
          </p:nvGrpSpPr>
          <p:grpSpPr>
            <a:xfrm>
              <a:off x="5062680" y="1066680"/>
              <a:ext cx="2895480" cy="1600200"/>
              <a:chOff x="5062680" y="1066680"/>
              <a:chExt cx="2895480" cy="1600200"/>
            </a:xfrm>
          </p:grpSpPr>
          <p:sp>
            <p:nvSpPr>
              <p:cNvPr id="62" name=""/>
              <p:cNvSpPr/>
              <p:nvPr/>
            </p:nvSpPr>
            <p:spPr>
              <a:xfrm>
                <a:off x="5062680" y="1066680"/>
                <a:ext cx="2895480" cy="1600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62680" y="1066680"/>
                <a:ext cx="2895480" cy="7621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062680" y="1828800"/>
                <a:ext cx="2895480" cy="8380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062680" y="1776240"/>
                <a:ext cx="2895480" cy="152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62680" y="1776240"/>
                <a:ext cx="289548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062680" y="1928520"/>
                <a:ext cx="289548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5062680" y="1066680"/>
              <a:ext cx="2895480" cy="160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55760" y="4114800"/>
            <a:ext cx="2898360" cy="1620720"/>
            <a:chOff x="455760" y="4114800"/>
            <a:chExt cx="2898360" cy="1620720"/>
          </a:xfrm>
        </p:grpSpPr>
        <p:grpSp>
          <p:nvGrpSpPr>
            <p:cNvPr id="70" name=""/>
            <p:cNvGrpSpPr/>
            <p:nvPr/>
          </p:nvGrpSpPr>
          <p:grpSpPr>
            <a:xfrm>
              <a:off x="456840" y="4114800"/>
              <a:ext cx="2897280" cy="1620720"/>
              <a:chOff x="456840" y="4114800"/>
              <a:chExt cx="2897280" cy="1620720"/>
            </a:xfrm>
          </p:grpSpPr>
          <p:sp>
            <p:nvSpPr>
              <p:cNvPr id="71" name=""/>
              <p:cNvSpPr/>
              <p:nvPr/>
            </p:nvSpPr>
            <p:spPr>
              <a:xfrm>
                <a:off x="458640" y="4135320"/>
                <a:ext cx="289548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5400000">
                <a:off x="408960" y="4162320"/>
                <a:ext cx="1620720" cy="1525320"/>
              </a:xfrm>
              <a:prstGeom prst="triangle">
                <a:avLst>
                  <a:gd name="adj" fmla="val 50000"/>
                </a:avLst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8640" y="4135320"/>
                <a:ext cx="2895480" cy="781200"/>
              </a:xfrm>
              <a:custGeom>
                <a:avLst/>
                <a:gdLst/>
                <a:ahLst/>
                <a:rect l="l" t="t" r="r" b="b"/>
                <a:pathLst>
                  <a:path w="1824" h="492">
                    <a:moveTo>
                      <a:pt x="0" y="0"/>
                    </a:moveTo>
                    <a:lnTo>
                      <a:pt x="960" y="492"/>
                    </a:lnTo>
                    <a:lnTo>
                      <a:pt x="1824" y="492"/>
                    </a:lnTo>
                    <a:lnTo>
                      <a:pt x="18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58640" y="4916520"/>
                <a:ext cx="2895480" cy="819000"/>
              </a:xfrm>
              <a:custGeom>
                <a:avLst/>
                <a:gdLst/>
                <a:ahLst/>
                <a:rect l="l" t="t" r="r" b="b"/>
                <a:pathLst>
                  <a:path w="1824" h="516">
                    <a:moveTo>
                      <a:pt x="0" y="516"/>
                    </a:moveTo>
                    <a:lnTo>
                      <a:pt x="960" y="0"/>
                    </a:lnTo>
                    <a:lnTo>
                      <a:pt x="1824" y="0"/>
                    </a:lnTo>
                    <a:lnTo>
                      <a:pt x="1824" y="516"/>
                    </a:lnTo>
                    <a:lnTo>
                      <a:pt x="0" y="516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7200" y="4135320"/>
                <a:ext cx="1525320" cy="78120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57200" y="5735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57200" y="4916160"/>
                <a:ext cx="1525320" cy="81900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82520" y="4916520"/>
                <a:ext cx="137160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55760" y="4135320"/>
              <a:ext cx="2896920" cy="160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105520" y="4114800"/>
            <a:ext cx="2895480" cy="1620720"/>
            <a:chOff x="5105520" y="4114800"/>
            <a:chExt cx="2895480" cy="1620720"/>
          </a:xfrm>
        </p:grpSpPr>
        <p:sp>
          <p:nvSpPr>
            <p:cNvPr id="81" name=""/>
            <p:cNvSpPr/>
            <p:nvPr/>
          </p:nvSpPr>
          <p:spPr>
            <a:xfrm>
              <a:off x="5105520" y="4114800"/>
              <a:ext cx="2895480" cy="1600200"/>
            </a:xfrm>
            <a:prstGeom prst="rect">
              <a:avLst/>
            </a:prstGeom>
            <a:solidFill>
              <a:srgbClr val="9933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520" y="4114800"/>
              <a:ext cx="28954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 rot="1545600">
              <a:off x="5473080" y="4372920"/>
              <a:ext cx="431640" cy="85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53" y="1920"/>
                    <a:pt x="10705" y="5080"/>
                    <a:pt x="10705" y="10800"/>
                  </a:cubicBezTo>
                  <a:cubicBezTo>
                    <a:pt x="10705" y="16520"/>
                    <a:pt x="16153" y="1968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05440" y="4224240"/>
              <a:ext cx="217800" cy="2160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37200" y="4483080"/>
              <a:ext cx="217800" cy="2156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23160" y="4773600"/>
              <a:ext cx="217440" cy="2156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77000" y="5032080"/>
              <a:ext cx="217440" cy="2160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27880" y="5121000"/>
              <a:ext cx="217440" cy="2160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05520" y="4114800"/>
              <a:ext cx="2895480" cy="1620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zations and Coalition Count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02280" y="373392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5200" y="68580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32440" y="685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9720" y="3733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7640" y="2971800"/>
            <a:ext cx="23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the World at Pe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2968560"/>
            <a:ext cx="36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British ensign in the left hand corner is surrounded by five stars that form the Southern Cross and a sixth to represent the Commonwealth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7280" y="6051600"/>
            <a:ext cx="228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nd Stripes. Detail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71960" y="6051600"/>
            <a:ext cx="388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Union flag, also called the Union Jack, is a combination of the crosses of the patron saints of England, Scotland and Ire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flag-australia" descr=""/>
          <p:cNvPicPr/>
          <p:nvPr/>
        </p:nvPicPr>
        <p:blipFill>
          <a:blip r:embed="rId1"/>
          <a:stretch/>
        </p:blipFill>
        <p:spPr>
          <a:xfrm>
            <a:off x="5121360" y="1143000"/>
            <a:ext cx="320040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uklg" descr=""/>
          <p:cNvPicPr/>
          <p:nvPr/>
        </p:nvPicPr>
        <p:blipFill>
          <a:blip r:embed="rId2"/>
          <a:stretch/>
        </p:blipFill>
        <p:spPr>
          <a:xfrm>
            <a:off x="5121360" y="4191120"/>
            <a:ext cx="3200400" cy="1596960"/>
          </a:xfrm>
          <a:prstGeom prst="rect">
            <a:avLst/>
          </a:prstGeom>
          <a:ln w="0">
            <a:noFill/>
          </a:ln>
        </p:spPr>
      </p:pic>
      <p:pic>
        <p:nvPicPr>
          <p:cNvPr id="101" name="unitednationslg" descr=""/>
          <p:cNvPicPr/>
          <p:nvPr/>
        </p:nvPicPr>
        <p:blipFill>
          <a:blip r:embed="rId3"/>
          <a:stretch/>
        </p:blipFill>
        <p:spPr>
          <a:xfrm>
            <a:off x="473040" y="1143000"/>
            <a:ext cx="2514600" cy="1677960"/>
          </a:xfrm>
          <a:prstGeom prst="rect">
            <a:avLst/>
          </a:prstGeom>
          <a:ln w="0">
            <a:noFill/>
          </a:ln>
        </p:spPr>
      </p:pic>
      <p:pic>
        <p:nvPicPr>
          <p:cNvPr id="102" name="unitedstateslg" descr=""/>
          <p:cNvPicPr/>
          <p:nvPr/>
        </p:nvPicPr>
        <p:blipFill>
          <a:blip r:embed="rId4"/>
          <a:stretch/>
        </p:blipFill>
        <p:spPr>
          <a:xfrm>
            <a:off x="473040" y="4191120"/>
            <a:ext cx="327672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ther TTCP N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1160" y="7621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048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maple leaf is the symbol of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anadalg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352680" cy="1676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77040" y="76212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304812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British ensign is accompanied by the four main stars of the Southern Cross constel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newzeallg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33559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8:41:46Z</dcterms:created>
  <dc:creator>CoAX Team</dc:creator>
  <dc:description/>
  <dc:language>en-US</dc:language>
  <cp:lastModifiedBy>AIAI</cp:lastModifiedBy>
  <dcterms:modified xsi:type="dcterms:W3CDTF">2002-03-28T08:36:29Z</dcterms:modified>
  <cp:revision>16</cp:revision>
  <dc:subject>CoAX Briefing</dc:subject>
  <dc:title>CoAX Briefing</dc:title>
</cp:coreProperties>
</file>